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73F-51E0-4E94-B617-86DF23D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BFB-2F4A-4D85-9F2A-570024D1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DB5-6B2E-4CE3-8612-602AE0DC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AD9-7632-4EE7-BCBB-A9597A19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2BAD-7B2B-4EC3-823E-8E6E41DA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8711-AC95-4B5B-99A3-942AA890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ACA1-C07F-4317-888E-88EF0066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4CE9-0ECE-4E6C-AD20-2F9F0537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B7E0-4AEE-465F-B7ED-956DFC50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3DBB-DF6E-49F9-AF70-C8DDF40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B0E4-1817-4763-A558-ADFD66C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337-E679-4065-AAAF-C8531F55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C4C-16CC-46A0-B32E-C6BC10D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9082-B87B-4F81-939C-7218ED39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5ED3-7F8B-4F1A-980A-9F8C423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1FB-3477-43BF-9A0D-70208CCB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0A0F-D71C-4A66-850F-16F725E8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5C4-46D8-47E5-BA72-C3FE5282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E5C-08B5-4BC9-ACFC-B6B5E107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32C-DE12-48C9-90FC-96DF20E5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4A2-20A0-4354-A217-7B5313FB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A91-1223-49DF-98BB-DA150FC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D70-EB2E-4FD8-A91F-FEAEA33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8D3-5CA6-408A-BA46-1D3DB80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8AB1-B815-4089-90CD-AB0D888F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CD6-5AAF-431E-B40B-E2FD9E530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9ddcd"/>
                </a:solidFill>
                <a:latin typeface="Arial"/>
              </a:rPr>
              <a:t>Monday, September 28th</a:t>
            </a:r>
            <a:endParaRPr b="0" lang="en-US" sz="51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f the csc </a:t>
            </a:r>
            <a:r>
              <a:rPr b="0" lang="el-GR" sz="3600" spc="-1" strike="noStrike">
                <a:solidFill>
                  <a:srgbClr val="ffffff"/>
                </a:solidFill>
                <a:latin typeface="Verdana"/>
              </a:rPr>
              <a:t>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of a right triangle is 3, then find the values of the other five trig func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Ink 4"/>
          <p:cNvSpPr/>
          <p:nvPr/>
        </p:nvSpPr>
        <p:spPr>
          <a:xfrm>
            <a:off x="1303200" y="4010040"/>
            <a:ext cx="1598760" cy="1204920"/>
          </a:xfrm>
          <a:custGeom>
            <a:avLst/>
            <a:gdLst/>
            <a:ahLst/>
            <a:rect l="l" t="t" r="r" b="b"/>
            <a:pathLst>
              <a:path w="4442" h="3350">
                <a:moveTo>
                  <a:pt x="4018" y="11311"/>
                </a:moveTo>
                <a:cubicBezTo>
                  <a:pt x="4062" y="11333"/>
                  <a:pt x="4074" y="11336"/>
                  <a:pt x="4093" y="11361"/>
                </a:cubicBezTo>
                <a:cubicBezTo>
                  <a:pt x="4084" y="11290"/>
                  <a:pt x="4067" y="11242"/>
                  <a:pt x="4018" y="11187"/>
                </a:cubicBezTo>
                <a:cubicBezTo>
                  <a:pt x="3957" y="11118"/>
                  <a:pt x="3868" y="11117"/>
                  <a:pt x="3795" y="11162"/>
                </a:cubicBezTo>
                <a:cubicBezTo>
                  <a:pt x="3736" y="11199"/>
                  <a:pt x="3681" y="11226"/>
                  <a:pt x="3646" y="11286"/>
                </a:cubicBezTo>
                <a:cubicBezTo>
                  <a:pt x="3594" y="11374"/>
                  <a:pt x="3633" y="11419"/>
                  <a:pt x="3696" y="11485"/>
                </a:cubicBezTo>
                <a:cubicBezTo>
                  <a:pt x="3837" y="11633"/>
                  <a:pt x="4036" y="11709"/>
                  <a:pt x="4167" y="11857"/>
                </a:cubicBezTo>
                <a:cubicBezTo>
                  <a:pt x="4237" y="11936"/>
                  <a:pt x="4307" y="12031"/>
                  <a:pt x="4316" y="12129"/>
                </a:cubicBezTo>
                <a:cubicBezTo>
                  <a:pt x="4326" y="12232"/>
                  <a:pt x="4243" y="12204"/>
                  <a:pt x="4167" y="12204"/>
                </a:cubicBezTo>
                <a:cubicBezTo>
                  <a:pt x="4076" y="12204"/>
                  <a:pt x="4002" y="12160"/>
                  <a:pt x="3919" y="12129"/>
                </a:cubicBezTo>
                <a:cubicBezTo>
                  <a:pt x="3842" y="12100"/>
                  <a:pt x="3766" y="12052"/>
                  <a:pt x="3696" y="12005"/>
                </a:cubicBezTo>
                <a:cubicBezTo>
                  <a:pt x="3658" y="11979"/>
                  <a:pt x="3640" y="11933"/>
                  <a:pt x="3621" y="11906"/>
                </a:cubicBezTo>
              </a:path>
              <a:path w="4442" h="3350">
                <a:moveTo>
                  <a:pt x="4589" y="11906"/>
                </a:moveTo>
                <a:cubicBezTo>
                  <a:pt x="4591" y="11918"/>
                  <a:pt x="4634" y="12303"/>
                  <a:pt x="4638" y="12303"/>
                </a:cubicBezTo>
                <a:cubicBezTo>
                  <a:pt x="4662" y="12255"/>
                  <a:pt x="4671" y="12241"/>
                  <a:pt x="4663" y="12204"/>
                </a:cubicBezTo>
              </a:path>
              <a:path w="4442" h="3350">
                <a:moveTo>
                  <a:pt x="4936" y="12154"/>
                </a:moveTo>
                <a:cubicBezTo>
                  <a:pt x="4936" y="12232"/>
                  <a:pt x="4920" y="12250"/>
                  <a:pt x="4961" y="12278"/>
                </a:cubicBezTo>
                <a:cubicBezTo>
                  <a:pt x="4992" y="12166"/>
                  <a:pt x="5015" y="12068"/>
                  <a:pt x="5060" y="11956"/>
                </a:cubicBezTo>
                <a:cubicBezTo>
                  <a:pt x="5082" y="11900"/>
                  <a:pt x="5150" y="11800"/>
                  <a:pt x="5209" y="11782"/>
                </a:cubicBezTo>
                <a:cubicBezTo>
                  <a:pt x="5282" y="11761"/>
                  <a:pt x="5362" y="11838"/>
                  <a:pt x="5407" y="11881"/>
                </a:cubicBezTo>
                <a:cubicBezTo>
                  <a:pt x="5486" y="11955"/>
                  <a:pt x="5510" y="12057"/>
                  <a:pt x="5556" y="12154"/>
                </a:cubicBezTo>
                <a:cubicBezTo>
                  <a:pt x="5593" y="12231"/>
                  <a:pt x="5626" y="12273"/>
                  <a:pt x="5655" y="12353"/>
                </a:cubicBezTo>
              </a:path>
              <a:path w="4442" h="3350">
                <a:moveTo>
                  <a:pt x="4390" y="13320"/>
                </a:moveTo>
                <a:cubicBezTo>
                  <a:pt x="4390" y="13421"/>
                  <a:pt x="4370" y="13476"/>
                  <a:pt x="4366" y="13568"/>
                </a:cubicBezTo>
                <a:cubicBezTo>
                  <a:pt x="4361" y="13666"/>
                  <a:pt x="4361" y="13542"/>
                  <a:pt x="4316" y="13494"/>
                </a:cubicBezTo>
                <a:cubicBezTo>
                  <a:pt x="4235" y="13407"/>
                  <a:pt x="4144" y="13354"/>
                  <a:pt x="4068" y="13469"/>
                </a:cubicBezTo>
                <a:cubicBezTo>
                  <a:pt x="4015" y="13549"/>
                  <a:pt x="3982" y="13673"/>
                  <a:pt x="3994" y="13767"/>
                </a:cubicBezTo>
                <a:cubicBezTo>
                  <a:pt x="4010" y="13892"/>
                  <a:pt x="4078" y="14002"/>
                  <a:pt x="4118" y="14114"/>
                </a:cubicBezTo>
                <a:cubicBezTo>
                  <a:pt x="4157" y="14221"/>
                  <a:pt x="4208" y="14405"/>
                  <a:pt x="4341" y="14436"/>
                </a:cubicBezTo>
                <a:cubicBezTo>
                  <a:pt x="4460" y="14464"/>
                  <a:pt x="4526" y="14402"/>
                  <a:pt x="4589" y="14312"/>
                </a:cubicBezTo>
                <a:cubicBezTo>
                  <a:pt x="4652" y="14222"/>
                  <a:pt x="4696" y="14144"/>
                  <a:pt x="4713" y="14039"/>
                </a:cubicBezTo>
                <a:cubicBezTo>
                  <a:pt x="4721" y="13987"/>
                  <a:pt x="4731" y="13944"/>
                  <a:pt x="4738" y="13891"/>
                </a:cubicBezTo>
                <a:cubicBezTo>
                  <a:pt x="4691" y="13973"/>
                  <a:pt x="4672" y="14090"/>
                  <a:pt x="4663" y="14188"/>
                </a:cubicBezTo>
                <a:cubicBezTo>
                  <a:pt x="4655" y="14276"/>
                  <a:pt x="4698" y="14340"/>
                  <a:pt x="4738" y="14412"/>
                </a:cubicBezTo>
                <a:cubicBezTo>
                  <a:pt x="4761" y="14453"/>
                  <a:pt x="4856" y="14504"/>
                  <a:pt x="4911" y="14486"/>
                </a:cubicBezTo>
                <a:cubicBezTo>
                  <a:pt x="4966" y="14467"/>
                  <a:pt x="4993" y="14378"/>
                  <a:pt x="5011" y="14337"/>
                </a:cubicBezTo>
                <a:cubicBezTo>
                  <a:pt x="5062" y="14222"/>
                  <a:pt x="5013" y="14146"/>
                  <a:pt x="4961" y="14039"/>
                </a:cubicBezTo>
                <a:cubicBezTo>
                  <a:pt x="4920" y="13953"/>
                  <a:pt x="4897" y="13933"/>
                  <a:pt x="4812" y="13891"/>
                </a:cubicBezTo>
                <a:cubicBezTo>
                  <a:pt x="4742" y="13857"/>
                  <a:pt x="4742" y="13884"/>
                  <a:pt x="4713" y="13891"/>
                </a:cubicBezTo>
              </a:path>
              <a:path w="4442" h="3350">
                <a:moveTo>
                  <a:pt x="6152" y="11782"/>
                </a:moveTo>
                <a:cubicBezTo>
                  <a:pt x="6204" y="11814"/>
                  <a:pt x="6257" y="11817"/>
                  <a:pt x="6325" y="11832"/>
                </a:cubicBezTo>
              </a:path>
              <a:path w="4442" h="3350">
                <a:moveTo>
                  <a:pt x="6176" y="12080"/>
                </a:moveTo>
                <a:cubicBezTo>
                  <a:pt x="6245" y="12070"/>
                  <a:pt x="6297" y="12055"/>
                  <a:pt x="6375" y="12055"/>
                </a:cubicBezTo>
                <a:cubicBezTo>
                  <a:pt x="6383" y="12055"/>
                  <a:pt x="6392" y="12055"/>
                  <a:pt x="6400" y="12055"/>
                </a:cubicBezTo>
              </a:path>
              <a:path w="4442" h="3350">
                <a:moveTo>
                  <a:pt x="6796" y="11857"/>
                </a:moveTo>
                <a:cubicBezTo>
                  <a:pt x="6851" y="11813"/>
                  <a:pt x="6883" y="11799"/>
                  <a:pt x="6945" y="11782"/>
                </a:cubicBezTo>
                <a:cubicBezTo>
                  <a:pt x="7028" y="11759"/>
                  <a:pt x="7135" y="11719"/>
                  <a:pt x="7218" y="11708"/>
                </a:cubicBezTo>
                <a:cubicBezTo>
                  <a:pt x="7315" y="11695"/>
                  <a:pt x="7421" y="11684"/>
                  <a:pt x="7516" y="11658"/>
                </a:cubicBezTo>
                <a:cubicBezTo>
                  <a:pt x="7562" y="11645"/>
                  <a:pt x="7641" y="11594"/>
                  <a:pt x="7689" y="11609"/>
                </a:cubicBezTo>
                <a:cubicBezTo>
                  <a:pt x="7697" y="11617"/>
                  <a:pt x="7706" y="11625"/>
                  <a:pt x="7714" y="11633"/>
                </a:cubicBezTo>
              </a:path>
              <a:path w="4442" h="3350">
                <a:moveTo>
                  <a:pt x="7243" y="11956"/>
                </a:moveTo>
                <a:cubicBezTo>
                  <a:pt x="7226" y="11972"/>
                  <a:pt x="7210" y="11989"/>
                  <a:pt x="7193" y="12005"/>
                </a:cubicBezTo>
                <a:cubicBezTo>
                  <a:pt x="7254" y="11997"/>
                  <a:pt x="7312" y="11969"/>
                  <a:pt x="7367" y="11931"/>
                </a:cubicBezTo>
                <a:cubicBezTo>
                  <a:pt x="7406" y="11904"/>
                  <a:pt x="7490" y="11868"/>
                  <a:pt x="7541" y="11857"/>
                </a:cubicBezTo>
                <a:cubicBezTo>
                  <a:pt x="7592" y="11857"/>
                  <a:pt x="7610" y="11858"/>
                  <a:pt x="7640" y="11881"/>
                </a:cubicBezTo>
                <a:cubicBezTo>
                  <a:pt x="7611" y="11938"/>
                  <a:pt x="7581" y="12006"/>
                  <a:pt x="7541" y="12055"/>
                </a:cubicBezTo>
                <a:cubicBezTo>
                  <a:pt x="7490" y="12118"/>
                  <a:pt x="7424" y="12152"/>
                  <a:pt x="7367" y="12204"/>
                </a:cubicBezTo>
                <a:cubicBezTo>
                  <a:pt x="7349" y="12220"/>
                  <a:pt x="7247" y="12295"/>
                  <a:pt x="7317" y="12254"/>
                </a:cubicBezTo>
                <a:cubicBezTo>
                  <a:pt x="7369" y="12224"/>
                  <a:pt x="7452" y="12171"/>
                  <a:pt x="7516" y="12179"/>
                </a:cubicBezTo>
                <a:cubicBezTo>
                  <a:pt x="7544" y="12182"/>
                  <a:pt x="7679" y="12267"/>
                  <a:pt x="7689" y="12303"/>
                </a:cubicBezTo>
                <a:cubicBezTo>
                  <a:pt x="7700" y="12342"/>
                  <a:pt x="7644" y="12450"/>
                  <a:pt x="7615" y="12477"/>
                </a:cubicBezTo>
                <a:cubicBezTo>
                  <a:pt x="7561" y="12527"/>
                  <a:pt x="7485" y="12567"/>
                  <a:pt x="7417" y="12601"/>
                </a:cubicBezTo>
                <a:cubicBezTo>
                  <a:pt x="7351" y="12634"/>
                  <a:pt x="7320" y="12671"/>
                  <a:pt x="7243" y="12675"/>
                </a:cubicBezTo>
                <a:cubicBezTo>
                  <a:pt x="7157" y="12680"/>
                  <a:pt x="7158" y="12695"/>
                  <a:pt x="7069" y="12650"/>
                </a:cubicBezTo>
              </a:path>
              <a:path w="4442" h="3350">
                <a:moveTo>
                  <a:pt x="6772" y="13246"/>
                </a:moveTo>
                <a:cubicBezTo>
                  <a:pt x="6772" y="13297"/>
                  <a:pt x="6771" y="13316"/>
                  <a:pt x="6747" y="13345"/>
                </a:cubicBezTo>
                <a:cubicBezTo>
                  <a:pt x="6685" y="13376"/>
                  <a:pt x="6756" y="13286"/>
                  <a:pt x="6772" y="13246"/>
                </a:cubicBezTo>
                <a:cubicBezTo>
                  <a:pt x="6797" y="13183"/>
                  <a:pt x="6809" y="13112"/>
                  <a:pt x="6871" y="13072"/>
                </a:cubicBezTo>
                <a:cubicBezTo>
                  <a:pt x="6917" y="13042"/>
                  <a:pt x="7002" y="13059"/>
                  <a:pt x="7020" y="13122"/>
                </a:cubicBezTo>
                <a:cubicBezTo>
                  <a:pt x="7045" y="13208"/>
                  <a:pt x="7030" y="13367"/>
                  <a:pt x="6995" y="13444"/>
                </a:cubicBezTo>
                <a:cubicBezTo>
                  <a:pt x="6965" y="13511"/>
                  <a:pt x="6956" y="13591"/>
                  <a:pt x="6896" y="13643"/>
                </a:cubicBezTo>
                <a:cubicBezTo>
                  <a:pt x="6860" y="13674"/>
                  <a:pt x="6776" y="13760"/>
                  <a:pt x="6722" y="13742"/>
                </a:cubicBezTo>
                <a:cubicBezTo>
                  <a:pt x="6652" y="13719"/>
                  <a:pt x="6627" y="13661"/>
                  <a:pt x="6623" y="13593"/>
                </a:cubicBezTo>
                <a:cubicBezTo>
                  <a:pt x="6619" y="13527"/>
                  <a:pt x="6613" y="13459"/>
                  <a:pt x="6697" y="13444"/>
                </a:cubicBezTo>
                <a:cubicBezTo>
                  <a:pt x="6787" y="13427"/>
                  <a:pt x="6829" y="13485"/>
                  <a:pt x="6846" y="13568"/>
                </a:cubicBezTo>
                <a:cubicBezTo>
                  <a:pt x="6862" y="13646"/>
                  <a:pt x="6801" y="13720"/>
                  <a:pt x="6821" y="13791"/>
                </a:cubicBezTo>
                <a:cubicBezTo>
                  <a:pt x="6851" y="13821"/>
                  <a:pt x="6865" y="13826"/>
                  <a:pt x="6896" y="13791"/>
                </a:cubicBezTo>
              </a:path>
              <a:path w="4442" h="3350">
                <a:moveTo>
                  <a:pt x="7218" y="13196"/>
                </a:moveTo>
                <a:cubicBezTo>
                  <a:pt x="7233" y="13295"/>
                  <a:pt x="7263" y="13398"/>
                  <a:pt x="7268" y="13494"/>
                </a:cubicBezTo>
                <a:cubicBezTo>
                  <a:pt x="7272" y="13563"/>
                  <a:pt x="7259" y="13611"/>
                  <a:pt x="7293" y="13667"/>
                </a:cubicBezTo>
                <a:cubicBezTo>
                  <a:pt x="7301" y="13597"/>
                  <a:pt x="7317" y="13542"/>
                  <a:pt x="7317" y="13469"/>
                </a:cubicBezTo>
                <a:cubicBezTo>
                  <a:pt x="7317" y="13389"/>
                  <a:pt x="7335" y="13318"/>
                  <a:pt x="7342" y="13246"/>
                </a:cubicBezTo>
                <a:cubicBezTo>
                  <a:pt x="7354" y="13116"/>
                  <a:pt x="7345" y="13047"/>
                  <a:pt x="7392" y="12923"/>
                </a:cubicBezTo>
                <a:cubicBezTo>
                  <a:pt x="7416" y="12861"/>
                  <a:pt x="7470" y="12819"/>
                  <a:pt x="7516" y="12774"/>
                </a:cubicBezTo>
                <a:cubicBezTo>
                  <a:pt x="7566" y="12725"/>
                  <a:pt x="7650" y="12708"/>
                  <a:pt x="7714" y="12700"/>
                </a:cubicBezTo>
                <a:cubicBezTo>
                  <a:pt x="7825" y="12686"/>
                  <a:pt x="7930" y="12696"/>
                  <a:pt x="8037" y="12675"/>
                </a:cubicBezTo>
                <a:cubicBezTo>
                  <a:pt x="8045" y="12675"/>
                  <a:pt x="8054" y="12675"/>
                  <a:pt x="8062" y="12675"/>
                </a:cubicBezTo>
              </a:path>
              <a:path w="4442" h="3350">
                <a:moveTo>
                  <a:pt x="7665" y="13047"/>
                </a:moveTo>
                <a:cubicBezTo>
                  <a:pt x="7600" y="12982"/>
                  <a:pt x="7640" y="12980"/>
                  <a:pt x="7689" y="12898"/>
                </a:cubicBezTo>
                <a:cubicBezTo>
                  <a:pt x="7718" y="12850"/>
                  <a:pt x="7743" y="12782"/>
                  <a:pt x="7813" y="12799"/>
                </a:cubicBezTo>
                <a:cubicBezTo>
                  <a:pt x="7888" y="12817"/>
                  <a:pt x="7927" y="12905"/>
                  <a:pt x="7938" y="12973"/>
                </a:cubicBezTo>
                <a:cubicBezTo>
                  <a:pt x="7952" y="13060"/>
                  <a:pt x="7931" y="13138"/>
                  <a:pt x="7913" y="13221"/>
                </a:cubicBezTo>
                <a:cubicBezTo>
                  <a:pt x="7883" y="13355"/>
                  <a:pt x="7860" y="13400"/>
                  <a:pt x="7789" y="13494"/>
                </a:cubicBezTo>
                <a:cubicBezTo>
                  <a:pt x="7750" y="13546"/>
                  <a:pt x="7744" y="13593"/>
                  <a:pt x="7714" y="13643"/>
                </a:cubicBezTo>
                <a:cubicBezTo>
                  <a:pt x="7633" y="13633"/>
                  <a:pt x="7595" y="13630"/>
                  <a:pt x="7590" y="13543"/>
                </a:cubicBezTo>
                <a:cubicBezTo>
                  <a:pt x="7586" y="13479"/>
                  <a:pt x="7642" y="13422"/>
                  <a:pt x="7714" y="13444"/>
                </a:cubicBezTo>
                <a:cubicBezTo>
                  <a:pt x="7761" y="13458"/>
                  <a:pt x="7815" y="13477"/>
                  <a:pt x="7863" y="13494"/>
                </a:cubicBezTo>
                <a:cubicBezTo>
                  <a:pt x="7904" y="13514"/>
                  <a:pt x="7910" y="13523"/>
                  <a:pt x="7938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Ink 5"/>
          <p:cNvSpPr/>
          <p:nvPr/>
        </p:nvSpPr>
        <p:spPr>
          <a:xfrm>
            <a:off x="5527800" y="4340160"/>
            <a:ext cx="142920" cy="1778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5354" y="12129"/>
                </a:moveTo>
                <a:cubicBezTo>
                  <a:pt x="15432" y="12099"/>
                  <a:pt x="15522" y="12068"/>
                  <a:pt x="15602" y="12055"/>
                </a:cubicBezTo>
                <a:cubicBezTo>
                  <a:pt x="15652" y="12055"/>
                  <a:pt x="15668" y="12055"/>
                  <a:pt x="15701" y="12055"/>
                </a:cubicBezTo>
              </a:path>
              <a:path w="398" h="497">
                <a:moveTo>
                  <a:pt x="15453" y="12551"/>
                </a:moveTo>
                <a:cubicBezTo>
                  <a:pt x="15521" y="12476"/>
                  <a:pt x="15574" y="12441"/>
                  <a:pt x="15677" y="12427"/>
                </a:cubicBezTo>
                <a:cubicBezTo>
                  <a:pt x="15702" y="12427"/>
                  <a:pt x="15726" y="12427"/>
                  <a:pt x="15751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Ink 6"/>
          <p:cNvSpPr/>
          <p:nvPr/>
        </p:nvSpPr>
        <p:spPr>
          <a:xfrm>
            <a:off x="5875200" y="4037040"/>
            <a:ext cx="260640" cy="500040"/>
          </a:xfrm>
          <a:custGeom>
            <a:avLst/>
            <a:gdLst/>
            <a:ahLst/>
            <a:rect l="l" t="t" r="r" b="b"/>
            <a:pathLst>
              <a:path w="721" h="1390">
                <a:moveTo>
                  <a:pt x="16321" y="11460"/>
                </a:moveTo>
                <a:cubicBezTo>
                  <a:pt x="16426" y="11355"/>
                  <a:pt x="16496" y="11286"/>
                  <a:pt x="16619" y="11237"/>
                </a:cubicBezTo>
                <a:cubicBezTo>
                  <a:pt x="16677" y="11214"/>
                  <a:pt x="16770" y="11191"/>
                  <a:pt x="16842" y="11212"/>
                </a:cubicBezTo>
                <a:cubicBezTo>
                  <a:pt x="16940" y="11241"/>
                  <a:pt x="16885" y="11389"/>
                  <a:pt x="16842" y="11435"/>
                </a:cubicBezTo>
                <a:cubicBezTo>
                  <a:pt x="16782" y="11500"/>
                  <a:pt x="16733" y="11603"/>
                  <a:pt x="16669" y="11658"/>
                </a:cubicBezTo>
                <a:cubicBezTo>
                  <a:pt x="16610" y="11709"/>
                  <a:pt x="16565" y="11763"/>
                  <a:pt x="16495" y="11807"/>
                </a:cubicBezTo>
                <a:cubicBezTo>
                  <a:pt x="16565" y="11797"/>
                  <a:pt x="16617" y="11761"/>
                  <a:pt x="16694" y="11757"/>
                </a:cubicBezTo>
                <a:cubicBezTo>
                  <a:pt x="16788" y="11752"/>
                  <a:pt x="16856" y="11770"/>
                  <a:pt x="16942" y="11807"/>
                </a:cubicBezTo>
                <a:cubicBezTo>
                  <a:pt x="17008" y="11836"/>
                  <a:pt x="17037" y="11862"/>
                  <a:pt x="17041" y="11931"/>
                </a:cubicBezTo>
                <a:cubicBezTo>
                  <a:pt x="17046" y="12012"/>
                  <a:pt x="17043" y="12087"/>
                  <a:pt x="16991" y="12154"/>
                </a:cubicBezTo>
                <a:cubicBezTo>
                  <a:pt x="16926" y="12238"/>
                  <a:pt x="16865" y="12308"/>
                  <a:pt x="16793" y="12378"/>
                </a:cubicBezTo>
                <a:cubicBezTo>
                  <a:pt x="16664" y="12506"/>
                  <a:pt x="16637" y="12538"/>
                  <a:pt x="16545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Ink 7"/>
          <p:cNvSpPr/>
          <p:nvPr/>
        </p:nvSpPr>
        <p:spPr>
          <a:xfrm>
            <a:off x="1677960" y="3929040"/>
            <a:ext cx="1179720" cy="1411200"/>
          </a:xfrm>
          <a:custGeom>
            <a:avLst/>
            <a:gdLst/>
            <a:ahLst/>
            <a:rect l="l" t="t" r="r" b="b"/>
            <a:pathLst>
              <a:path w="3276" h="3920">
                <a:moveTo>
                  <a:pt x="4663" y="11683"/>
                </a:moveTo>
                <a:cubicBezTo>
                  <a:pt x="4693" y="11585"/>
                  <a:pt x="4680" y="11592"/>
                  <a:pt x="4738" y="11534"/>
                </a:cubicBezTo>
              </a:path>
              <a:path w="3276" h="3920">
                <a:moveTo>
                  <a:pt x="5531" y="13990"/>
                </a:moveTo>
                <a:cubicBezTo>
                  <a:pt x="5457" y="13879"/>
                  <a:pt x="5445" y="13873"/>
                  <a:pt x="5308" y="13866"/>
                </a:cubicBezTo>
                <a:cubicBezTo>
                  <a:pt x="5292" y="13866"/>
                  <a:pt x="5275" y="13866"/>
                  <a:pt x="5259" y="13866"/>
                </a:cubicBezTo>
                <a:cubicBezTo>
                  <a:pt x="5270" y="13970"/>
                  <a:pt x="5298" y="14052"/>
                  <a:pt x="5358" y="14139"/>
                </a:cubicBezTo>
                <a:cubicBezTo>
                  <a:pt x="5436" y="14252"/>
                  <a:pt x="5485" y="14333"/>
                  <a:pt x="5531" y="14461"/>
                </a:cubicBezTo>
                <a:cubicBezTo>
                  <a:pt x="5565" y="14558"/>
                  <a:pt x="5533" y="14629"/>
                  <a:pt x="5432" y="14635"/>
                </a:cubicBezTo>
                <a:cubicBezTo>
                  <a:pt x="5337" y="14641"/>
                  <a:pt x="5252" y="14618"/>
                  <a:pt x="5159" y="14610"/>
                </a:cubicBezTo>
              </a:path>
              <a:path w="3276" h="3920">
                <a:moveTo>
                  <a:pt x="7144" y="10914"/>
                </a:moveTo>
                <a:cubicBezTo>
                  <a:pt x="7170" y="10984"/>
                  <a:pt x="7169" y="11036"/>
                  <a:pt x="7169" y="11112"/>
                </a:cubicBezTo>
                <a:cubicBezTo>
                  <a:pt x="7169" y="11256"/>
                  <a:pt x="7171" y="11397"/>
                  <a:pt x="7193" y="11534"/>
                </a:cubicBezTo>
                <a:cubicBezTo>
                  <a:pt x="7193" y="11551"/>
                  <a:pt x="7193" y="11567"/>
                  <a:pt x="7193" y="11584"/>
                </a:cubicBezTo>
              </a:path>
              <a:path w="3276" h="3920">
                <a:moveTo>
                  <a:pt x="5928" y="13816"/>
                </a:moveTo>
                <a:cubicBezTo>
                  <a:pt x="6019" y="13816"/>
                  <a:pt x="6110" y="13816"/>
                  <a:pt x="6201" y="13816"/>
                </a:cubicBezTo>
              </a:path>
              <a:path w="3276" h="3920">
                <a:moveTo>
                  <a:pt x="6052" y="13990"/>
                </a:moveTo>
                <a:cubicBezTo>
                  <a:pt x="6118" y="13950"/>
                  <a:pt x="6130" y="13986"/>
                  <a:pt x="6201" y="13990"/>
                </a:cubicBezTo>
                <a:cubicBezTo>
                  <a:pt x="6249" y="13993"/>
                  <a:pt x="6302" y="13990"/>
                  <a:pt x="6350" y="13990"/>
                </a:cubicBezTo>
              </a:path>
              <a:path w="3276" h="3920">
                <a:moveTo>
                  <a:pt x="6722" y="13866"/>
                </a:moveTo>
                <a:cubicBezTo>
                  <a:pt x="6791" y="13857"/>
                  <a:pt x="6878" y="13859"/>
                  <a:pt x="6945" y="13841"/>
                </a:cubicBezTo>
                <a:cubicBezTo>
                  <a:pt x="7028" y="13819"/>
                  <a:pt x="7109" y="13792"/>
                  <a:pt x="7193" y="13767"/>
                </a:cubicBezTo>
                <a:cubicBezTo>
                  <a:pt x="7292" y="13738"/>
                  <a:pt x="7396" y="13718"/>
                  <a:pt x="7491" y="13692"/>
                </a:cubicBezTo>
                <a:cubicBezTo>
                  <a:pt x="7606" y="13660"/>
                  <a:pt x="7740" y="13653"/>
                  <a:pt x="7863" y="13643"/>
                </a:cubicBezTo>
                <a:cubicBezTo>
                  <a:pt x="7905" y="13643"/>
                  <a:pt x="7913" y="13643"/>
                  <a:pt x="7938" y="13643"/>
                </a:cubicBezTo>
              </a:path>
              <a:path w="3276" h="3920">
                <a:moveTo>
                  <a:pt x="7144" y="14089"/>
                </a:moveTo>
                <a:cubicBezTo>
                  <a:pt x="7136" y="14106"/>
                  <a:pt x="7127" y="14122"/>
                  <a:pt x="7119" y="14139"/>
                </a:cubicBezTo>
                <a:cubicBezTo>
                  <a:pt x="7157" y="14092"/>
                  <a:pt x="7185" y="14041"/>
                  <a:pt x="7243" y="14015"/>
                </a:cubicBezTo>
                <a:cubicBezTo>
                  <a:pt x="7321" y="13980"/>
                  <a:pt x="7380" y="13920"/>
                  <a:pt x="7466" y="13915"/>
                </a:cubicBezTo>
                <a:cubicBezTo>
                  <a:pt x="7544" y="13911"/>
                  <a:pt x="7561" y="13967"/>
                  <a:pt x="7541" y="14039"/>
                </a:cubicBezTo>
                <a:cubicBezTo>
                  <a:pt x="7520" y="14113"/>
                  <a:pt x="7444" y="14161"/>
                  <a:pt x="7392" y="14213"/>
                </a:cubicBezTo>
                <a:cubicBezTo>
                  <a:pt x="7367" y="14238"/>
                  <a:pt x="7359" y="14246"/>
                  <a:pt x="7342" y="14263"/>
                </a:cubicBezTo>
                <a:cubicBezTo>
                  <a:pt x="7423" y="14241"/>
                  <a:pt x="7482" y="14238"/>
                  <a:pt x="7565" y="14238"/>
                </a:cubicBezTo>
                <a:cubicBezTo>
                  <a:pt x="7600" y="14238"/>
                  <a:pt x="7702" y="14267"/>
                  <a:pt x="7714" y="14312"/>
                </a:cubicBezTo>
                <a:cubicBezTo>
                  <a:pt x="7743" y="14422"/>
                  <a:pt x="7693" y="14436"/>
                  <a:pt x="7640" y="14511"/>
                </a:cubicBezTo>
                <a:cubicBezTo>
                  <a:pt x="7608" y="14557"/>
                  <a:pt x="7566" y="14603"/>
                  <a:pt x="7516" y="14635"/>
                </a:cubicBezTo>
                <a:cubicBezTo>
                  <a:pt x="7445" y="14681"/>
                  <a:pt x="7367" y="14718"/>
                  <a:pt x="7293" y="14759"/>
                </a:cubicBezTo>
                <a:cubicBezTo>
                  <a:pt x="7227" y="14796"/>
                  <a:pt x="7160" y="14790"/>
                  <a:pt x="7094" y="14808"/>
                </a:cubicBezTo>
                <a:cubicBezTo>
                  <a:pt x="7014" y="14830"/>
                  <a:pt x="7009" y="14846"/>
                  <a:pt x="6945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Ink 8"/>
          <p:cNvSpPr/>
          <p:nvPr/>
        </p:nvSpPr>
        <p:spPr>
          <a:xfrm>
            <a:off x="4438800" y="4303800"/>
            <a:ext cx="857160" cy="1911240"/>
          </a:xfrm>
          <a:custGeom>
            <a:avLst/>
            <a:gdLst/>
            <a:ahLst/>
            <a:rect l="l" t="t" r="r" b="b"/>
            <a:pathLst>
              <a:path w="2382" h="5309">
                <a:moveTo>
                  <a:pt x="13667" y="16173"/>
                </a:moveTo>
                <a:cubicBezTo>
                  <a:pt x="13687" y="16290"/>
                  <a:pt x="13681" y="16311"/>
                  <a:pt x="13717" y="16371"/>
                </a:cubicBezTo>
                <a:cubicBezTo>
                  <a:pt x="13753" y="16299"/>
                  <a:pt x="13752" y="16206"/>
                  <a:pt x="13717" y="16123"/>
                </a:cubicBezTo>
                <a:cubicBezTo>
                  <a:pt x="13688" y="16054"/>
                  <a:pt x="13640" y="16027"/>
                  <a:pt x="13568" y="16024"/>
                </a:cubicBezTo>
                <a:cubicBezTo>
                  <a:pt x="13462" y="16019"/>
                  <a:pt x="13398" y="16081"/>
                  <a:pt x="13320" y="16148"/>
                </a:cubicBezTo>
                <a:cubicBezTo>
                  <a:pt x="13225" y="16229"/>
                  <a:pt x="13123" y="16371"/>
                  <a:pt x="13097" y="16495"/>
                </a:cubicBezTo>
                <a:cubicBezTo>
                  <a:pt x="13053" y="16707"/>
                  <a:pt x="13122" y="16860"/>
                  <a:pt x="13221" y="17041"/>
                </a:cubicBezTo>
                <a:cubicBezTo>
                  <a:pt x="13284" y="17157"/>
                  <a:pt x="13361" y="17194"/>
                  <a:pt x="13494" y="17165"/>
                </a:cubicBezTo>
                <a:cubicBezTo>
                  <a:pt x="13510" y="17157"/>
                  <a:pt x="13527" y="17148"/>
                  <a:pt x="13543" y="17140"/>
                </a:cubicBezTo>
              </a:path>
              <a:path w="2382" h="5309">
                <a:moveTo>
                  <a:pt x="13816" y="16917"/>
                </a:moveTo>
                <a:cubicBezTo>
                  <a:pt x="13816" y="16775"/>
                  <a:pt x="13826" y="16687"/>
                  <a:pt x="13791" y="16818"/>
                </a:cubicBezTo>
                <a:cubicBezTo>
                  <a:pt x="13799" y="16917"/>
                  <a:pt x="13807" y="17021"/>
                  <a:pt x="13841" y="17115"/>
                </a:cubicBezTo>
                <a:cubicBezTo>
                  <a:pt x="13876" y="17210"/>
                  <a:pt x="13914" y="17298"/>
                  <a:pt x="14039" y="17264"/>
                </a:cubicBezTo>
                <a:cubicBezTo>
                  <a:pt x="14062" y="17258"/>
                  <a:pt x="14111" y="17089"/>
                  <a:pt x="14114" y="17066"/>
                </a:cubicBezTo>
                <a:cubicBezTo>
                  <a:pt x="14128" y="16955"/>
                  <a:pt x="14079" y="16821"/>
                  <a:pt x="14039" y="16718"/>
                </a:cubicBezTo>
                <a:cubicBezTo>
                  <a:pt x="14025" y="16683"/>
                  <a:pt x="13893" y="16544"/>
                  <a:pt x="13866" y="16570"/>
                </a:cubicBezTo>
                <a:cubicBezTo>
                  <a:pt x="13913" y="16615"/>
                  <a:pt x="13939" y="16647"/>
                  <a:pt x="13965" y="16694"/>
                </a:cubicBezTo>
              </a:path>
              <a:path w="2382" h="5309">
                <a:moveTo>
                  <a:pt x="14436" y="16470"/>
                </a:moveTo>
                <a:cubicBezTo>
                  <a:pt x="14424" y="16687"/>
                  <a:pt x="14389" y="16924"/>
                  <a:pt x="14436" y="17140"/>
                </a:cubicBezTo>
                <a:cubicBezTo>
                  <a:pt x="14444" y="17165"/>
                  <a:pt x="14453" y="17189"/>
                  <a:pt x="14461" y="17214"/>
                </a:cubicBezTo>
              </a:path>
              <a:path w="2382" h="5309">
                <a:moveTo>
                  <a:pt x="14288" y="16718"/>
                </a:moveTo>
                <a:cubicBezTo>
                  <a:pt x="14385" y="16735"/>
                  <a:pt x="14459" y="16765"/>
                  <a:pt x="14560" y="16768"/>
                </a:cubicBezTo>
                <a:cubicBezTo>
                  <a:pt x="14636" y="16768"/>
                  <a:pt x="14662" y="16768"/>
                  <a:pt x="14709" y="16743"/>
                </a:cubicBezTo>
              </a:path>
              <a:path w="2382" h="5309">
                <a:moveTo>
                  <a:pt x="13395" y="14039"/>
                </a:moveTo>
                <a:cubicBezTo>
                  <a:pt x="13253" y="13962"/>
                  <a:pt x="13178" y="13920"/>
                  <a:pt x="13022" y="13915"/>
                </a:cubicBezTo>
                <a:cubicBezTo>
                  <a:pt x="12934" y="13912"/>
                  <a:pt x="12840" y="13945"/>
                  <a:pt x="12774" y="14015"/>
                </a:cubicBezTo>
                <a:cubicBezTo>
                  <a:pt x="12687" y="14108"/>
                  <a:pt x="12837" y="14258"/>
                  <a:pt x="12874" y="14337"/>
                </a:cubicBezTo>
                <a:cubicBezTo>
                  <a:pt x="12962" y="14524"/>
                  <a:pt x="13091" y="14678"/>
                  <a:pt x="13196" y="14858"/>
                </a:cubicBezTo>
                <a:cubicBezTo>
                  <a:pt x="13226" y="14909"/>
                  <a:pt x="13341" y="15124"/>
                  <a:pt x="13221" y="15156"/>
                </a:cubicBezTo>
                <a:cubicBezTo>
                  <a:pt x="13117" y="15183"/>
                  <a:pt x="13056" y="15129"/>
                  <a:pt x="12973" y="15081"/>
                </a:cubicBezTo>
                <a:cubicBezTo>
                  <a:pt x="12895" y="15036"/>
                  <a:pt x="12857" y="14953"/>
                  <a:pt x="12874" y="14858"/>
                </a:cubicBezTo>
                <a:cubicBezTo>
                  <a:pt x="12882" y="14841"/>
                  <a:pt x="12890" y="14825"/>
                  <a:pt x="12898" y="14808"/>
                </a:cubicBezTo>
              </a:path>
              <a:path w="2382" h="5309">
                <a:moveTo>
                  <a:pt x="13295" y="14833"/>
                </a:moveTo>
                <a:cubicBezTo>
                  <a:pt x="13351" y="14831"/>
                  <a:pt x="13535" y="14869"/>
                  <a:pt x="13543" y="14759"/>
                </a:cubicBezTo>
                <a:cubicBezTo>
                  <a:pt x="13543" y="14714"/>
                  <a:pt x="13547" y="14701"/>
                  <a:pt x="13519" y="14684"/>
                </a:cubicBezTo>
                <a:cubicBezTo>
                  <a:pt x="13463" y="14745"/>
                  <a:pt x="13402" y="14805"/>
                  <a:pt x="13370" y="14883"/>
                </a:cubicBezTo>
                <a:cubicBezTo>
                  <a:pt x="13334" y="14971"/>
                  <a:pt x="13335" y="15053"/>
                  <a:pt x="13395" y="15131"/>
                </a:cubicBezTo>
                <a:cubicBezTo>
                  <a:pt x="13475" y="15234"/>
                  <a:pt x="13472" y="15195"/>
                  <a:pt x="13618" y="15180"/>
                </a:cubicBezTo>
              </a:path>
              <a:path w="2382" h="5309">
                <a:moveTo>
                  <a:pt x="14039" y="14759"/>
                </a:moveTo>
                <a:cubicBezTo>
                  <a:pt x="13969" y="14790"/>
                  <a:pt x="13905" y="14819"/>
                  <a:pt x="13841" y="14858"/>
                </a:cubicBezTo>
                <a:cubicBezTo>
                  <a:pt x="13771" y="14900"/>
                  <a:pt x="13676" y="14928"/>
                  <a:pt x="13717" y="15032"/>
                </a:cubicBezTo>
                <a:cubicBezTo>
                  <a:pt x="13743" y="15098"/>
                  <a:pt x="13902" y="15229"/>
                  <a:pt x="13965" y="15255"/>
                </a:cubicBezTo>
                <a:cubicBezTo>
                  <a:pt x="14110" y="15316"/>
                  <a:pt x="14157" y="15363"/>
                  <a:pt x="14312" y="15304"/>
                </a:cubicBezTo>
                <a:cubicBezTo>
                  <a:pt x="14329" y="15296"/>
                  <a:pt x="14345" y="15288"/>
                  <a:pt x="14362" y="15280"/>
                </a:cubicBezTo>
              </a:path>
              <a:path w="2382" h="5309">
                <a:moveTo>
                  <a:pt x="12849" y="12179"/>
                </a:moveTo>
                <a:cubicBezTo>
                  <a:pt x="12849" y="12250"/>
                  <a:pt x="12842" y="12275"/>
                  <a:pt x="12874" y="12328"/>
                </a:cubicBezTo>
                <a:cubicBezTo>
                  <a:pt x="12895" y="12270"/>
                  <a:pt x="12915" y="12193"/>
                  <a:pt x="12898" y="12129"/>
                </a:cubicBezTo>
                <a:cubicBezTo>
                  <a:pt x="12880" y="12061"/>
                  <a:pt x="12852" y="11974"/>
                  <a:pt x="12774" y="11956"/>
                </a:cubicBezTo>
                <a:cubicBezTo>
                  <a:pt x="12718" y="11943"/>
                  <a:pt x="12592" y="11967"/>
                  <a:pt x="12551" y="12005"/>
                </a:cubicBezTo>
                <a:cubicBezTo>
                  <a:pt x="12447" y="12100"/>
                  <a:pt x="12405" y="12228"/>
                  <a:pt x="12353" y="12353"/>
                </a:cubicBezTo>
                <a:cubicBezTo>
                  <a:pt x="12319" y="12434"/>
                  <a:pt x="12311" y="12560"/>
                  <a:pt x="12328" y="12650"/>
                </a:cubicBezTo>
                <a:cubicBezTo>
                  <a:pt x="12348" y="12758"/>
                  <a:pt x="12428" y="12788"/>
                  <a:pt x="12502" y="12849"/>
                </a:cubicBezTo>
                <a:cubicBezTo>
                  <a:pt x="12575" y="12909"/>
                  <a:pt x="12578" y="12898"/>
                  <a:pt x="12675" y="12898"/>
                </a:cubicBezTo>
              </a:path>
              <a:path w="2382" h="5309">
                <a:moveTo>
                  <a:pt x="13196" y="12526"/>
                </a:moveTo>
                <a:cubicBezTo>
                  <a:pt x="13124" y="12533"/>
                  <a:pt x="13037" y="12536"/>
                  <a:pt x="12973" y="12576"/>
                </a:cubicBezTo>
                <a:cubicBezTo>
                  <a:pt x="12917" y="12611"/>
                  <a:pt x="12961" y="12716"/>
                  <a:pt x="12998" y="12750"/>
                </a:cubicBezTo>
                <a:cubicBezTo>
                  <a:pt x="13067" y="12814"/>
                  <a:pt x="13162" y="12899"/>
                  <a:pt x="13171" y="12998"/>
                </a:cubicBezTo>
                <a:cubicBezTo>
                  <a:pt x="13171" y="13023"/>
                  <a:pt x="13171" y="13047"/>
                  <a:pt x="13171" y="13072"/>
                </a:cubicBezTo>
                <a:cubicBezTo>
                  <a:pt x="13098" y="13097"/>
                  <a:pt x="13012" y="13115"/>
                  <a:pt x="12948" y="13047"/>
                </a:cubicBezTo>
                <a:cubicBezTo>
                  <a:pt x="12919" y="13016"/>
                  <a:pt x="12906" y="12961"/>
                  <a:pt x="12898" y="12923"/>
                </a:cubicBezTo>
              </a:path>
              <a:path w="2382" h="5309">
                <a:moveTo>
                  <a:pt x="13791" y="12626"/>
                </a:moveTo>
                <a:cubicBezTo>
                  <a:pt x="13799" y="12642"/>
                  <a:pt x="13808" y="12659"/>
                  <a:pt x="13816" y="12675"/>
                </a:cubicBezTo>
                <a:cubicBezTo>
                  <a:pt x="13782" y="12632"/>
                  <a:pt x="13757" y="12590"/>
                  <a:pt x="13717" y="12551"/>
                </a:cubicBezTo>
                <a:cubicBezTo>
                  <a:pt x="13646" y="12481"/>
                  <a:pt x="13638" y="12460"/>
                  <a:pt x="13543" y="12502"/>
                </a:cubicBezTo>
                <a:cubicBezTo>
                  <a:pt x="13504" y="12519"/>
                  <a:pt x="13408" y="12583"/>
                  <a:pt x="13395" y="12626"/>
                </a:cubicBezTo>
                <a:cubicBezTo>
                  <a:pt x="13371" y="12702"/>
                  <a:pt x="13406" y="12765"/>
                  <a:pt x="13444" y="12824"/>
                </a:cubicBezTo>
                <a:cubicBezTo>
                  <a:pt x="13500" y="12911"/>
                  <a:pt x="13591" y="12968"/>
                  <a:pt x="13692" y="12998"/>
                </a:cubicBezTo>
                <a:cubicBezTo>
                  <a:pt x="13857" y="13047"/>
                  <a:pt x="13914" y="13057"/>
                  <a:pt x="14064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Ink 9"/>
          <p:cNvSpPr/>
          <p:nvPr/>
        </p:nvSpPr>
        <p:spPr>
          <a:xfrm>
            <a:off x="1465200" y="5680080"/>
            <a:ext cx="29376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4093" y="16346"/>
                </a:moveTo>
                <a:cubicBezTo>
                  <a:pt x="4078" y="16213"/>
                  <a:pt x="4037" y="16011"/>
                  <a:pt x="4068" y="15875"/>
                </a:cubicBezTo>
                <a:cubicBezTo>
                  <a:pt x="4092" y="15771"/>
                  <a:pt x="4206" y="15765"/>
                  <a:pt x="4291" y="15776"/>
                </a:cubicBezTo>
                <a:cubicBezTo>
                  <a:pt x="4400" y="15790"/>
                  <a:pt x="4505" y="15834"/>
                  <a:pt x="4614" y="15850"/>
                </a:cubicBezTo>
                <a:cubicBezTo>
                  <a:pt x="4701" y="15863"/>
                  <a:pt x="4799" y="15850"/>
                  <a:pt x="4887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Ink 10"/>
          <p:cNvSpPr/>
          <p:nvPr/>
        </p:nvSpPr>
        <p:spPr>
          <a:xfrm>
            <a:off x="2224080" y="5072040"/>
            <a:ext cx="1625760" cy="1241280"/>
          </a:xfrm>
          <a:custGeom>
            <a:avLst/>
            <a:gdLst/>
            <a:ahLst/>
            <a:rect l="l" t="t" r="r" b="b"/>
            <a:pathLst>
              <a:path w="4516" h="3449">
                <a:moveTo>
                  <a:pt x="6176" y="16421"/>
                </a:moveTo>
                <a:cubicBezTo>
                  <a:pt x="6231" y="16399"/>
                  <a:pt x="6264" y="16433"/>
                  <a:pt x="6325" y="16396"/>
                </a:cubicBezTo>
              </a:path>
              <a:path w="4516" h="3449">
                <a:moveTo>
                  <a:pt x="6201" y="16694"/>
                </a:moveTo>
                <a:cubicBezTo>
                  <a:pt x="6268" y="16669"/>
                  <a:pt x="6329" y="16653"/>
                  <a:pt x="6400" y="16644"/>
                </a:cubicBezTo>
              </a:path>
              <a:path w="4516" h="3449">
                <a:moveTo>
                  <a:pt x="7119" y="15131"/>
                </a:moveTo>
                <a:cubicBezTo>
                  <a:pt x="7102" y="15131"/>
                  <a:pt x="7086" y="15131"/>
                  <a:pt x="7069" y="15131"/>
                </a:cubicBezTo>
                <a:cubicBezTo>
                  <a:pt x="7061" y="15217"/>
                  <a:pt x="7030" y="15296"/>
                  <a:pt x="7020" y="15379"/>
                </a:cubicBezTo>
                <a:cubicBezTo>
                  <a:pt x="7006" y="15487"/>
                  <a:pt x="6982" y="15589"/>
                  <a:pt x="6970" y="15701"/>
                </a:cubicBezTo>
                <a:cubicBezTo>
                  <a:pt x="6961" y="15786"/>
                  <a:pt x="6958" y="15869"/>
                  <a:pt x="6945" y="15949"/>
                </a:cubicBezTo>
                <a:cubicBezTo>
                  <a:pt x="6935" y="16009"/>
                  <a:pt x="6943" y="16039"/>
                  <a:pt x="6921" y="16098"/>
                </a:cubicBezTo>
              </a:path>
              <a:path w="4516" h="3449">
                <a:moveTo>
                  <a:pt x="6548" y="16321"/>
                </a:moveTo>
                <a:cubicBezTo>
                  <a:pt x="6597" y="16253"/>
                  <a:pt x="6631" y="16257"/>
                  <a:pt x="6697" y="16222"/>
                </a:cubicBezTo>
                <a:cubicBezTo>
                  <a:pt x="6777" y="16179"/>
                  <a:pt x="6824" y="16139"/>
                  <a:pt x="6921" y="16123"/>
                </a:cubicBezTo>
                <a:cubicBezTo>
                  <a:pt x="7007" y="16109"/>
                  <a:pt x="7084" y="16063"/>
                  <a:pt x="7169" y="16049"/>
                </a:cubicBezTo>
                <a:cubicBezTo>
                  <a:pt x="7236" y="16038"/>
                  <a:pt x="7289" y="16058"/>
                  <a:pt x="7342" y="16073"/>
                </a:cubicBezTo>
                <a:cubicBezTo>
                  <a:pt x="7350" y="16073"/>
                  <a:pt x="7359" y="16073"/>
                  <a:pt x="7367" y="16073"/>
                </a:cubicBezTo>
              </a:path>
              <a:path w="4516" h="3449">
                <a:moveTo>
                  <a:pt x="6598" y="16644"/>
                </a:moveTo>
                <a:cubicBezTo>
                  <a:pt x="6552" y="16598"/>
                  <a:pt x="6527" y="16577"/>
                  <a:pt x="6573" y="16520"/>
                </a:cubicBezTo>
                <a:cubicBezTo>
                  <a:pt x="6621" y="16460"/>
                  <a:pt x="6685" y="16457"/>
                  <a:pt x="6747" y="16495"/>
                </a:cubicBezTo>
                <a:cubicBezTo>
                  <a:pt x="6792" y="16523"/>
                  <a:pt x="6794" y="16645"/>
                  <a:pt x="6796" y="16694"/>
                </a:cubicBezTo>
                <a:cubicBezTo>
                  <a:pt x="6800" y="16799"/>
                  <a:pt x="6783" y="16890"/>
                  <a:pt x="6772" y="16991"/>
                </a:cubicBezTo>
                <a:cubicBezTo>
                  <a:pt x="6763" y="17078"/>
                  <a:pt x="6735" y="17155"/>
                  <a:pt x="6722" y="17239"/>
                </a:cubicBezTo>
                <a:cubicBezTo>
                  <a:pt x="6710" y="17315"/>
                  <a:pt x="6730" y="17351"/>
                  <a:pt x="6672" y="17413"/>
                </a:cubicBezTo>
                <a:cubicBezTo>
                  <a:pt x="6633" y="17455"/>
                  <a:pt x="6608" y="17494"/>
                  <a:pt x="6573" y="17537"/>
                </a:cubicBezTo>
                <a:cubicBezTo>
                  <a:pt x="6524" y="17488"/>
                  <a:pt x="6503" y="17460"/>
                  <a:pt x="6499" y="17388"/>
                </a:cubicBezTo>
                <a:cubicBezTo>
                  <a:pt x="6495" y="17322"/>
                  <a:pt x="6504" y="17250"/>
                  <a:pt x="6524" y="17190"/>
                </a:cubicBezTo>
                <a:cubicBezTo>
                  <a:pt x="6550" y="17110"/>
                  <a:pt x="6598" y="17099"/>
                  <a:pt x="6672" y="17090"/>
                </a:cubicBezTo>
                <a:cubicBezTo>
                  <a:pt x="6704" y="17143"/>
                  <a:pt x="6723" y="17199"/>
                  <a:pt x="6747" y="17264"/>
                </a:cubicBezTo>
                <a:cubicBezTo>
                  <a:pt x="6769" y="17324"/>
                  <a:pt x="6768" y="17364"/>
                  <a:pt x="6796" y="17413"/>
                </a:cubicBezTo>
              </a:path>
              <a:path w="4516" h="3449">
                <a:moveTo>
                  <a:pt x="6970" y="16917"/>
                </a:moveTo>
                <a:cubicBezTo>
                  <a:pt x="6996" y="16995"/>
                  <a:pt x="7051" y="17092"/>
                  <a:pt x="7069" y="17165"/>
                </a:cubicBezTo>
                <a:cubicBezTo>
                  <a:pt x="7075" y="17188"/>
                  <a:pt x="7107" y="17316"/>
                  <a:pt x="7094" y="17239"/>
                </a:cubicBezTo>
                <a:cubicBezTo>
                  <a:pt x="7082" y="17166"/>
                  <a:pt x="7083" y="17090"/>
                  <a:pt x="7069" y="17016"/>
                </a:cubicBezTo>
                <a:cubicBezTo>
                  <a:pt x="7050" y="16916"/>
                  <a:pt x="7024" y="16846"/>
                  <a:pt x="7020" y="16743"/>
                </a:cubicBezTo>
                <a:cubicBezTo>
                  <a:pt x="7017" y="16682"/>
                  <a:pt x="7021" y="16598"/>
                  <a:pt x="7045" y="16545"/>
                </a:cubicBezTo>
                <a:cubicBezTo>
                  <a:pt x="7064" y="16502"/>
                  <a:pt x="7119" y="16462"/>
                  <a:pt x="7144" y="16421"/>
                </a:cubicBezTo>
                <a:cubicBezTo>
                  <a:pt x="7191" y="16343"/>
                  <a:pt x="7221" y="16347"/>
                  <a:pt x="7293" y="16297"/>
                </a:cubicBezTo>
                <a:cubicBezTo>
                  <a:pt x="7335" y="16268"/>
                  <a:pt x="7376" y="16227"/>
                  <a:pt x="7417" y="16197"/>
                </a:cubicBezTo>
                <a:cubicBezTo>
                  <a:pt x="7450" y="16172"/>
                  <a:pt x="7483" y="16149"/>
                  <a:pt x="7516" y="16123"/>
                </a:cubicBezTo>
              </a:path>
              <a:path w="4516" h="3449">
                <a:moveTo>
                  <a:pt x="7317" y="16619"/>
                </a:moveTo>
                <a:cubicBezTo>
                  <a:pt x="7288" y="16568"/>
                  <a:pt x="7276" y="16520"/>
                  <a:pt x="7317" y="16470"/>
                </a:cubicBezTo>
                <a:cubicBezTo>
                  <a:pt x="7354" y="16424"/>
                  <a:pt x="7427" y="16439"/>
                  <a:pt x="7466" y="16470"/>
                </a:cubicBezTo>
                <a:cubicBezTo>
                  <a:pt x="7523" y="16515"/>
                  <a:pt x="7516" y="16549"/>
                  <a:pt x="7516" y="16619"/>
                </a:cubicBezTo>
                <a:cubicBezTo>
                  <a:pt x="7516" y="16716"/>
                  <a:pt x="7508" y="16810"/>
                  <a:pt x="7491" y="16892"/>
                </a:cubicBezTo>
                <a:cubicBezTo>
                  <a:pt x="7472" y="16985"/>
                  <a:pt x="7480" y="17048"/>
                  <a:pt x="7441" y="17140"/>
                </a:cubicBezTo>
                <a:cubicBezTo>
                  <a:pt x="7416" y="17200"/>
                  <a:pt x="7389" y="17272"/>
                  <a:pt x="7317" y="17289"/>
                </a:cubicBezTo>
                <a:cubicBezTo>
                  <a:pt x="7234" y="17309"/>
                  <a:pt x="7221" y="17225"/>
                  <a:pt x="7218" y="17165"/>
                </a:cubicBezTo>
                <a:cubicBezTo>
                  <a:pt x="7213" y="17084"/>
                  <a:pt x="7257" y="17074"/>
                  <a:pt x="7293" y="17016"/>
                </a:cubicBezTo>
                <a:cubicBezTo>
                  <a:pt x="7343" y="16937"/>
                  <a:pt x="7345" y="16942"/>
                  <a:pt x="7441" y="16942"/>
                </a:cubicBezTo>
                <a:cubicBezTo>
                  <a:pt x="7535" y="16942"/>
                  <a:pt x="7518" y="16999"/>
                  <a:pt x="7565" y="17066"/>
                </a:cubicBezTo>
                <a:cubicBezTo>
                  <a:pt x="7589" y="17100"/>
                  <a:pt x="7659" y="17187"/>
                  <a:pt x="7689" y="17214"/>
                </a:cubicBezTo>
                <a:cubicBezTo>
                  <a:pt x="7697" y="17214"/>
                  <a:pt x="7706" y="17214"/>
                  <a:pt x="7714" y="17214"/>
                </a:cubicBezTo>
              </a:path>
              <a:path w="4516" h="3449">
                <a:moveTo>
                  <a:pt x="7789" y="16520"/>
                </a:moveTo>
                <a:cubicBezTo>
                  <a:pt x="7789" y="16608"/>
                  <a:pt x="7788" y="16709"/>
                  <a:pt x="7813" y="16793"/>
                </a:cubicBezTo>
                <a:cubicBezTo>
                  <a:pt x="7836" y="16870"/>
                  <a:pt x="7838" y="16971"/>
                  <a:pt x="7863" y="17041"/>
                </a:cubicBezTo>
                <a:cubicBezTo>
                  <a:pt x="7891" y="17069"/>
                  <a:pt x="7900" y="17082"/>
                  <a:pt x="7888" y="17115"/>
                </a:cubicBezTo>
                <a:cubicBezTo>
                  <a:pt x="7888" y="16897"/>
                  <a:pt x="7886" y="16684"/>
                  <a:pt x="7913" y="16470"/>
                </a:cubicBezTo>
                <a:cubicBezTo>
                  <a:pt x="7924" y="16382"/>
                  <a:pt x="7948" y="16303"/>
                  <a:pt x="7987" y="16222"/>
                </a:cubicBezTo>
                <a:cubicBezTo>
                  <a:pt x="8008" y="16178"/>
                  <a:pt x="8074" y="16114"/>
                  <a:pt x="8086" y="16073"/>
                </a:cubicBezTo>
                <a:cubicBezTo>
                  <a:pt x="8105" y="16004"/>
                  <a:pt x="8117" y="15990"/>
                  <a:pt x="8186" y="15949"/>
                </a:cubicBezTo>
                <a:cubicBezTo>
                  <a:pt x="8237" y="15919"/>
                  <a:pt x="8269" y="15892"/>
                  <a:pt x="8310" y="15850"/>
                </a:cubicBezTo>
                <a:cubicBezTo>
                  <a:pt x="8344" y="15814"/>
                  <a:pt x="8366" y="15802"/>
                  <a:pt x="8409" y="15801"/>
                </a:cubicBezTo>
              </a:path>
              <a:path w="4516" h="3449">
                <a:moveTo>
                  <a:pt x="8235" y="16173"/>
                </a:moveTo>
                <a:cubicBezTo>
                  <a:pt x="8219" y="16189"/>
                  <a:pt x="8202" y="16206"/>
                  <a:pt x="8186" y="16222"/>
                </a:cubicBezTo>
                <a:cubicBezTo>
                  <a:pt x="8252" y="16232"/>
                  <a:pt x="8262" y="16249"/>
                  <a:pt x="8310" y="16297"/>
                </a:cubicBezTo>
                <a:cubicBezTo>
                  <a:pt x="8363" y="16350"/>
                  <a:pt x="8359" y="16371"/>
                  <a:pt x="8359" y="16446"/>
                </a:cubicBezTo>
                <a:cubicBezTo>
                  <a:pt x="8359" y="16543"/>
                  <a:pt x="8360" y="16651"/>
                  <a:pt x="8334" y="16743"/>
                </a:cubicBezTo>
                <a:cubicBezTo>
                  <a:pt x="8315" y="16811"/>
                  <a:pt x="8289" y="16870"/>
                  <a:pt x="8285" y="16942"/>
                </a:cubicBezTo>
                <a:cubicBezTo>
                  <a:pt x="8285" y="16958"/>
                  <a:pt x="8285" y="16975"/>
                  <a:pt x="8285" y="16991"/>
                </a:cubicBezTo>
                <a:cubicBezTo>
                  <a:pt x="8322" y="16917"/>
                  <a:pt x="8366" y="16902"/>
                  <a:pt x="8409" y="16842"/>
                </a:cubicBezTo>
                <a:cubicBezTo>
                  <a:pt x="8445" y="16792"/>
                  <a:pt x="8452" y="16730"/>
                  <a:pt x="8508" y="16694"/>
                </a:cubicBezTo>
                <a:cubicBezTo>
                  <a:pt x="8558" y="16669"/>
                  <a:pt x="8574" y="16661"/>
                  <a:pt x="8607" y="16644"/>
                </a:cubicBezTo>
              </a:path>
              <a:path w="4516" h="3449">
                <a:moveTo>
                  <a:pt x="7491" y="15304"/>
                </a:moveTo>
                <a:cubicBezTo>
                  <a:pt x="7514" y="15409"/>
                  <a:pt x="7516" y="15494"/>
                  <a:pt x="7516" y="15602"/>
                </a:cubicBezTo>
                <a:cubicBezTo>
                  <a:pt x="7516" y="15672"/>
                  <a:pt x="7541" y="15728"/>
                  <a:pt x="7541" y="15801"/>
                </a:cubicBezTo>
                <a:cubicBezTo>
                  <a:pt x="7541" y="15738"/>
                  <a:pt x="7522" y="15676"/>
                  <a:pt x="7516" y="15627"/>
                </a:cubicBezTo>
                <a:cubicBezTo>
                  <a:pt x="7504" y="15525"/>
                  <a:pt x="7509" y="15419"/>
                  <a:pt x="7491" y="15329"/>
                </a:cubicBezTo>
                <a:cubicBezTo>
                  <a:pt x="7479" y="15270"/>
                  <a:pt x="7516" y="15196"/>
                  <a:pt x="7516" y="15131"/>
                </a:cubicBezTo>
                <a:cubicBezTo>
                  <a:pt x="7516" y="15056"/>
                  <a:pt x="7555" y="14994"/>
                  <a:pt x="7590" y="14932"/>
                </a:cubicBezTo>
                <a:cubicBezTo>
                  <a:pt x="7624" y="14872"/>
                  <a:pt x="7665" y="14833"/>
                  <a:pt x="7714" y="14784"/>
                </a:cubicBezTo>
                <a:cubicBezTo>
                  <a:pt x="7764" y="14734"/>
                  <a:pt x="7832" y="14702"/>
                  <a:pt x="7888" y="14660"/>
                </a:cubicBezTo>
                <a:cubicBezTo>
                  <a:pt x="7927" y="14630"/>
                  <a:pt x="8009" y="14602"/>
                  <a:pt x="8062" y="14585"/>
                </a:cubicBezTo>
                <a:cubicBezTo>
                  <a:pt x="8070" y="14585"/>
                  <a:pt x="8078" y="14585"/>
                  <a:pt x="8086" y="14585"/>
                </a:cubicBezTo>
              </a:path>
              <a:path w="4516" h="3449">
                <a:moveTo>
                  <a:pt x="7813" y="15131"/>
                </a:moveTo>
                <a:cubicBezTo>
                  <a:pt x="7750" y="15088"/>
                  <a:pt x="7825" y="15094"/>
                  <a:pt x="7888" y="15032"/>
                </a:cubicBezTo>
                <a:cubicBezTo>
                  <a:pt x="7931" y="14989"/>
                  <a:pt x="8003" y="15007"/>
                  <a:pt x="8062" y="15007"/>
                </a:cubicBezTo>
                <a:cubicBezTo>
                  <a:pt x="8062" y="15116"/>
                  <a:pt x="8047" y="15096"/>
                  <a:pt x="7987" y="15180"/>
                </a:cubicBezTo>
                <a:cubicBezTo>
                  <a:pt x="7946" y="15238"/>
                  <a:pt x="7911" y="15301"/>
                  <a:pt x="7863" y="15354"/>
                </a:cubicBezTo>
                <a:cubicBezTo>
                  <a:pt x="7817" y="15405"/>
                  <a:pt x="7779" y="15450"/>
                  <a:pt x="7739" y="15503"/>
                </a:cubicBezTo>
                <a:cubicBezTo>
                  <a:pt x="7714" y="15528"/>
                  <a:pt x="7706" y="15536"/>
                  <a:pt x="7689" y="15553"/>
                </a:cubicBezTo>
                <a:cubicBezTo>
                  <a:pt x="7797" y="15531"/>
                  <a:pt x="7830" y="15488"/>
                  <a:pt x="7913" y="15429"/>
                </a:cubicBezTo>
                <a:cubicBezTo>
                  <a:pt x="7976" y="15384"/>
                  <a:pt x="8066" y="15364"/>
                  <a:pt x="8136" y="15329"/>
                </a:cubicBezTo>
              </a:path>
              <a:path w="4516" h="3449">
                <a:moveTo>
                  <a:pt x="9029" y="15528"/>
                </a:moveTo>
                <a:cubicBezTo>
                  <a:pt x="9085" y="15472"/>
                  <a:pt x="9111" y="15469"/>
                  <a:pt x="9178" y="15429"/>
                </a:cubicBezTo>
                <a:cubicBezTo>
                  <a:pt x="9229" y="15399"/>
                  <a:pt x="9240" y="15387"/>
                  <a:pt x="9302" y="15379"/>
                </a:cubicBezTo>
              </a:path>
              <a:path w="4516" h="3449">
                <a:moveTo>
                  <a:pt x="9079" y="15701"/>
                </a:moveTo>
                <a:cubicBezTo>
                  <a:pt x="9144" y="15701"/>
                  <a:pt x="9223" y="15704"/>
                  <a:pt x="9277" y="15677"/>
                </a:cubicBezTo>
                <a:cubicBezTo>
                  <a:pt x="9307" y="15647"/>
                  <a:pt x="9321" y="15636"/>
                  <a:pt x="9351" y="15627"/>
                </a:cubicBezTo>
              </a:path>
              <a:path w="4516" h="3449">
                <a:moveTo>
                  <a:pt x="9649" y="14908"/>
                </a:moveTo>
                <a:cubicBezTo>
                  <a:pt x="9688" y="14984"/>
                  <a:pt x="9679" y="15030"/>
                  <a:pt x="9699" y="15106"/>
                </a:cubicBezTo>
                <a:cubicBezTo>
                  <a:pt x="9715" y="15167"/>
                  <a:pt x="9751" y="15219"/>
                  <a:pt x="9773" y="15280"/>
                </a:cubicBezTo>
                <a:cubicBezTo>
                  <a:pt x="9794" y="15341"/>
                  <a:pt x="9794" y="15381"/>
                  <a:pt x="9823" y="15429"/>
                </a:cubicBezTo>
                <a:cubicBezTo>
                  <a:pt x="9816" y="15343"/>
                  <a:pt x="9798" y="15267"/>
                  <a:pt x="9798" y="15180"/>
                </a:cubicBezTo>
                <a:cubicBezTo>
                  <a:pt x="9798" y="15090"/>
                  <a:pt x="9773" y="15005"/>
                  <a:pt x="9773" y="14908"/>
                </a:cubicBezTo>
                <a:cubicBezTo>
                  <a:pt x="9773" y="14805"/>
                  <a:pt x="9764" y="14699"/>
                  <a:pt x="9798" y="14610"/>
                </a:cubicBezTo>
                <a:cubicBezTo>
                  <a:pt x="9829" y="14529"/>
                  <a:pt x="9817" y="14498"/>
                  <a:pt x="9872" y="14436"/>
                </a:cubicBezTo>
                <a:cubicBezTo>
                  <a:pt x="9898" y="14407"/>
                  <a:pt x="9991" y="14307"/>
                  <a:pt x="10021" y="14288"/>
                </a:cubicBezTo>
                <a:cubicBezTo>
                  <a:pt x="10099" y="14239"/>
                  <a:pt x="10214" y="14216"/>
                  <a:pt x="10294" y="14188"/>
                </a:cubicBezTo>
                <a:cubicBezTo>
                  <a:pt x="10362" y="14164"/>
                  <a:pt x="10422" y="14126"/>
                  <a:pt x="10492" y="14114"/>
                </a:cubicBezTo>
                <a:cubicBezTo>
                  <a:pt x="10557" y="14103"/>
                  <a:pt x="10569" y="14096"/>
                  <a:pt x="10641" y="14089"/>
                </a:cubicBezTo>
              </a:path>
              <a:path w="4516" h="3449">
                <a:moveTo>
                  <a:pt x="10170" y="14610"/>
                </a:moveTo>
                <a:cubicBezTo>
                  <a:pt x="10153" y="14610"/>
                  <a:pt x="10137" y="14610"/>
                  <a:pt x="10120" y="14610"/>
                </a:cubicBezTo>
                <a:cubicBezTo>
                  <a:pt x="10161" y="14569"/>
                  <a:pt x="10210" y="14500"/>
                  <a:pt x="10269" y="14486"/>
                </a:cubicBezTo>
                <a:cubicBezTo>
                  <a:pt x="10327" y="14472"/>
                  <a:pt x="10399" y="14528"/>
                  <a:pt x="10443" y="14560"/>
                </a:cubicBezTo>
                <a:cubicBezTo>
                  <a:pt x="10477" y="14585"/>
                  <a:pt x="10534" y="14642"/>
                  <a:pt x="10542" y="14684"/>
                </a:cubicBezTo>
                <a:cubicBezTo>
                  <a:pt x="10558" y="14773"/>
                  <a:pt x="10529" y="14848"/>
                  <a:pt x="10517" y="14932"/>
                </a:cubicBezTo>
                <a:cubicBezTo>
                  <a:pt x="10502" y="15035"/>
                  <a:pt x="10458" y="15112"/>
                  <a:pt x="10418" y="15205"/>
                </a:cubicBezTo>
                <a:cubicBezTo>
                  <a:pt x="10390" y="15271"/>
                  <a:pt x="10409" y="15337"/>
                  <a:pt x="10344" y="15379"/>
                </a:cubicBezTo>
                <a:cubicBezTo>
                  <a:pt x="10281" y="15420"/>
                  <a:pt x="10190" y="15417"/>
                  <a:pt x="10170" y="15329"/>
                </a:cubicBezTo>
                <a:cubicBezTo>
                  <a:pt x="10152" y="15248"/>
                  <a:pt x="10183" y="15179"/>
                  <a:pt x="10195" y="15106"/>
                </a:cubicBezTo>
                <a:cubicBezTo>
                  <a:pt x="10205" y="15048"/>
                  <a:pt x="10206" y="14961"/>
                  <a:pt x="10294" y="14982"/>
                </a:cubicBezTo>
                <a:cubicBezTo>
                  <a:pt x="10352" y="14996"/>
                  <a:pt x="10418" y="15049"/>
                  <a:pt x="10468" y="15081"/>
                </a:cubicBezTo>
                <a:cubicBezTo>
                  <a:pt x="10527" y="15121"/>
                  <a:pt x="10539" y="15125"/>
                  <a:pt x="10567" y="15156"/>
                </a:cubicBezTo>
              </a:path>
              <a:path w="4516" h="3449">
                <a:moveTo>
                  <a:pt x="9798" y="15553"/>
                </a:moveTo>
                <a:cubicBezTo>
                  <a:pt x="9844" y="15495"/>
                  <a:pt x="9864" y="15472"/>
                  <a:pt x="9922" y="15429"/>
                </a:cubicBezTo>
                <a:cubicBezTo>
                  <a:pt x="9995" y="15375"/>
                  <a:pt x="10047" y="15384"/>
                  <a:pt x="10120" y="15354"/>
                </a:cubicBezTo>
                <a:cubicBezTo>
                  <a:pt x="10177" y="15331"/>
                  <a:pt x="10227" y="15288"/>
                  <a:pt x="10294" y="15280"/>
                </a:cubicBezTo>
                <a:cubicBezTo>
                  <a:pt x="10375" y="15270"/>
                  <a:pt x="10433" y="15240"/>
                  <a:pt x="10517" y="15230"/>
                </a:cubicBezTo>
                <a:cubicBezTo>
                  <a:pt x="10583" y="15222"/>
                  <a:pt x="10629" y="15247"/>
                  <a:pt x="10691" y="15255"/>
                </a:cubicBezTo>
              </a:path>
              <a:path w="4516" h="3449">
                <a:moveTo>
                  <a:pt x="10294" y="15503"/>
                </a:moveTo>
                <a:cubicBezTo>
                  <a:pt x="10232" y="15574"/>
                  <a:pt x="10214" y="15613"/>
                  <a:pt x="10195" y="15701"/>
                </a:cubicBezTo>
                <a:cubicBezTo>
                  <a:pt x="10174" y="15798"/>
                  <a:pt x="10135" y="15902"/>
                  <a:pt x="10120" y="15999"/>
                </a:cubicBezTo>
                <a:cubicBezTo>
                  <a:pt x="10110" y="16065"/>
                  <a:pt x="10099" y="16141"/>
                  <a:pt x="10071" y="16197"/>
                </a:cubicBezTo>
                <a:cubicBezTo>
                  <a:pt x="10046" y="16222"/>
                  <a:pt x="10038" y="16230"/>
                  <a:pt x="10071" y="16247"/>
                </a:cubicBezTo>
                <a:cubicBezTo>
                  <a:pt x="10121" y="16218"/>
                  <a:pt x="10154" y="16189"/>
                  <a:pt x="10195" y="16148"/>
                </a:cubicBezTo>
                <a:cubicBezTo>
                  <a:pt x="10236" y="16108"/>
                  <a:pt x="10332" y="16106"/>
                  <a:pt x="10368" y="16073"/>
                </a:cubicBezTo>
                <a:cubicBezTo>
                  <a:pt x="10431" y="16016"/>
                  <a:pt x="10399" y="15987"/>
                  <a:pt x="10492" y="15974"/>
                </a:cubicBezTo>
              </a:path>
              <a:path w="4516" h="3449">
                <a:moveTo>
                  <a:pt x="10517" y="15528"/>
                </a:moveTo>
                <a:cubicBezTo>
                  <a:pt x="10492" y="15628"/>
                  <a:pt x="10484" y="15724"/>
                  <a:pt x="10468" y="15825"/>
                </a:cubicBezTo>
                <a:cubicBezTo>
                  <a:pt x="10429" y="16068"/>
                  <a:pt x="10364" y="16324"/>
                  <a:pt x="10368" y="16570"/>
                </a:cubicBezTo>
                <a:cubicBezTo>
                  <a:pt x="10370" y="16707"/>
                  <a:pt x="10398" y="16855"/>
                  <a:pt x="10418" y="169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Ink 11"/>
          <p:cNvSpPr/>
          <p:nvPr/>
        </p:nvSpPr>
        <p:spPr>
          <a:xfrm>
            <a:off x="5241960" y="4232160"/>
            <a:ext cx="2554200" cy="1233720"/>
          </a:xfrm>
          <a:custGeom>
            <a:avLst/>
            <a:gdLst/>
            <a:ahLst/>
            <a:rect l="l" t="t" r="r" b="b"/>
            <a:pathLst>
              <a:path w="7095" h="3424">
                <a:moveTo>
                  <a:pt x="14560" y="14585"/>
                </a:moveTo>
                <a:cubicBezTo>
                  <a:pt x="14624" y="14563"/>
                  <a:pt x="14703" y="14564"/>
                  <a:pt x="14759" y="14536"/>
                </a:cubicBezTo>
                <a:cubicBezTo>
                  <a:pt x="14767" y="14528"/>
                  <a:pt x="14776" y="14519"/>
                  <a:pt x="14784" y="14511"/>
                </a:cubicBezTo>
              </a:path>
              <a:path w="7095" h="3424">
                <a:moveTo>
                  <a:pt x="14734" y="14808"/>
                </a:moveTo>
                <a:cubicBezTo>
                  <a:pt x="14811" y="14800"/>
                  <a:pt x="14885" y="14768"/>
                  <a:pt x="14957" y="14759"/>
                </a:cubicBezTo>
                <a:cubicBezTo>
                  <a:pt x="14982" y="14759"/>
                  <a:pt x="15007" y="14759"/>
                  <a:pt x="15032" y="14759"/>
                </a:cubicBezTo>
              </a:path>
              <a:path w="7095" h="3424">
                <a:moveTo>
                  <a:pt x="16123" y="13395"/>
                </a:moveTo>
                <a:cubicBezTo>
                  <a:pt x="16175" y="13322"/>
                  <a:pt x="16225" y="13321"/>
                  <a:pt x="16297" y="13271"/>
                </a:cubicBezTo>
                <a:cubicBezTo>
                  <a:pt x="16351" y="13234"/>
                  <a:pt x="16407" y="13196"/>
                  <a:pt x="16470" y="13171"/>
                </a:cubicBezTo>
                <a:cubicBezTo>
                  <a:pt x="16560" y="13136"/>
                  <a:pt x="16604" y="13131"/>
                  <a:pt x="16669" y="13196"/>
                </a:cubicBezTo>
                <a:cubicBezTo>
                  <a:pt x="16631" y="13263"/>
                  <a:pt x="16602" y="13297"/>
                  <a:pt x="16545" y="13345"/>
                </a:cubicBezTo>
                <a:cubicBezTo>
                  <a:pt x="16490" y="13391"/>
                  <a:pt x="16465" y="13458"/>
                  <a:pt x="16396" y="13494"/>
                </a:cubicBezTo>
                <a:cubicBezTo>
                  <a:pt x="16304" y="13542"/>
                  <a:pt x="16321" y="13508"/>
                  <a:pt x="16272" y="13593"/>
                </a:cubicBezTo>
                <a:cubicBezTo>
                  <a:pt x="16328" y="13556"/>
                  <a:pt x="16380" y="13523"/>
                  <a:pt x="16446" y="13519"/>
                </a:cubicBezTo>
                <a:cubicBezTo>
                  <a:pt x="16512" y="13515"/>
                  <a:pt x="16586" y="13508"/>
                  <a:pt x="16644" y="13543"/>
                </a:cubicBezTo>
                <a:cubicBezTo>
                  <a:pt x="16729" y="13594"/>
                  <a:pt x="16653" y="13684"/>
                  <a:pt x="16619" y="13717"/>
                </a:cubicBezTo>
                <a:cubicBezTo>
                  <a:pt x="16561" y="13772"/>
                  <a:pt x="16516" y="13827"/>
                  <a:pt x="16446" y="13866"/>
                </a:cubicBezTo>
                <a:cubicBezTo>
                  <a:pt x="16364" y="13912"/>
                  <a:pt x="16299" y="13959"/>
                  <a:pt x="16222" y="14015"/>
                </a:cubicBezTo>
              </a:path>
              <a:path w="7095" h="3424">
                <a:moveTo>
                  <a:pt x="15577" y="14163"/>
                </a:moveTo>
                <a:cubicBezTo>
                  <a:pt x="15652" y="14136"/>
                  <a:pt x="15702" y="14134"/>
                  <a:pt x="15776" y="14114"/>
                </a:cubicBezTo>
                <a:cubicBezTo>
                  <a:pt x="15914" y="14078"/>
                  <a:pt x="16036" y="14033"/>
                  <a:pt x="16173" y="13990"/>
                </a:cubicBezTo>
                <a:cubicBezTo>
                  <a:pt x="16314" y="13946"/>
                  <a:pt x="16451" y="13917"/>
                  <a:pt x="16594" y="13891"/>
                </a:cubicBezTo>
                <a:cubicBezTo>
                  <a:pt x="16712" y="13870"/>
                  <a:pt x="16826" y="13822"/>
                  <a:pt x="16942" y="13791"/>
                </a:cubicBezTo>
                <a:cubicBezTo>
                  <a:pt x="17066" y="13758"/>
                  <a:pt x="17193" y="13711"/>
                  <a:pt x="17314" y="13692"/>
                </a:cubicBezTo>
                <a:cubicBezTo>
                  <a:pt x="17389" y="13680"/>
                  <a:pt x="17464" y="13655"/>
                  <a:pt x="17537" y="13643"/>
                </a:cubicBezTo>
                <a:cubicBezTo>
                  <a:pt x="17578" y="13643"/>
                  <a:pt x="17586" y="13643"/>
                  <a:pt x="17611" y="13643"/>
                </a:cubicBezTo>
              </a:path>
              <a:path w="7095" h="3424">
                <a:moveTo>
                  <a:pt x="15528" y="14560"/>
                </a:moveTo>
                <a:cubicBezTo>
                  <a:pt x="15576" y="14477"/>
                  <a:pt x="15580" y="14497"/>
                  <a:pt x="15652" y="14461"/>
                </a:cubicBezTo>
                <a:cubicBezTo>
                  <a:pt x="15708" y="14433"/>
                  <a:pt x="15745" y="14407"/>
                  <a:pt x="15801" y="14387"/>
                </a:cubicBezTo>
                <a:cubicBezTo>
                  <a:pt x="15846" y="14371"/>
                  <a:pt x="15972" y="14288"/>
                  <a:pt x="16024" y="14337"/>
                </a:cubicBezTo>
                <a:cubicBezTo>
                  <a:pt x="16113" y="14420"/>
                  <a:pt x="16013" y="14481"/>
                  <a:pt x="15974" y="14536"/>
                </a:cubicBezTo>
                <a:cubicBezTo>
                  <a:pt x="15928" y="14600"/>
                  <a:pt x="15897" y="14670"/>
                  <a:pt x="15850" y="14734"/>
                </a:cubicBezTo>
                <a:cubicBezTo>
                  <a:pt x="15799" y="14803"/>
                  <a:pt x="15764" y="14881"/>
                  <a:pt x="15726" y="14957"/>
                </a:cubicBezTo>
                <a:cubicBezTo>
                  <a:pt x="15690" y="15029"/>
                  <a:pt x="15625" y="15091"/>
                  <a:pt x="15577" y="15156"/>
                </a:cubicBezTo>
                <a:cubicBezTo>
                  <a:pt x="15543" y="15202"/>
                  <a:pt x="15653" y="15152"/>
                  <a:pt x="15701" y="15131"/>
                </a:cubicBezTo>
                <a:cubicBezTo>
                  <a:pt x="15763" y="15104"/>
                  <a:pt x="15863" y="15092"/>
                  <a:pt x="15925" y="15081"/>
                </a:cubicBezTo>
                <a:cubicBezTo>
                  <a:pt x="15986" y="15070"/>
                  <a:pt x="16061" y="15081"/>
                  <a:pt x="16123" y="15081"/>
                </a:cubicBezTo>
              </a:path>
              <a:path w="7095" h="3424">
                <a:moveTo>
                  <a:pt x="16421" y="14461"/>
                </a:moveTo>
                <a:cubicBezTo>
                  <a:pt x="16447" y="14512"/>
                  <a:pt x="16460" y="14598"/>
                  <a:pt x="16470" y="14660"/>
                </a:cubicBezTo>
                <a:cubicBezTo>
                  <a:pt x="16479" y="14719"/>
                  <a:pt x="16485" y="14784"/>
                  <a:pt x="16495" y="14833"/>
                </a:cubicBezTo>
                <a:cubicBezTo>
                  <a:pt x="16495" y="14850"/>
                  <a:pt x="16495" y="14866"/>
                  <a:pt x="16495" y="14883"/>
                </a:cubicBezTo>
                <a:cubicBezTo>
                  <a:pt x="16484" y="14806"/>
                  <a:pt x="16470" y="14747"/>
                  <a:pt x="16470" y="14660"/>
                </a:cubicBezTo>
                <a:cubicBezTo>
                  <a:pt x="16470" y="14571"/>
                  <a:pt x="16480" y="14486"/>
                  <a:pt x="16495" y="14412"/>
                </a:cubicBezTo>
                <a:cubicBezTo>
                  <a:pt x="16509" y="14343"/>
                  <a:pt x="16488" y="14298"/>
                  <a:pt x="16520" y="14238"/>
                </a:cubicBezTo>
                <a:cubicBezTo>
                  <a:pt x="16559" y="14165"/>
                  <a:pt x="16581" y="14089"/>
                  <a:pt x="16644" y="14039"/>
                </a:cubicBezTo>
                <a:cubicBezTo>
                  <a:pt x="16726" y="13974"/>
                  <a:pt x="16741" y="13923"/>
                  <a:pt x="16842" y="13866"/>
                </a:cubicBezTo>
                <a:cubicBezTo>
                  <a:pt x="16910" y="13828"/>
                  <a:pt x="16974" y="13819"/>
                  <a:pt x="17041" y="13791"/>
                </a:cubicBezTo>
                <a:cubicBezTo>
                  <a:pt x="17088" y="13772"/>
                  <a:pt x="17107" y="13767"/>
                  <a:pt x="17165" y="13767"/>
                </a:cubicBezTo>
              </a:path>
              <a:path w="7095" h="3424">
                <a:moveTo>
                  <a:pt x="16917" y="14039"/>
                </a:moveTo>
                <a:cubicBezTo>
                  <a:pt x="16880" y="14114"/>
                  <a:pt x="16978" y="14010"/>
                  <a:pt x="17016" y="14015"/>
                </a:cubicBezTo>
                <a:cubicBezTo>
                  <a:pt x="17100" y="14026"/>
                  <a:pt x="17122" y="14069"/>
                  <a:pt x="17115" y="14114"/>
                </a:cubicBezTo>
                <a:cubicBezTo>
                  <a:pt x="17103" y="14198"/>
                  <a:pt x="17069" y="14291"/>
                  <a:pt x="17016" y="14362"/>
                </a:cubicBezTo>
                <a:cubicBezTo>
                  <a:pt x="16986" y="14401"/>
                  <a:pt x="16864" y="14477"/>
                  <a:pt x="16867" y="14536"/>
                </a:cubicBezTo>
                <a:cubicBezTo>
                  <a:pt x="16875" y="14552"/>
                  <a:pt x="16884" y="14569"/>
                  <a:pt x="16892" y="14585"/>
                </a:cubicBezTo>
                <a:cubicBezTo>
                  <a:pt x="16953" y="14555"/>
                  <a:pt x="17013" y="14540"/>
                  <a:pt x="17066" y="14511"/>
                </a:cubicBezTo>
                <a:cubicBezTo>
                  <a:pt x="17135" y="14474"/>
                  <a:pt x="17203" y="14474"/>
                  <a:pt x="17264" y="14511"/>
                </a:cubicBezTo>
              </a:path>
              <a:path w="7095" h="3424">
                <a:moveTo>
                  <a:pt x="17686" y="14114"/>
                </a:moveTo>
                <a:cubicBezTo>
                  <a:pt x="17717" y="14223"/>
                  <a:pt x="17745" y="14326"/>
                  <a:pt x="17760" y="14436"/>
                </a:cubicBezTo>
                <a:cubicBezTo>
                  <a:pt x="17760" y="14486"/>
                  <a:pt x="17760" y="14503"/>
                  <a:pt x="17760" y="14536"/>
                </a:cubicBezTo>
                <a:cubicBezTo>
                  <a:pt x="17751" y="14466"/>
                  <a:pt x="17735" y="14411"/>
                  <a:pt x="17735" y="14337"/>
                </a:cubicBezTo>
                <a:cubicBezTo>
                  <a:pt x="17735" y="14216"/>
                  <a:pt x="17745" y="14107"/>
                  <a:pt x="17760" y="13990"/>
                </a:cubicBezTo>
                <a:cubicBezTo>
                  <a:pt x="17771" y="13906"/>
                  <a:pt x="17778" y="13893"/>
                  <a:pt x="17810" y="13816"/>
                </a:cubicBezTo>
                <a:cubicBezTo>
                  <a:pt x="17863" y="13688"/>
                  <a:pt x="17885" y="13727"/>
                  <a:pt x="17983" y="13618"/>
                </a:cubicBezTo>
                <a:cubicBezTo>
                  <a:pt x="18045" y="13549"/>
                  <a:pt x="18093" y="13537"/>
                  <a:pt x="18182" y="13494"/>
                </a:cubicBezTo>
                <a:cubicBezTo>
                  <a:pt x="18244" y="13464"/>
                  <a:pt x="18337" y="13433"/>
                  <a:pt x="18405" y="13419"/>
                </a:cubicBezTo>
                <a:cubicBezTo>
                  <a:pt x="18455" y="13419"/>
                  <a:pt x="18471" y="13419"/>
                  <a:pt x="18504" y="13419"/>
                </a:cubicBezTo>
              </a:path>
              <a:path w="7095" h="3424">
                <a:moveTo>
                  <a:pt x="18107" y="13692"/>
                </a:moveTo>
                <a:cubicBezTo>
                  <a:pt x="18171" y="13683"/>
                  <a:pt x="18199" y="13633"/>
                  <a:pt x="18256" y="13618"/>
                </a:cubicBezTo>
                <a:cubicBezTo>
                  <a:pt x="18305" y="13605"/>
                  <a:pt x="18402" y="13572"/>
                  <a:pt x="18455" y="13593"/>
                </a:cubicBezTo>
                <a:cubicBezTo>
                  <a:pt x="18509" y="13614"/>
                  <a:pt x="18542" y="13692"/>
                  <a:pt x="18529" y="13742"/>
                </a:cubicBezTo>
                <a:cubicBezTo>
                  <a:pt x="18516" y="13790"/>
                  <a:pt x="18454" y="13866"/>
                  <a:pt x="18430" y="13915"/>
                </a:cubicBezTo>
                <a:cubicBezTo>
                  <a:pt x="18375" y="14026"/>
                  <a:pt x="18324" y="14036"/>
                  <a:pt x="18256" y="14114"/>
                </a:cubicBezTo>
                <a:cubicBezTo>
                  <a:pt x="18235" y="14138"/>
                  <a:pt x="18190" y="14254"/>
                  <a:pt x="18182" y="14288"/>
                </a:cubicBezTo>
                <a:cubicBezTo>
                  <a:pt x="18182" y="14304"/>
                  <a:pt x="18182" y="14321"/>
                  <a:pt x="18182" y="14337"/>
                </a:cubicBezTo>
                <a:cubicBezTo>
                  <a:pt x="18234" y="14358"/>
                  <a:pt x="18337" y="14343"/>
                  <a:pt x="18405" y="14312"/>
                </a:cubicBezTo>
                <a:cubicBezTo>
                  <a:pt x="18466" y="14284"/>
                  <a:pt x="18521" y="14285"/>
                  <a:pt x="18579" y="14263"/>
                </a:cubicBezTo>
                <a:cubicBezTo>
                  <a:pt x="18632" y="14242"/>
                  <a:pt x="18706" y="14217"/>
                  <a:pt x="18752" y="14188"/>
                </a:cubicBezTo>
              </a:path>
              <a:path w="7095" h="3424">
                <a:moveTo>
                  <a:pt x="17289" y="12998"/>
                </a:moveTo>
                <a:cubicBezTo>
                  <a:pt x="17289" y="13111"/>
                  <a:pt x="17292" y="13212"/>
                  <a:pt x="17314" y="13320"/>
                </a:cubicBezTo>
                <a:cubicBezTo>
                  <a:pt x="17329" y="13392"/>
                  <a:pt x="17351" y="13481"/>
                  <a:pt x="17363" y="13543"/>
                </a:cubicBezTo>
                <a:cubicBezTo>
                  <a:pt x="17363" y="13560"/>
                  <a:pt x="17363" y="13576"/>
                  <a:pt x="17363" y="13593"/>
                </a:cubicBezTo>
                <a:cubicBezTo>
                  <a:pt x="17340" y="13526"/>
                  <a:pt x="17318" y="13463"/>
                  <a:pt x="17314" y="13395"/>
                </a:cubicBezTo>
                <a:cubicBezTo>
                  <a:pt x="17310" y="13326"/>
                  <a:pt x="17293" y="13284"/>
                  <a:pt x="17289" y="13221"/>
                </a:cubicBezTo>
                <a:cubicBezTo>
                  <a:pt x="17281" y="13090"/>
                  <a:pt x="17264" y="12932"/>
                  <a:pt x="17338" y="12824"/>
                </a:cubicBezTo>
                <a:cubicBezTo>
                  <a:pt x="17370" y="12777"/>
                  <a:pt x="17419" y="12757"/>
                  <a:pt x="17462" y="12725"/>
                </a:cubicBezTo>
                <a:cubicBezTo>
                  <a:pt x="17510" y="12688"/>
                  <a:pt x="17582" y="12628"/>
                  <a:pt x="17636" y="12601"/>
                </a:cubicBezTo>
                <a:cubicBezTo>
                  <a:pt x="17711" y="12563"/>
                  <a:pt x="17805" y="12533"/>
                  <a:pt x="17884" y="12502"/>
                </a:cubicBezTo>
                <a:cubicBezTo>
                  <a:pt x="17980" y="12465"/>
                  <a:pt x="18062" y="12438"/>
                  <a:pt x="18157" y="12402"/>
                </a:cubicBezTo>
                <a:cubicBezTo>
                  <a:pt x="18215" y="12380"/>
                  <a:pt x="18243" y="12378"/>
                  <a:pt x="18306" y="12378"/>
                </a:cubicBezTo>
              </a:path>
              <a:path w="7095" h="3424">
                <a:moveTo>
                  <a:pt x="17835" y="12799"/>
                </a:moveTo>
                <a:cubicBezTo>
                  <a:pt x="17884" y="12749"/>
                  <a:pt x="17941" y="12721"/>
                  <a:pt x="18008" y="12700"/>
                </a:cubicBezTo>
                <a:cubicBezTo>
                  <a:pt x="18068" y="12681"/>
                  <a:pt x="18209" y="12659"/>
                  <a:pt x="18182" y="12774"/>
                </a:cubicBezTo>
                <a:cubicBezTo>
                  <a:pt x="18165" y="12846"/>
                  <a:pt x="18095" y="12876"/>
                  <a:pt x="18058" y="12923"/>
                </a:cubicBezTo>
                <a:cubicBezTo>
                  <a:pt x="18007" y="12987"/>
                  <a:pt x="17991" y="13060"/>
                  <a:pt x="17934" y="13122"/>
                </a:cubicBezTo>
                <a:cubicBezTo>
                  <a:pt x="17891" y="13168"/>
                  <a:pt x="17893" y="13156"/>
                  <a:pt x="17884" y="13221"/>
                </a:cubicBezTo>
                <a:cubicBezTo>
                  <a:pt x="17941" y="13221"/>
                  <a:pt x="18011" y="13220"/>
                  <a:pt x="18058" y="13196"/>
                </a:cubicBezTo>
                <a:cubicBezTo>
                  <a:pt x="18113" y="13168"/>
                  <a:pt x="18193" y="13150"/>
                  <a:pt x="18256" y="13146"/>
                </a:cubicBezTo>
                <a:cubicBezTo>
                  <a:pt x="18297" y="13144"/>
                  <a:pt x="18339" y="13146"/>
                  <a:pt x="18380" y="13146"/>
                </a:cubicBezTo>
              </a:path>
              <a:path w="7095" h="3424">
                <a:moveTo>
                  <a:pt x="19000" y="13072"/>
                </a:moveTo>
                <a:cubicBezTo>
                  <a:pt x="19068" y="13072"/>
                  <a:pt x="19163" y="13069"/>
                  <a:pt x="19224" y="13097"/>
                </a:cubicBezTo>
                <a:cubicBezTo>
                  <a:pt x="19232" y="13105"/>
                  <a:pt x="19240" y="13114"/>
                  <a:pt x="19248" y="13122"/>
                </a:cubicBezTo>
              </a:path>
              <a:path w="7095" h="3424">
                <a:moveTo>
                  <a:pt x="19025" y="13444"/>
                </a:moveTo>
                <a:cubicBezTo>
                  <a:pt x="19083" y="13436"/>
                  <a:pt x="19151" y="13429"/>
                  <a:pt x="19199" y="13395"/>
                </a:cubicBezTo>
                <a:cubicBezTo>
                  <a:pt x="19262" y="13350"/>
                  <a:pt x="19304" y="13404"/>
                  <a:pt x="19348" y="13395"/>
                </a:cubicBezTo>
                <a:cubicBezTo>
                  <a:pt x="19356" y="13387"/>
                  <a:pt x="19364" y="13378"/>
                  <a:pt x="19372" y="13370"/>
                </a:cubicBezTo>
              </a:path>
              <a:path w="7095" h="3424">
                <a:moveTo>
                  <a:pt x="19993" y="12303"/>
                </a:moveTo>
                <a:cubicBezTo>
                  <a:pt x="20024" y="12249"/>
                  <a:pt x="20059" y="12206"/>
                  <a:pt x="20117" y="12179"/>
                </a:cubicBezTo>
                <a:cubicBezTo>
                  <a:pt x="20190" y="12146"/>
                  <a:pt x="20266" y="12126"/>
                  <a:pt x="20340" y="12105"/>
                </a:cubicBezTo>
                <a:cubicBezTo>
                  <a:pt x="20424" y="12084"/>
                  <a:pt x="20443" y="12069"/>
                  <a:pt x="20489" y="12105"/>
                </a:cubicBezTo>
                <a:cubicBezTo>
                  <a:pt x="20489" y="12170"/>
                  <a:pt x="20493" y="12254"/>
                  <a:pt x="20439" y="12303"/>
                </a:cubicBezTo>
                <a:cubicBezTo>
                  <a:pt x="20393" y="12345"/>
                  <a:pt x="20329" y="12373"/>
                  <a:pt x="20290" y="12427"/>
                </a:cubicBezTo>
                <a:cubicBezTo>
                  <a:pt x="20242" y="12493"/>
                  <a:pt x="20224" y="12505"/>
                  <a:pt x="20166" y="12551"/>
                </a:cubicBezTo>
                <a:cubicBezTo>
                  <a:pt x="20221" y="12520"/>
                  <a:pt x="20260" y="12481"/>
                  <a:pt x="20315" y="12452"/>
                </a:cubicBezTo>
                <a:cubicBezTo>
                  <a:pt x="20382" y="12416"/>
                  <a:pt x="20429" y="12419"/>
                  <a:pt x="20489" y="12452"/>
                </a:cubicBezTo>
                <a:cubicBezTo>
                  <a:pt x="20576" y="12499"/>
                  <a:pt x="20594" y="12559"/>
                  <a:pt x="20563" y="12650"/>
                </a:cubicBezTo>
                <a:cubicBezTo>
                  <a:pt x="20536" y="12730"/>
                  <a:pt x="20505" y="12795"/>
                  <a:pt x="20439" y="12849"/>
                </a:cubicBezTo>
                <a:cubicBezTo>
                  <a:pt x="20375" y="12902"/>
                  <a:pt x="20324" y="13007"/>
                  <a:pt x="20241" y="12998"/>
                </a:cubicBezTo>
                <a:cubicBezTo>
                  <a:pt x="20216" y="12973"/>
                  <a:pt x="20208" y="12965"/>
                  <a:pt x="20241" y="12948"/>
                </a:cubicBezTo>
              </a:path>
              <a:path w="7095" h="3424">
                <a:moveTo>
                  <a:pt x="20811" y="12204"/>
                </a:moveTo>
                <a:cubicBezTo>
                  <a:pt x="20811" y="12298"/>
                  <a:pt x="20791" y="12365"/>
                  <a:pt x="20786" y="12452"/>
                </a:cubicBezTo>
                <a:cubicBezTo>
                  <a:pt x="20781" y="12535"/>
                  <a:pt x="20771" y="12633"/>
                  <a:pt x="20811" y="12700"/>
                </a:cubicBezTo>
                <a:cubicBezTo>
                  <a:pt x="20811" y="12491"/>
                  <a:pt x="20802" y="12280"/>
                  <a:pt x="20836" y="12080"/>
                </a:cubicBezTo>
                <a:cubicBezTo>
                  <a:pt x="20847" y="12013"/>
                  <a:pt x="20874" y="11991"/>
                  <a:pt x="20910" y="11931"/>
                </a:cubicBezTo>
                <a:cubicBezTo>
                  <a:pt x="20940" y="11881"/>
                  <a:pt x="21002" y="11828"/>
                  <a:pt x="21059" y="11807"/>
                </a:cubicBezTo>
                <a:cubicBezTo>
                  <a:pt x="21130" y="11781"/>
                  <a:pt x="21233" y="11761"/>
                  <a:pt x="21307" y="11757"/>
                </a:cubicBezTo>
                <a:cubicBezTo>
                  <a:pt x="21348" y="11755"/>
                  <a:pt x="21390" y="11757"/>
                  <a:pt x="21431" y="11757"/>
                </a:cubicBezTo>
              </a:path>
              <a:path w="7095" h="3424">
                <a:moveTo>
                  <a:pt x="21134" y="12055"/>
                </a:moveTo>
                <a:cubicBezTo>
                  <a:pt x="21173" y="12014"/>
                  <a:pt x="21217" y="11993"/>
                  <a:pt x="21258" y="11956"/>
                </a:cubicBezTo>
                <a:cubicBezTo>
                  <a:pt x="21287" y="11929"/>
                  <a:pt x="21348" y="11876"/>
                  <a:pt x="21382" y="11881"/>
                </a:cubicBezTo>
                <a:cubicBezTo>
                  <a:pt x="21482" y="11894"/>
                  <a:pt x="21542" y="11995"/>
                  <a:pt x="21555" y="12080"/>
                </a:cubicBezTo>
                <a:cubicBezTo>
                  <a:pt x="21564" y="12138"/>
                  <a:pt x="21529" y="12225"/>
                  <a:pt x="21506" y="12278"/>
                </a:cubicBezTo>
                <a:cubicBezTo>
                  <a:pt x="21460" y="12382"/>
                  <a:pt x="21414" y="12483"/>
                  <a:pt x="21332" y="12551"/>
                </a:cubicBezTo>
                <a:cubicBezTo>
                  <a:pt x="21286" y="12590"/>
                  <a:pt x="21230" y="12588"/>
                  <a:pt x="21183" y="12551"/>
                </a:cubicBezTo>
                <a:cubicBezTo>
                  <a:pt x="21122" y="12502"/>
                  <a:pt x="21171" y="12442"/>
                  <a:pt x="21233" y="12427"/>
                </a:cubicBezTo>
                <a:cubicBezTo>
                  <a:pt x="21303" y="12410"/>
                  <a:pt x="21346" y="12395"/>
                  <a:pt x="21406" y="12427"/>
                </a:cubicBezTo>
                <a:cubicBezTo>
                  <a:pt x="21451" y="12451"/>
                  <a:pt x="21471" y="12467"/>
                  <a:pt x="21506" y="12502"/>
                </a:cubicBezTo>
              </a:path>
              <a:path w="7095" h="3424">
                <a:moveTo>
                  <a:pt x="20265" y="12923"/>
                </a:moveTo>
                <a:cubicBezTo>
                  <a:pt x="20374" y="12914"/>
                  <a:pt x="20484" y="12906"/>
                  <a:pt x="20588" y="12874"/>
                </a:cubicBezTo>
                <a:cubicBezTo>
                  <a:pt x="20695" y="12841"/>
                  <a:pt x="20801" y="12803"/>
                  <a:pt x="20910" y="12774"/>
                </a:cubicBezTo>
                <a:cubicBezTo>
                  <a:pt x="21024" y="12744"/>
                  <a:pt x="21166" y="12714"/>
                  <a:pt x="21282" y="12700"/>
                </a:cubicBezTo>
                <a:cubicBezTo>
                  <a:pt x="21383" y="12688"/>
                  <a:pt x="21478" y="12675"/>
                  <a:pt x="21580" y="12675"/>
                </a:cubicBezTo>
                <a:cubicBezTo>
                  <a:pt x="21640" y="12675"/>
                  <a:pt x="21642" y="12674"/>
                  <a:pt x="21654" y="12725"/>
                </a:cubicBezTo>
              </a:path>
              <a:path w="7095" h="3424">
                <a:moveTo>
                  <a:pt x="20687" y="13122"/>
                </a:moveTo>
                <a:cubicBezTo>
                  <a:pt x="20649" y="13217"/>
                  <a:pt x="20624" y="13272"/>
                  <a:pt x="20563" y="13345"/>
                </a:cubicBezTo>
                <a:cubicBezTo>
                  <a:pt x="20530" y="13384"/>
                  <a:pt x="20512" y="13423"/>
                  <a:pt x="20489" y="13469"/>
                </a:cubicBezTo>
                <a:cubicBezTo>
                  <a:pt x="20548" y="13435"/>
                  <a:pt x="20605" y="13402"/>
                  <a:pt x="20662" y="13370"/>
                </a:cubicBezTo>
                <a:cubicBezTo>
                  <a:pt x="20708" y="13344"/>
                  <a:pt x="20792" y="13329"/>
                  <a:pt x="20836" y="13320"/>
                </a:cubicBezTo>
                <a:cubicBezTo>
                  <a:pt x="20889" y="13309"/>
                  <a:pt x="20906" y="13303"/>
                  <a:pt x="20960" y="13295"/>
                </a:cubicBezTo>
              </a:path>
              <a:path w="7095" h="3424">
                <a:moveTo>
                  <a:pt x="20960" y="12898"/>
                </a:moveTo>
                <a:cubicBezTo>
                  <a:pt x="20914" y="12967"/>
                  <a:pt x="20894" y="13062"/>
                  <a:pt x="20886" y="13146"/>
                </a:cubicBezTo>
                <a:cubicBezTo>
                  <a:pt x="20871" y="13312"/>
                  <a:pt x="20824" y="13431"/>
                  <a:pt x="20762" y="13593"/>
                </a:cubicBezTo>
                <a:cubicBezTo>
                  <a:pt x="20698" y="13758"/>
                  <a:pt x="20657" y="13941"/>
                  <a:pt x="20613" y="14114"/>
                </a:cubicBezTo>
                <a:cubicBezTo>
                  <a:pt x="20591" y="14222"/>
                  <a:pt x="20588" y="14248"/>
                  <a:pt x="20563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Ink 12"/>
          <p:cNvSpPr/>
          <p:nvPr/>
        </p:nvSpPr>
        <p:spPr>
          <a:xfrm>
            <a:off x="1527120" y="5813280"/>
            <a:ext cx="571680" cy="374760"/>
          </a:xfrm>
          <a:custGeom>
            <a:avLst/>
            <a:gdLst/>
            <a:ahLst/>
            <a:rect l="l" t="t" r="r" b="b"/>
            <a:pathLst>
              <a:path w="1588" h="1043">
                <a:moveTo>
                  <a:pt x="4316" y="16148"/>
                </a:moveTo>
                <a:cubicBezTo>
                  <a:pt x="4310" y="16330"/>
                  <a:pt x="4305" y="16512"/>
                  <a:pt x="4291" y="16694"/>
                </a:cubicBezTo>
                <a:cubicBezTo>
                  <a:pt x="4279" y="16851"/>
                  <a:pt x="4273" y="17016"/>
                  <a:pt x="4242" y="17165"/>
                </a:cubicBezTo>
                <a:cubicBezTo>
                  <a:pt x="4242" y="17173"/>
                  <a:pt x="4242" y="17182"/>
                  <a:pt x="4242" y="17190"/>
                </a:cubicBezTo>
              </a:path>
              <a:path w="1588" h="1043">
                <a:moveTo>
                  <a:pt x="4986" y="16743"/>
                </a:moveTo>
                <a:cubicBezTo>
                  <a:pt x="4977" y="16682"/>
                  <a:pt x="4956" y="16644"/>
                  <a:pt x="4911" y="16594"/>
                </a:cubicBezTo>
                <a:cubicBezTo>
                  <a:pt x="4881" y="16561"/>
                  <a:pt x="4794" y="16603"/>
                  <a:pt x="4762" y="16644"/>
                </a:cubicBezTo>
                <a:cubicBezTo>
                  <a:pt x="4725" y="16692"/>
                  <a:pt x="4682" y="16762"/>
                  <a:pt x="4738" y="16818"/>
                </a:cubicBezTo>
                <a:cubicBezTo>
                  <a:pt x="4801" y="16881"/>
                  <a:pt x="4867" y="16812"/>
                  <a:pt x="4911" y="16768"/>
                </a:cubicBezTo>
                <a:cubicBezTo>
                  <a:pt x="4944" y="16735"/>
                  <a:pt x="4978" y="16702"/>
                  <a:pt x="5011" y="16669"/>
                </a:cubicBezTo>
                <a:cubicBezTo>
                  <a:pt x="5003" y="16736"/>
                  <a:pt x="4961" y="16823"/>
                  <a:pt x="4986" y="16892"/>
                </a:cubicBezTo>
                <a:cubicBezTo>
                  <a:pt x="5016" y="16976"/>
                  <a:pt x="5045" y="16977"/>
                  <a:pt x="5110" y="16966"/>
                </a:cubicBezTo>
                <a:cubicBezTo>
                  <a:pt x="5118" y="16966"/>
                  <a:pt x="5127" y="16966"/>
                  <a:pt x="5135" y="16966"/>
                </a:cubicBezTo>
              </a:path>
              <a:path w="1588" h="1043">
                <a:moveTo>
                  <a:pt x="5308" y="16694"/>
                </a:moveTo>
                <a:cubicBezTo>
                  <a:pt x="5279" y="16751"/>
                  <a:pt x="5267" y="16823"/>
                  <a:pt x="5259" y="16892"/>
                </a:cubicBezTo>
                <a:cubicBezTo>
                  <a:pt x="5313" y="16911"/>
                  <a:pt x="5285" y="16809"/>
                  <a:pt x="5333" y="16743"/>
                </a:cubicBezTo>
                <a:cubicBezTo>
                  <a:pt x="5379" y="16680"/>
                  <a:pt x="5460" y="16580"/>
                  <a:pt x="5531" y="16619"/>
                </a:cubicBezTo>
                <a:cubicBezTo>
                  <a:pt x="5625" y="16670"/>
                  <a:pt x="5665" y="16770"/>
                  <a:pt x="5705" y="16867"/>
                </a:cubicBezTo>
                <a:cubicBezTo>
                  <a:pt x="5737" y="16945"/>
                  <a:pt x="5760" y="17055"/>
                  <a:pt x="5804" y="17115"/>
                </a:cubicBezTo>
                <a:cubicBezTo>
                  <a:pt x="5812" y="17123"/>
                  <a:pt x="5821" y="17132"/>
                  <a:pt x="5829" y="171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Ink 13"/>
          <p:cNvSpPr/>
          <p:nvPr/>
        </p:nvSpPr>
        <p:spPr>
          <a:xfrm>
            <a:off x="5473800" y="5589720"/>
            <a:ext cx="965160" cy="590400"/>
          </a:xfrm>
          <a:custGeom>
            <a:avLst/>
            <a:gdLst/>
            <a:ahLst/>
            <a:rect l="l" t="t" r="r" b="b"/>
            <a:pathLst>
              <a:path w="2680" h="1638">
                <a:moveTo>
                  <a:pt x="15205" y="16694"/>
                </a:moveTo>
                <a:cubicBezTo>
                  <a:pt x="15266" y="16694"/>
                  <a:pt x="15351" y="16693"/>
                  <a:pt x="15404" y="16718"/>
                </a:cubicBezTo>
                <a:cubicBezTo>
                  <a:pt x="15432" y="16746"/>
                  <a:pt x="15445" y="16755"/>
                  <a:pt x="15478" y="16743"/>
                </a:cubicBezTo>
              </a:path>
              <a:path w="2680" h="1638">
                <a:moveTo>
                  <a:pt x="15453" y="16991"/>
                </a:moveTo>
                <a:cubicBezTo>
                  <a:pt x="15497" y="16965"/>
                  <a:pt x="15548" y="16952"/>
                  <a:pt x="15602" y="16942"/>
                </a:cubicBezTo>
              </a:path>
              <a:path w="2680" h="1638">
                <a:moveTo>
                  <a:pt x="16297" y="16148"/>
                </a:moveTo>
                <a:cubicBezTo>
                  <a:pt x="16266" y="16096"/>
                  <a:pt x="16256" y="16051"/>
                  <a:pt x="16297" y="15999"/>
                </a:cubicBezTo>
                <a:cubicBezTo>
                  <a:pt x="16330" y="15957"/>
                  <a:pt x="16351" y="15877"/>
                  <a:pt x="16421" y="15900"/>
                </a:cubicBezTo>
                <a:cubicBezTo>
                  <a:pt x="16485" y="15921"/>
                  <a:pt x="16492" y="15999"/>
                  <a:pt x="16495" y="16049"/>
                </a:cubicBezTo>
                <a:cubicBezTo>
                  <a:pt x="16498" y="16101"/>
                  <a:pt x="16474" y="16227"/>
                  <a:pt x="16446" y="16272"/>
                </a:cubicBezTo>
                <a:cubicBezTo>
                  <a:pt x="16401" y="16345"/>
                  <a:pt x="16369" y="16452"/>
                  <a:pt x="16321" y="16520"/>
                </a:cubicBezTo>
                <a:cubicBezTo>
                  <a:pt x="16272" y="16590"/>
                  <a:pt x="16212" y="16692"/>
                  <a:pt x="16148" y="16743"/>
                </a:cubicBezTo>
                <a:cubicBezTo>
                  <a:pt x="16119" y="16766"/>
                  <a:pt x="16033" y="16833"/>
                  <a:pt x="15999" y="16842"/>
                </a:cubicBezTo>
                <a:cubicBezTo>
                  <a:pt x="15944" y="16856"/>
                  <a:pt x="15913" y="16823"/>
                  <a:pt x="15875" y="16793"/>
                </a:cubicBezTo>
                <a:cubicBezTo>
                  <a:pt x="15922" y="16727"/>
                  <a:pt x="15980" y="16689"/>
                  <a:pt x="16073" y="16718"/>
                </a:cubicBezTo>
                <a:cubicBezTo>
                  <a:pt x="16128" y="16735"/>
                  <a:pt x="16194" y="16794"/>
                  <a:pt x="16222" y="16842"/>
                </a:cubicBezTo>
                <a:cubicBezTo>
                  <a:pt x="16274" y="16931"/>
                  <a:pt x="16281" y="17034"/>
                  <a:pt x="16321" y="17115"/>
                </a:cubicBezTo>
                <a:cubicBezTo>
                  <a:pt x="16329" y="17132"/>
                  <a:pt x="16338" y="17148"/>
                  <a:pt x="16346" y="17165"/>
                </a:cubicBezTo>
              </a:path>
              <a:path w="2680" h="1638">
                <a:moveTo>
                  <a:pt x="16619" y="16197"/>
                </a:moveTo>
                <a:cubicBezTo>
                  <a:pt x="16668" y="16262"/>
                  <a:pt x="16648" y="16270"/>
                  <a:pt x="16669" y="16346"/>
                </a:cubicBezTo>
                <a:cubicBezTo>
                  <a:pt x="16693" y="16431"/>
                  <a:pt x="16694" y="16503"/>
                  <a:pt x="16694" y="16594"/>
                </a:cubicBezTo>
                <a:cubicBezTo>
                  <a:pt x="16694" y="16675"/>
                  <a:pt x="16718" y="16736"/>
                  <a:pt x="16718" y="16818"/>
                </a:cubicBezTo>
                <a:cubicBezTo>
                  <a:pt x="16718" y="16927"/>
                  <a:pt x="16718" y="16927"/>
                  <a:pt x="16718" y="16818"/>
                </a:cubicBezTo>
                <a:cubicBezTo>
                  <a:pt x="16718" y="16723"/>
                  <a:pt x="16698" y="16639"/>
                  <a:pt x="16694" y="16545"/>
                </a:cubicBezTo>
                <a:cubicBezTo>
                  <a:pt x="16689" y="16438"/>
                  <a:pt x="16707" y="16349"/>
                  <a:pt x="16718" y="16247"/>
                </a:cubicBezTo>
                <a:cubicBezTo>
                  <a:pt x="16731" y="16127"/>
                  <a:pt x="16711" y="16075"/>
                  <a:pt x="16793" y="15974"/>
                </a:cubicBezTo>
                <a:cubicBezTo>
                  <a:pt x="16833" y="15925"/>
                  <a:pt x="16887" y="15850"/>
                  <a:pt x="16942" y="15825"/>
                </a:cubicBezTo>
                <a:cubicBezTo>
                  <a:pt x="17055" y="15774"/>
                  <a:pt x="17172" y="15719"/>
                  <a:pt x="17289" y="15677"/>
                </a:cubicBezTo>
                <a:cubicBezTo>
                  <a:pt x="17414" y="15632"/>
                  <a:pt x="17514" y="15612"/>
                  <a:pt x="17636" y="15577"/>
                </a:cubicBezTo>
                <a:cubicBezTo>
                  <a:pt x="17710" y="15556"/>
                  <a:pt x="17794" y="15544"/>
                  <a:pt x="17859" y="15528"/>
                </a:cubicBezTo>
              </a:path>
              <a:path w="2680" h="1638">
                <a:moveTo>
                  <a:pt x="17239" y="15875"/>
                </a:moveTo>
                <a:cubicBezTo>
                  <a:pt x="17216" y="15828"/>
                  <a:pt x="17245" y="15800"/>
                  <a:pt x="17289" y="15751"/>
                </a:cubicBezTo>
                <a:cubicBezTo>
                  <a:pt x="17328" y="15708"/>
                  <a:pt x="17403" y="15627"/>
                  <a:pt x="17462" y="15627"/>
                </a:cubicBezTo>
                <a:cubicBezTo>
                  <a:pt x="17498" y="15627"/>
                  <a:pt x="17557" y="15670"/>
                  <a:pt x="17587" y="15701"/>
                </a:cubicBezTo>
                <a:cubicBezTo>
                  <a:pt x="17650" y="15764"/>
                  <a:pt x="17636" y="15811"/>
                  <a:pt x="17636" y="15900"/>
                </a:cubicBezTo>
                <a:cubicBezTo>
                  <a:pt x="17636" y="15989"/>
                  <a:pt x="17655" y="16095"/>
                  <a:pt x="17611" y="16173"/>
                </a:cubicBezTo>
                <a:cubicBezTo>
                  <a:pt x="17562" y="16259"/>
                  <a:pt x="17528" y="16355"/>
                  <a:pt x="17487" y="16446"/>
                </a:cubicBezTo>
                <a:cubicBezTo>
                  <a:pt x="17458" y="16510"/>
                  <a:pt x="17464" y="16544"/>
                  <a:pt x="17413" y="16594"/>
                </a:cubicBezTo>
                <a:cubicBezTo>
                  <a:pt x="17362" y="16645"/>
                  <a:pt x="17346" y="16700"/>
                  <a:pt x="17264" y="16718"/>
                </a:cubicBezTo>
                <a:cubicBezTo>
                  <a:pt x="17216" y="16728"/>
                  <a:pt x="17109" y="16734"/>
                  <a:pt x="17090" y="16669"/>
                </a:cubicBezTo>
                <a:cubicBezTo>
                  <a:pt x="17071" y="16604"/>
                  <a:pt x="17068" y="16535"/>
                  <a:pt x="17090" y="16470"/>
                </a:cubicBezTo>
                <a:cubicBezTo>
                  <a:pt x="17122" y="16373"/>
                  <a:pt x="17165" y="16351"/>
                  <a:pt x="17264" y="16346"/>
                </a:cubicBezTo>
                <a:cubicBezTo>
                  <a:pt x="17401" y="16339"/>
                  <a:pt x="17529" y="16353"/>
                  <a:pt x="17661" y="16371"/>
                </a:cubicBezTo>
                <a:cubicBezTo>
                  <a:pt x="17724" y="16380"/>
                  <a:pt x="17805" y="16380"/>
                  <a:pt x="17859" y="16346"/>
                </a:cubicBezTo>
                <a:cubicBezTo>
                  <a:pt x="17867" y="16338"/>
                  <a:pt x="17876" y="16329"/>
                  <a:pt x="17884" y="163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Ink 14"/>
          <p:cNvSpPr/>
          <p:nvPr/>
        </p:nvSpPr>
        <p:spPr>
          <a:xfrm>
            <a:off x="615960" y="241200"/>
            <a:ext cx="366840" cy="741600"/>
          </a:xfrm>
          <a:custGeom>
            <a:avLst/>
            <a:gdLst/>
            <a:ahLst/>
            <a:rect l="l" t="t" r="r" b="b"/>
            <a:pathLst>
              <a:path w="1018" h="2060">
                <a:moveTo>
                  <a:pt x="2034" y="2158"/>
                </a:moveTo>
                <a:cubicBezTo>
                  <a:pt x="2006" y="2231"/>
                  <a:pt x="2002" y="2305"/>
                  <a:pt x="1984" y="2381"/>
                </a:cubicBezTo>
                <a:cubicBezTo>
                  <a:pt x="1968" y="2446"/>
                  <a:pt x="1920" y="2563"/>
                  <a:pt x="1935" y="2629"/>
                </a:cubicBezTo>
                <a:cubicBezTo>
                  <a:pt x="1951" y="2701"/>
                  <a:pt x="1991" y="2720"/>
                  <a:pt x="2034" y="2704"/>
                </a:cubicBezTo>
                <a:cubicBezTo>
                  <a:pt x="2119" y="2672"/>
                  <a:pt x="2186" y="2655"/>
                  <a:pt x="2208" y="2555"/>
                </a:cubicBezTo>
                <a:cubicBezTo>
                  <a:pt x="2223" y="2486"/>
                  <a:pt x="2249" y="2422"/>
                  <a:pt x="2208" y="2356"/>
                </a:cubicBezTo>
                <a:cubicBezTo>
                  <a:pt x="2164" y="2284"/>
                  <a:pt x="2167" y="2253"/>
                  <a:pt x="2059" y="2232"/>
                </a:cubicBezTo>
                <a:cubicBezTo>
                  <a:pt x="1977" y="2216"/>
                  <a:pt x="1886" y="2232"/>
                  <a:pt x="1811" y="2257"/>
                </a:cubicBezTo>
              </a:path>
              <a:path w="1018" h="2060">
                <a:moveTo>
                  <a:pt x="1712" y="2456"/>
                </a:moveTo>
                <a:cubicBezTo>
                  <a:pt x="1849" y="2477"/>
                  <a:pt x="1973" y="2483"/>
                  <a:pt x="2108" y="2456"/>
                </a:cubicBezTo>
                <a:cubicBezTo>
                  <a:pt x="2198" y="2438"/>
                  <a:pt x="2293" y="2428"/>
                  <a:pt x="2381" y="2406"/>
                </a:cubicBezTo>
                <a:cubicBezTo>
                  <a:pt x="2471" y="2384"/>
                  <a:pt x="2562" y="2361"/>
                  <a:pt x="2654" y="2356"/>
                </a:cubicBezTo>
                <a:cubicBezTo>
                  <a:pt x="2696" y="2356"/>
                  <a:pt x="2704" y="2356"/>
                  <a:pt x="2729" y="2356"/>
                </a:cubicBezTo>
              </a:path>
              <a:path w="1018" h="2060">
                <a:moveTo>
                  <a:pt x="2208" y="819"/>
                </a:moveTo>
                <a:cubicBezTo>
                  <a:pt x="2257" y="755"/>
                  <a:pt x="2281" y="732"/>
                  <a:pt x="2356" y="695"/>
                </a:cubicBezTo>
                <a:cubicBezTo>
                  <a:pt x="2411" y="667"/>
                  <a:pt x="2434" y="659"/>
                  <a:pt x="2480" y="670"/>
                </a:cubicBezTo>
                <a:cubicBezTo>
                  <a:pt x="2500" y="749"/>
                  <a:pt x="2494" y="823"/>
                  <a:pt x="2431" y="893"/>
                </a:cubicBezTo>
                <a:cubicBezTo>
                  <a:pt x="2401" y="923"/>
                  <a:pt x="2390" y="937"/>
                  <a:pt x="2381" y="967"/>
                </a:cubicBezTo>
                <a:cubicBezTo>
                  <a:pt x="2446" y="936"/>
                  <a:pt x="2493" y="934"/>
                  <a:pt x="2555" y="967"/>
                </a:cubicBezTo>
                <a:cubicBezTo>
                  <a:pt x="2650" y="1018"/>
                  <a:pt x="2649" y="1028"/>
                  <a:pt x="2654" y="1141"/>
                </a:cubicBezTo>
                <a:cubicBezTo>
                  <a:pt x="2657" y="1213"/>
                  <a:pt x="2602" y="1243"/>
                  <a:pt x="2555" y="1290"/>
                </a:cubicBezTo>
                <a:cubicBezTo>
                  <a:pt x="2495" y="1350"/>
                  <a:pt x="2440" y="1384"/>
                  <a:pt x="2356" y="1389"/>
                </a:cubicBezTo>
                <a:cubicBezTo>
                  <a:pt x="2340" y="1389"/>
                  <a:pt x="2323" y="1389"/>
                  <a:pt x="2307" y="13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Ink 15"/>
          <p:cNvSpPr/>
          <p:nvPr/>
        </p:nvSpPr>
        <p:spPr>
          <a:xfrm>
            <a:off x="1714680" y="795240"/>
            <a:ext cx="152280" cy="196920"/>
          </a:xfrm>
          <a:custGeom>
            <a:avLst/>
            <a:gdLst/>
            <a:ahLst/>
            <a:rect l="l" t="t" r="r" b="b"/>
            <a:pathLst>
              <a:path w="423" h="546">
                <a:moveTo>
                  <a:pt x="5184" y="2208"/>
                </a:moveTo>
                <a:cubicBezTo>
                  <a:pt x="5121" y="2239"/>
                  <a:pt x="5045" y="2271"/>
                  <a:pt x="4986" y="2282"/>
                </a:cubicBezTo>
                <a:cubicBezTo>
                  <a:pt x="4942" y="2290"/>
                  <a:pt x="4825" y="2319"/>
                  <a:pt x="4787" y="2307"/>
                </a:cubicBezTo>
                <a:cubicBezTo>
                  <a:pt x="4779" y="2299"/>
                  <a:pt x="4770" y="2290"/>
                  <a:pt x="4762" y="2282"/>
                </a:cubicBezTo>
                <a:cubicBezTo>
                  <a:pt x="4785" y="2372"/>
                  <a:pt x="4798" y="2467"/>
                  <a:pt x="4812" y="2555"/>
                </a:cubicBezTo>
                <a:cubicBezTo>
                  <a:pt x="4822" y="2617"/>
                  <a:pt x="4787" y="2686"/>
                  <a:pt x="4787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Ink 16"/>
          <p:cNvSpPr/>
          <p:nvPr/>
        </p:nvSpPr>
        <p:spPr>
          <a:xfrm>
            <a:off x="2017800" y="357120"/>
            <a:ext cx="27000" cy="268200"/>
          </a:xfrm>
          <a:custGeom>
            <a:avLst/>
            <a:gdLst/>
            <a:ahLst/>
            <a:rect l="l" t="t" r="r" b="b"/>
            <a:pathLst>
              <a:path w="75" h="745">
                <a:moveTo>
                  <a:pt x="5606" y="992"/>
                </a:moveTo>
                <a:cubicBezTo>
                  <a:pt x="5629" y="1068"/>
                  <a:pt x="5645" y="1161"/>
                  <a:pt x="5655" y="1240"/>
                </a:cubicBezTo>
                <a:cubicBezTo>
                  <a:pt x="5665" y="1322"/>
                  <a:pt x="5676" y="1408"/>
                  <a:pt x="5680" y="1488"/>
                </a:cubicBezTo>
                <a:cubicBezTo>
                  <a:pt x="5685" y="1578"/>
                  <a:pt x="5679" y="1650"/>
                  <a:pt x="5655" y="17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Ink 17"/>
          <p:cNvSpPr/>
          <p:nvPr/>
        </p:nvSpPr>
        <p:spPr>
          <a:xfrm>
            <a:off x="2697120" y="125280"/>
            <a:ext cx="1357200" cy="357480"/>
          </a:xfrm>
          <a:custGeom>
            <a:avLst/>
            <a:gdLst/>
            <a:ahLst/>
            <a:rect l="l" t="t" r="r" b="b"/>
            <a:pathLst>
              <a:path w="3771" h="993">
                <a:moveTo>
                  <a:pt x="7491" y="595"/>
                </a:moveTo>
                <a:cubicBezTo>
                  <a:pt x="7531" y="704"/>
                  <a:pt x="7524" y="780"/>
                  <a:pt x="7541" y="893"/>
                </a:cubicBezTo>
                <a:cubicBezTo>
                  <a:pt x="7558" y="1010"/>
                  <a:pt x="7565" y="1121"/>
                  <a:pt x="7565" y="1240"/>
                </a:cubicBezTo>
                <a:cubicBezTo>
                  <a:pt x="7565" y="1303"/>
                  <a:pt x="7531" y="1401"/>
                  <a:pt x="7590" y="1265"/>
                </a:cubicBezTo>
              </a:path>
              <a:path w="3771" h="993">
                <a:moveTo>
                  <a:pt x="7764" y="471"/>
                </a:moveTo>
                <a:cubicBezTo>
                  <a:pt x="7854" y="407"/>
                  <a:pt x="7866" y="384"/>
                  <a:pt x="7962" y="372"/>
                </a:cubicBezTo>
                <a:cubicBezTo>
                  <a:pt x="7986" y="514"/>
                  <a:pt x="7941" y="530"/>
                  <a:pt x="7863" y="645"/>
                </a:cubicBezTo>
                <a:cubicBezTo>
                  <a:pt x="7825" y="701"/>
                  <a:pt x="7798" y="731"/>
                  <a:pt x="7789" y="794"/>
                </a:cubicBezTo>
                <a:cubicBezTo>
                  <a:pt x="7851" y="786"/>
                  <a:pt x="7910" y="754"/>
                  <a:pt x="7962" y="744"/>
                </a:cubicBezTo>
                <a:cubicBezTo>
                  <a:pt x="8014" y="744"/>
                  <a:pt x="8032" y="745"/>
                  <a:pt x="8062" y="769"/>
                </a:cubicBezTo>
              </a:path>
              <a:path w="3771" h="993">
                <a:moveTo>
                  <a:pt x="8334" y="695"/>
                </a:moveTo>
                <a:cubicBezTo>
                  <a:pt x="8334" y="820"/>
                  <a:pt x="8376" y="1029"/>
                  <a:pt x="8359" y="1141"/>
                </a:cubicBezTo>
                <a:cubicBezTo>
                  <a:pt x="8336" y="1164"/>
                  <a:pt x="8328" y="1175"/>
                  <a:pt x="8334" y="1141"/>
                </a:cubicBezTo>
              </a:path>
              <a:path w="3771" h="993">
                <a:moveTo>
                  <a:pt x="8161" y="918"/>
                </a:moveTo>
                <a:cubicBezTo>
                  <a:pt x="8276" y="918"/>
                  <a:pt x="8374" y="898"/>
                  <a:pt x="8483" y="893"/>
                </a:cubicBezTo>
                <a:cubicBezTo>
                  <a:pt x="8533" y="893"/>
                  <a:pt x="8549" y="893"/>
                  <a:pt x="8582" y="893"/>
                </a:cubicBezTo>
              </a:path>
              <a:path w="3771" h="993">
                <a:moveTo>
                  <a:pt x="8855" y="670"/>
                </a:moveTo>
                <a:cubicBezTo>
                  <a:pt x="8896" y="741"/>
                  <a:pt x="8909" y="791"/>
                  <a:pt x="8930" y="868"/>
                </a:cubicBezTo>
                <a:cubicBezTo>
                  <a:pt x="8957" y="964"/>
                  <a:pt x="8978" y="1081"/>
                  <a:pt x="9029" y="1166"/>
                </a:cubicBezTo>
                <a:cubicBezTo>
                  <a:pt x="9047" y="1197"/>
                  <a:pt x="9102" y="1264"/>
                  <a:pt x="9128" y="1215"/>
                </a:cubicBezTo>
                <a:cubicBezTo>
                  <a:pt x="9136" y="1190"/>
                  <a:pt x="9145" y="1166"/>
                  <a:pt x="9153" y="1141"/>
                </a:cubicBezTo>
              </a:path>
              <a:path w="3771" h="993">
                <a:moveTo>
                  <a:pt x="9103" y="645"/>
                </a:moveTo>
                <a:cubicBezTo>
                  <a:pt x="8995" y="798"/>
                  <a:pt x="8917" y="921"/>
                  <a:pt x="8855" y="1091"/>
                </a:cubicBezTo>
                <a:cubicBezTo>
                  <a:pt x="8835" y="1145"/>
                  <a:pt x="8782" y="1346"/>
                  <a:pt x="8756" y="1240"/>
                </a:cubicBezTo>
              </a:path>
              <a:path w="3771" h="993">
                <a:moveTo>
                  <a:pt x="9302" y="372"/>
                </a:moveTo>
                <a:cubicBezTo>
                  <a:pt x="9417" y="353"/>
                  <a:pt x="9433" y="344"/>
                  <a:pt x="9500" y="347"/>
                </a:cubicBezTo>
                <a:cubicBezTo>
                  <a:pt x="9500" y="468"/>
                  <a:pt x="9502" y="516"/>
                  <a:pt x="9401" y="595"/>
                </a:cubicBezTo>
                <a:cubicBezTo>
                  <a:pt x="9352" y="634"/>
                  <a:pt x="9305" y="665"/>
                  <a:pt x="9252" y="695"/>
                </a:cubicBezTo>
                <a:cubicBezTo>
                  <a:pt x="9350" y="695"/>
                  <a:pt x="9431" y="684"/>
                  <a:pt x="9525" y="670"/>
                </a:cubicBezTo>
                <a:cubicBezTo>
                  <a:pt x="9577" y="670"/>
                  <a:pt x="9595" y="671"/>
                  <a:pt x="9624" y="695"/>
                </a:cubicBezTo>
              </a:path>
              <a:path w="3771" h="993">
                <a:moveTo>
                  <a:pt x="9624" y="918"/>
                </a:moveTo>
                <a:cubicBezTo>
                  <a:pt x="9732" y="918"/>
                  <a:pt x="9839" y="918"/>
                  <a:pt x="9947" y="918"/>
                </a:cubicBezTo>
              </a:path>
              <a:path w="3771" h="993">
                <a:moveTo>
                  <a:pt x="9624" y="1091"/>
                </a:moveTo>
                <a:cubicBezTo>
                  <a:pt x="9641" y="1108"/>
                  <a:pt x="9657" y="1124"/>
                  <a:pt x="9674" y="1141"/>
                </a:cubicBezTo>
                <a:cubicBezTo>
                  <a:pt x="9743" y="1088"/>
                  <a:pt x="9788" y="1091"/>
                  <a:pt x="9872" y="1067"/>
                </a:cubicBezTo>
                <a:cubicBezTo>
                  <a:pt x="9905" y="1059"/>
                  <a:pt x="9938" y="1050"/>
                  <a:pt x="9971" y="1042"/>
                </a:cubicBezTo>
              </a:path>
              <a:path w="3771" h="993">
                <a:moveTo>
                  <a:pt x="10294" y="670"/>
                </a:moveTo>
                <a:cubicBezTo>
                  <a:pt x="10352" y="644"/>
                  <a:pt x="10436" y="586"/>
                  <a:pt x="10492" y="571"/>
                </a:cubicBezTo>
                <a:cubicBezTo>
                  <a:pt x="10542" y="558"/>
                  <a:pt x="10579" y="573"/>
                  <a:pt x="10616" y="595"/>
                </a:cubicBezTo>
                <a:cubicBezTo>
                  <a:pt x="10549" y="664"/>
                  <a:pt x="10487" y="756"/>
                  <a:pt x="10418" y="819"/>
                </a:cubicBezTo>
                <a:cubicBezTo>
                  <a:pt x="10360" y="872"/>
                  <a:pt x="10315" y="884"/>
                  <a:pt x="10244" y="893"/>
                </a:cubicBezTo>
                <a:cubicBezTo>
                  <a:pt x="10328" y="935"/>
                  <a:pt x="10368" y="885"/>
                  <a:pt x="10443" y="893"/>
                </a:cubicBezTo>
                <a:cubicBezTo>
                  <a:pt x="10507" y="900"/>
                  <a:pt x="10621" y="949"/>
                  <a:pt x="10641" y="1017"/>
                </a:cubicBezTo>
                <a:cubicBezTo>
                  <a:pt x="10665" y="1100"/>
                  <a:pt x="10649" y="1202"/>
                  <a:pt x="10592" y="1265"/>
                </a:cubicBezTo>
                <a:cubicBezTo>
                  <a:pt x="10560" y="1301"/>
                  <a:pt x="10465" y="1303"/>
                  <a:pt x="10418" y="1290"/>
                </a:cubicBezTo>
                <a:cubicBezTo>
                  <a:pt x="10331" y="1266"/>
                  <a:pt x="10344" y="1215"/>
                  <a:pt x="10344" y="1141"/>
                </a:cubicBezTo>
              </a:path>
              <a:path w="3771" h="993">
                <a:moveTo>
                  <a:pt x="10790" y="397"/>
                </a:moveTo>
                <a:cubicBezTo>
                  <a:pt x="10862" y="375"/>
                  <a:pt x="11063" y="275"/>
                  <a:pt x="11063" y="446"/>
                </a:cubicBezTo>
                <a:cubicBezTo>
                  <a:pt x="11063" y="520"/>
                  <a:pt x="10979" y="605"/>
                  <a:pt x="10914" y="645"/>
                </a:cubicBezTo>
                <a:cubicBezTo>
                  <a:pt x="10833" y="686"/>
                  <a:pt x="10800" y="682"/>
                  <a:pt x="10815" y="744"/>
                </a:cubicBezTo>
                <a:cubicBezTo>
                  <a:pt x="10872" y="778"/>
                  <a:pt x="10967" y="787"/>
                  <a:pt x="11038" y="769"/>
                </a:cubicBezTo>
                <a:cubicBezTo>
                  <a:pt x="11045" y="767"/>
                  <a:pt x="11275" y="712"/>
                  <a:pt x="11261" y="769"/>
                </a:cubicBezTo>
                <a:cubicBezTo>
                  <a:pt x="11245" y="777"/>
                  <a:pt x="11228" y="786"/>
                  <a:pt x="11212" y="7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Ink 18"/>
          <p:cNvSpPr/>
          <p:nvPr/>
        </p:nvSpPr>
        <p:spPr>
          <a:xfrm>
            <a:off x="1054080" y="955800"/>
            <a:ext cx="384120" cy="21420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2927" y="2853"/>
                </a:moveTo>
                <a:cubicBezTo>
                  <a:pt x="2977" y="2813"/>
                  <a:pt x="3039" y="2789"/>
                  <a:pt x="3101" y="2778"/>
                </a:cubicBezTo>
                <a:cubicBezTo>
                  <a:pt x="3152" y="2769"/>
                  <a:pt x="3253" y="2771"/>
                  <a:pt x="3249" y="2853"/>
                </a:cubicBezTo>
                <a:cubicBezTo>
                  <a:pt x="3246" y="2914"/>
                  <a:pt x="3164" y="3031"/>
                  <a:pt x="3125" y="3076"/>
                </a:cubicBezTo>
                <a:cubicBezTo>
                  <a:pt x="3086" y="3121"/>
                  <a:pt x="3070" y="3142"/>
                  <a:pt x="3026" y="3175"/>
                </a:cubicBezTo>
                <a:cubicBezTo>
                  <a:pt x="3106" y="3139"/>
                  <a:pt x="3162" y="3125"/>
                  <a:pt x="3249" y="3125"/>
                </a:cubicBezTo>
                <a:cubicBezTo>
                  <a:pt x="3316" y="3125"/>
                  <a:pt x="3368" y="3133"/>
                  <a:pt x="3423" y="3101"/>
                </a:cubicBezTo>
              </a:path>
              <a:path w="1068" h="596">
                <a:moveTo>
                  <a:pt x="3448" y="2952"/>
                </a:moveTo>
                <a:cubicBezTo>
                  <a:pt x="3448" y="3048"/>
                  <a:pt x="3458" y="3113"/>
                  <a:pt x="3473" y="3200"/>
                </a:cubicBezTo>
                <a:cubicBezTo>
                  <a:pt x="3473" y="3216"/>
                  <a:pt x="3473" y="3233"/>
                  <a:pt x="3473" y="3249"/>
                </a:cubicBezTo>
                <a:cubicBezTo>
                  <a:pt x="3507" y="3143"/>
                  <a:pt x="3478" y="3064"/>
                  <a:pt x="3473" y="2952"/>
                </a:cubicBezTo>
                <a:cubicBezTo>
                  <a:pt x="3470" y="2897"/>
                  <a:pt x="3474" y="2823"/>
                  <a:pt x="3497" y="2778"/>
                </a:cubicBezTo>
                <a:cubicBezTo>
                  <a:pt x="3523" y="2726"/>
                  <a:pt x="3624" y="2720"/>
                  <a:pt x="3671" y="2704"/>
                </a:cubicBezTo>
                <a:cubicBezTo>
                  <a:pt x="3738" y="2681"/>
                  <a:pt x="3811" y="2672"/>
                  <a:pt x="3870" y="2654"/>
                </a:cubicBezTo>
                <a:cubicBezTo>
                  <a:pt x="3878" y="2654"/>
                  <a:pt x="3886" y="2654"/>
                  <a:pt x="3894" y="2654"/>
                </a:cubicBezTo>
              </a:path>
              <a:path w="1068" h="596">
                <a:moveTo>
                  <a:pt x="3597" y="2902"/>
                </a:moveTo>
                <a:cubicBezTo>
                  <a:pt x="3646" y="2882"/>
                  <a:pt x="3739" y="2811"/>
                  <a:pt x="3795" y="2828"/>
                </a:cubicBezTo>
                <a:cubicBezTo>
                  <a:pt x="3872" y="2852"/>
                  <a:pt x="3849" y="2951"/>
                  <a:pt x="3820" y="3001"/>
                </a:cubicBezTo>
                <a:cubicBezTo>
                  <a:pt x="3797" y="3040"/>
                  <a:pt x="3731" y="3067"/>
                  <a:pt x="3696" y="3101"/>
                </a:cubicBezTo>
                <a:cubicBezTo>
                  <a:pt x="3671" y="3125"/>
                  <a:pt x="3662" y="3133"/>
                  <a:pt x="3646" y="3150"/>
                </a:cubicBezTo>
                <a:cubicBezTo>
                  <a:pt x="3707" y="3143"/>
                  <a:pt x="3813" y="3146"/>
                  <a:pt x="3870" y="3125"/>
                </a:cubicBezTo>
                <a:cubicBezTo>
                  <a:pt x="3901" y="3114"/>
                  <a:pt x="4060" y="3101"/>
                  <a:pt x="3944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Ink 19"/>
          <p:cNvSpPr/>
          <p:nvPr/>
        </p:nvSpPr>
        <p:spPr>
          <a:xfrm>
            <a:off x="3224160" y="534960"/>
            <a:ext cx="347760" cy="304920"/>
          </a:xfrm>
          <a:custGeom>
            <a:avLst/>
            <a:gdLst/>
            <a:ahLst/>
            <a:rect l="l" t="t" r="r" b="b"/>
            <a:pathLst>
              <a:path w="969" h="845">
                <a:moveTo>
                  <a:pt x="9054" y="1811"/>
                </a:moveTo>
                <a:cubicBezTo>
                  <a:pt x="9103" y="1932"/>
                  <a:pt x="9144" y="2060"/>
                  <a:pt x="9227" y="2158"/>
                </a:cubicBezTo>
                <a:cubicBezTo>
                  <a:pt x="9257" y="2194"/>
                  <a:pt x="9331" y="2304"/>
                  <a:pt x="9327" y="2257"/>
                </a:cubicBezTo>
                <a:cubicBezTo>
                  <a:pt x="9319" y="2232"/>
                  <a:pt x="9310" y="2208"/>
                  <a:pt x="9302" y="2183"/>
                </a:cubicBezTo>
              </a:path>
              <a:path w="969" h="845">
                <a:moveTo>
                  <a:pt x="9178" y="1761"/>
                </a:moveTo>
                <a:cubicBezTo>
                  <a:pt x="9141" y="1889"/>
                  <a:pt x="9121" y="2007"/>
                  <a:pt x="9079" y="2133"/>
                </a:cubicBezTo>
                <a:cubicBezTo>
                  <a:pt x="9054" y="2209"/>
                  <a:pt x="9034" y="2252"/>
                  <a:pt x="8979" y="2307"/>
                </a:cubicBezTo>
                <a:cubicBezTo>
                  <a:pt x="8941" y="2345"/>
                  <a:pt x="8998" y="2276"/>
                  <a:pt x="9029" y="2232"/>
                </a:cubicBezTo>
              </a:path>
              <a:path w="969" h="845">
                <a:moveTo>
                  <a:pt x="9426" y="1488"/>
                </a:moveTo>
                <a:cubicBezTo>
                  <a:pt x="9542" y="1510"/>
                  <a:pt x="9620" y="1506"/>
                  <a:pt x="9550" y="1637"/>
                </a:cubicBezTo>
                <a:cubicBezTo>
                  <a:pt x="9524" y="1686"/>
                  <a:pt x="9500" y="1736"/>
                  <a:pt x="9475" y="1786"/>
                </a:cubicBezTo>
                <a:cubicBezTo>
                  <a:pt x="9550" y="1818"/>
                  <a:pt x="9619" y="1807"/>
                  <a:pt x="9699" y="1786"/>
                </a:cubicBezTo>
                <a:cubicBezTo>
                  <a:pt x="9764" y="1764"/>
                  <a:pt x="9779" y="1756"/>
                  <a:pt x="9823" y="1761"/>
                </a:cubicBezTo>
              </a:path>
              <a:path w="969" h="845">
                <a:moveTo>
                  <a:pt x="9674" y="2108"/>
                </a:moveTo>
                <a:cubicBezTo>
                  <a:pt x="9751" y="2108"/>
                  <a:pt x="9801" y="2098"/>
                  <a:pt x="9872" y="2084"/>
                </a:cubicBezTo>
              </a:path>
              <a:path w="969" h="845">
                <a:moveTo>
                  <a:pt x="9674" y="2257"/>
                </a:moveTo>
                <a:cubicBezTo>
                  <a:pt x="9757" y="2248"/>
                  <a:pt x="9803" y="2224"/>
                  <a:pt x="9872" y="2183"/>
                </a:cubicBezTo>
                <a:cubicBezTo>
                  <a:pt x="9889" y="2175"/>
                  <a:pt x="9905" y="2166"/>
                  <a:pt x="9922" y="21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Ink 20"/>
          <p:cNvSpPr/>
          <p:nvPr/>
        </p:nvSpPr>
        <p:spPr>
          <a:xfrm>
            <a:off x="3705120" y="588960"/>
            <a:ext cx="125640" cy="250920"/>
          </a:xfrm>
          <a:custGeom>
            <a:avLst/>
            <a:gdLst/>
            <a:ahLst/>
            <a:rect l="l" t="t" r="r" b="b"/>
            <a:pathLst>
              <a:path w="348" h="696">
                <a:moveTo>
                  <a:pt x="10616" y="1662"/>
                </a:moveTo>
                <a:cubicBezTo>
                  <a:pt x="10531" y="1705"/>
                  <a:pt x="10474" y="1756"/>
                  <a:pt x="10393" y="1786"/>
                </a:cubicBezTo>
                <a:cubicBezTo>
                  <a:pt x="10311" y="1807"/>
                  <a:pt x="10278" y="1797"/>
                  <a:pt x="10294" y="1860"/>
                </a:cubicBezTo>
                <a:cubicBezTo>
                  <a:pt x="10320" y="1962"/>
                  <a:pt x="10381" y="1953"/>
                  <a:pt x="10443" y="2034"/>
                </a:cubicBezTo>
                <a:cubicBezTo>
                  <a:pt x="10476" y="2078"/>
                  <a:pt x="10512" y="2137"/>
                  <a:pt x="10542" y="2183"/>
                </a:cubicBezTo>
                <a:cubicBezTo>
                  <a:pt x="10594" y="2263"/>
                  <a:pt x="10549" y="2327"/>
                  <a:pt x="10468" y="2332"/>
                </a:cubicBezTo>
                <a:cubicBezTo>
                  <a:pt x="10451" y="2332"/>
                  <a:pt x="10435" y="2332"/>
                  <a:pt x="10418" y="2332"/>
                </a:cubicBezTo>
                <a:cubicBezTo>
                  <a:pt x="10427" y="2263"/>
                  <a:pt x="10451" y="2194"/>
                  <a:pt x="10492" y="2133"/>
                </a:cubicBezTo>
                <a:cubicBezTo>
                  <a:pt x="10585" y="1996"/>
                  <a:pt x="10585" y="1940"/>
                  <a:pt x="10616" y="1786"/>
                </a:cubicBezTo>
                <a:cubicBezTo>
                  <a:pt x="10627" y="1734"/>
                  <a:pt x="10681" y="1616"/>
                  <a:pt x="10592" y="16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Ink 21"/>
          <p:cNvSpPr/>
          <p:nvPr/>
        </p:nvSpPr>
        <p:spPr>
          <a:xfrm>
            <a:off x="3295800" y="866880"/>
            <a:ext cx="865080" cy="330120"/>
          </a:xfrm>
          <a:custGeom>
            <a:avLst/>
            <a:gdLst/>
            <a:ahLst/>
            <a:rect l="l" t="t" r="r" b="b"/>
            <a:pathLst>
              <a:path w="2407" h="919">
                <a:moveTo>
                  <a:pt x="9153" y="2853"/>
                </a:moveTo>
                <a:cubicBezTo>
                  <a:pt x="9243" y="2933"/>
                  <a:pt x="9346" y="3045"/>
                  <a:pt x="9426" y="3125"/>
                </a:cubicBezTo>
                <a:cubicBezTo>
                  <a:pt x="9463" y="3162"/>
                  <a:pt x="9470" y="3281"/>
                  <a:pt x="9550" y="3274"/>
                </a:cubicBezTo>
                <a:cubicBezTo>
                  <a:pt x="9558" y="3266"/>
                  <a:pt x="9567" y="3257"/>
                  <a:pt x="9575" y="3249"/>
                </a:cubicBezTo>
              </a:path>
              <a:path w="2407" h="919">
                <a:moveTo>
                  <a:pt x="9475" y="2778"/>
                </a:moveTo>
                <a:cubicBezTo>
                  <a:pt x="9436" y="2896"/>
                  <a:pt x="9377" y="2989"/>
                  <a:pt x="9327" y="3101"/>
                </a:cubicBezTo>
                <a:cubicBezTo>
                  <a:pt x="9285" y="3195"/>
                  <a:pt x="9284" y="3276"/>
                  <a:pt x="9178" y="3324"/>
                </a:cubicBezTo>
                <a:cubicBezTo>
                  <a:pt x="9170" y="3324"/>
                  <a:pt x="9161" y="3324"/>
                  <a:pt x="9153" y="3324"/>
                </a:cubicBezTo>
              </a:path>
              <a:path w="2407" h="919">
                <a:moveTo>
                  <a:pt x="9699" y="2927"/>
                </a:moveTo>
                <a:cubicBezTo>
                  <a:pt x="9790" y="2927"/>
                  <a:pt x="9837" y="2908"/>
                  <a:pt x="9922" y="2902"/>
                </a:cubicBezTo>
                <a:cubicBezTo>
                  <a:pt x="9930" y="2902"/>
                  <a:pt x="9939" y="2902"/>
                  <a:pt x="9947" y="2902"/>
                </a:cubicBezTo>
              </a:path>
              <a:path w="2407" h="919">
                <a:moveTo>
                  <a:pt x="9699" y="3125"/>
                </a:moveTo>
                <a:cubicBezTo>
                  <a:pt x="9784" y="3125"/>
                  <a:pt x="9842" y="3111"/>
                  <a:pt x="9922" y="3076"/>
                </a:cubicBezTo>
                <a:cubicBezTo>
                  <a:pt x="9938" y="3068"/>
                  <a:pt x="9955" y="3059"/>
                  <a:pt x="9971" y="3051"/>
                </a:cubicBezTo>
              </a:path>
              <a:path w="2407" h="919">
                <a:moveTo>
                  <a:pt x="10319" y="2729"/>
                </a:moveTo>
                <a:cubicBezTo>
                  <a:pt x="10392" y="2709"/>
                  <a:pt x="10455" y="2680"/>
                  <a:pt x="10517" y="2729"/>
                </a:cubicBezTo>
                <a:cubicBezTo>
                  <a:pt x="10591" y="2787"/>
                  <a:pt x="10474" y="2880"/>
                  <a:pt x="10443" y="2927"/>
                </a:cubicBezTo>
                <a:cubicBezTo>
                  <a:pt x="10391" y="3006"/>
                  <a:pt x="10322" y="3053"/>
                  <a:pt x="10269" y="3125"/>
                </a:cubicBezTo>
                <a:cubicBezTo>
                  <a:pt x="10247" y="3169"/>
                  <a:pt x="10244" y="3180"/>
                  <a:pt x="10220" y="3200"/>
                </a:cubicBezTo>
                <a:cubicBezTo>
                  <a:pt x="10288" y="3258"/>
                  <a:pt x="10358" y="3275"/>
                  <a:pt x="10443" y="3200"/>
                </a:cubicBezTo>
                <a:cubicBezTo>
                  <a:pt x="10499" y="3150"/>
                  <a:pt x="10550" y="3113"/>
                  <a:pt x="10616" y="3076"/>
                </a:cubicBezTo>
              </a:path>
              <a:path w="2407" h="919">
                <a:moveTo>
                  <a:pt x="10691" y="2704"/>
                </a:moveTo>
                <a:cubicBezTo>
                  <a:pt x="10684" y="2845"/>
                  <a:pt x="10685" y="2938"/>
                  <a:pt x="10691" y="3076"/>
                </a:cubicBezTo>
                <a:cubicBezTo>
                  <a:pt x="10694" y="3140"/>
                  <a:pt x="10694" y="3165"/>
                  <a:pt x="10716" y="3225"/>
                </a:cubicBezTo>
                <a:cubicBezTo>
                  <a:pt x="10716" y="3136"/>
                  <a:pt x="10683" y="3007"/>
                  <a:pt x="10691" y="2927"/>
                </a:cubicBezTo>
                <a:cubicBezTo>
                  <a:pt x="10698" y="2858"/>
                  <a:pt x="10734" y="2768"/>
                  <a:pt x="10765" y="2704"/>
                </a:cubicBezTo>
                <a:cubicBezTo>
                  <a:pt x="10836" y="2557"/>
                  <a:pt x="10845" y="2564"/>
                  <a:pt x="10988" y="2505"/>
                </a:cubicBezTo>
                <a:cubicBezTo>
                  <a:pt x="11064" y="2474"/>
                  <a:pt x="11157" y="2424"/>
                  <a:pt x="11237" y="2406"/>
                </a:cubicBezTo>
                <a:cubicBezTo>
                  <a:pt x="11286" y="2406"/>
                  <a:pt x="11303" y="2406"/>
                  <a:pt x="11336" y="2406"/>
                </a:cubicBezTo>
              </a:path>
              <a:path w="2407" h="919">
                <a:moveTo>
                  <a:pt x="10889" y="2803"/>
                </a:moveTo>
                <a:cubicBezTo>
                  <a:pt x="10974" y="2795"/>
                  <a:pt x="11055" y="2784"/>
                  <a:pt x="11137" y="2753"/>
                </a:cubicBezTo>
                <a:cubicBezTo>
                  <a:pt x="11211" y="2726"/>
                  <a:pt x="11289" y="2736"/>
                  <a:pt x="11311" y="2828"/>
                </a:cubicBezTo>
                <a:cubicBezTo>
                  <a:pt x="11328" y="2900"/>
                  <a:pt x="11244" y="2948"/>
                  <a:pt x="11212" y="3001"/>
                </a:cubicBezTo>
                <a:cubicBezTo>
                  <a:pt x="11157" y="3092"/>
                  <a:pt x="11131" y="3106"/>
                  <a:pt x="11063" y="3175"/>
                </a:cubicBezTo>
                <a:cubicBezTo>
                  <a:pt x="11055" y="3183"/>
                  <a:pt x="11046" y="3192"/>
                  <a:pt x="11038" y="3200"/>
                </a:cubicBezTo>
                <a:cubicBezTo>
                  <a:pt x="11109" y="3243"/>
                  <a:pt x="11136" y="3213"/>
                  <a:pt x="11212" y="3200"/>
                </a:cubicBezTo>
                <a:cubicBezTo>
                  <a:pt x="11301" y="3185"/>
                  <a:pt x="11395" y="3179"/>
                  <a:pt x="11485" y="3175"/>
                </a:cubicBezTo>
                <a:cubicBezTo>
                  <a:pt x="11544" y="3173"/>
                  <a:pt x="11611" y="3184"/>
                  <a:pt x="11485" y="32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Ink 22"/>
          <p:cNvSpPr/>
          <p:nvPr/>
        </p:nvSpPr>
        <p:spPr>
          <a:xfrm>
            <a:off x="357120" y="160200"/>
            <a:ext cx="1571760" cy="822600"/>
          </a:xfrm>
          <a:custGeom>
            <a:avLst/>
            <a:gdLst/>
            <a:ahLst/>
            <a:rect l="l" t="t" r="r" b="b"/>
            <a:pathLst>
              <a:path w="4367" h="2284">
                <a:moveTo>
                  <a:pt x="1240" y="2654"/>
                </a:moveTo>
                <a:cubicBezTo>
                  <a:pt x="1262" y="2629"/>
                  <a:pt x="1281" y="2584"/>
                  <a:pt x="1315" y="2555"/>
                </a:cubicBezTo>
                <a:cubicBezTo>
                  <a:pt x="1355" y="2520"/>
                  <a:pt x="1397" y="2490"/>
                  <a:pt x="1439" y="2456"/>
                </a:cubicBezTo>
                <a:cubicBezTo>
                  <a:pt x="1525" y="2387"/>
                  <a:pt x="1600" y="2300"/>
                  <a:pt x="1687" y="2232"/>
                </a:cubicBezTo>
                <a:cubicBezTo>
                  <a:pt x="1847" y="2108"/>
                  <a:pt x="2020" y="2003"/>
                  <a:pt x="2183" y="1885"/>
                </a:cubicBezTo>
                <a:cubicBezTo>
                  <a:pt x="2360" y="1756"/>
                  <a:pt x="2543" y="1652"/>
                  <a:pt x="2729" y="1538"/>
                </a:cubicBezTo>
                <a:cubicBezTo>
                  <a:pt x="2927" y="1417"/>
                  <a:pt x="3130" y="1291"/>
                  <a:pt x="3324" y="1166"/>
                </a:cubicBezTo>
                <a:cubicBezTo>
                  <a:pt x="3512" y="1045"/>
                  <a:pt x="3695" y="942"/>
                  <a:pt x="3894" y="843"/>
                </a:cubicBezTo>
                <a:cubicBezTo>
                  <a:pt x="4081" y="750"/>
                  <a:pt x="4274" y="678"/>
                  <a:pt x="4465" y="595"/>
                </a:cubicBezTo>
                <a:cubicBezTo>
                  <a:pt x="4553" y="557"/>
                  <a:pt x="4646" y="500"/>
                  <a:pt x="4738" y="471"/>
                </a:cubicBezTo>
                <a:cubicBezTo>
                  <a:pt x="4782" y="457"/>
                  <a:pt x="4860" y="429"/>
                  <a:pt x="4911" y="446"/>
                </a:cubicBezTo>
                <a:cubicBezTo>
                  <a:pt x="4981" y="469"/>
                  <a:pt x="4989" y="469"/>
                  <a:pt x="5011" y="546"/>
                </a:cubicBezTo>
                <a:cubicBezTo>
                  <a:pt x="5036" y="634"/>
                  <a:pt x="5016" y="752"/>
                  <a:pt x="5035" y="843"/>
                </a:cubicBezTo>
                <a:cubicBezTo>
                  <a:pt x="5072" y="1018"/>
                  <a:pt x="5104" y="1191"/>
                  <a:pt x="5135" y="1364"/>
                </a:cubicBezTo>
                <a:cubicBezTo>
                  <a:pt x="5161" y="1505"/>
                  <a:pt x="5163" y="1645"/>
                  <a:pt x="5184" y="1786"/>
                </a:cubicBezTo>
                <a:cubicBezTo>
                  <a:pt x="5204" y="1920"/>
                  <a:pt x="5210" y="2052"/>
                  <a:pt x="5234" y="2183"/>
                </a:cubicBezTo>
                <a:cubicBezTo>
                  <a:pt x="5253" y="2287"/>
                  <a:pt x="5283" y="2405"/>
                  <a:pt x="5308" y="2505"/>
                </a:cubicBezTo>
                <a:cubicBezTo>
                  <a:pt x="5326" y="2577"/>
                  <a:pt x="5331" y="2660"/>
                  <a:pt x="5333" y="2729"/>
                </a:cubicBezTo>
                <a:cubicBezTo>
                  <a:pt x="5269" y="2720"/>
                  <a:pt x="5219" y="2708"/>
                  <a:pt x="5159" y="2704"/>
                </a:cubicBezTo>
                <a:cubicBezTo>
                  <a:pt x="5033" y="2695"/>
                  <a:pt x="4910" y="2685"/>
                  <a:pt x="4787" y="2679"/>
                </a:cubicBezTo>
                <a:cubicBezTo>
                  <a:pt x="4653" y="2672"/>
                  <a:pt x="4523" y="2657"/>
                  <a:pt x="4390" y="2654"/>
                </a:cubicBezTo>
                <a:cubicBezTo>
                  <a:pt x="3804" y="2640"/>
                  <a:pt x="3212" y="2648"/>
                  <a:pt x="2629" y="2679"/>
                </a:cubicBezTo>
                <a:cubicBezTo>
                  <a:pt x="2389" y="2692"/>
                  <a:pt x="2148" y="2688"/>
                  <a:pt x="1910" y="2704"/>
                </a:cubicBezTo>
                <a:cubicBezTo>
                  <a:pt x="1689" y="2719"/>
                  <a:pt x="1454" y="2716"/>
                  <a:pt x="1240" y="2729"/>
                </a:cubicBezTo>
                <a:cubicBezTo>
                  <a:pt x="1157" y="2734"/>
                  <a:pt x="1092" y="2714"/>
                  <a:pt x="1017" y="2704"/>
                </a:cubicBezTo>
                <a:cubicBezTo>
                  <a:pt x="1009" y="2704"/>
                  <a:pt x="1000" y="2704"/>
                  <a:pt x="992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Questions from HW</a:t>
            </a:r>
            <a:br>
              <a:rPr sz="4000"/>
            </a:b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(pgs 310-311 #11-17,39,43,45)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6" name="Ink 3"/>
          <p:cNvSpPr/>
          <p:nvPr/>
        </p:nvSpPr>
        <p:spPr>
          <a:xfrm>
            <a:off x="1687680" y="2000160"/>
            <a:ext cx="4599000" cy="768600"/>
          </a:xfrm>
          <a:custGeom>
            <a:avLst/>
            <a:gdLst/>
            <a:ahLst/>
            <a:rect l="l" t="t" r="r" b="b"/>
            <a:pathLst>
              <a:path w="12775" h="2134">
                <a:moveTo>
                  <a:pt x="5507" y="6176"/>
                </a:moveTo>
                <a:cubicBezTo>
                  <a:pt x="5453" y="6110"/>
                  <a:pt x="5448" y="6110"/>
                  <a:pt x="5383" y="6077"/>
                </a:cubicBezTo>
                <a:cubicBezTo>
                  <a:pt x="5317" y="6044"/>
                  <a:pt x="5236" y="6054"/>
                  <a:pt x="5159" y="6077"/>
                </a:cubicBezTo>
                <a:cubicBezTo>
                  <a:pt x="5076" y="6102"/>
                  <a:pt x="4993" y="6131"/>
                  <a:pt x="4911" y="6152"/>
                </a:cubicBezTo>
                <a:cubicBezTo>
                  <a:pt x="4835" y="6171"/>
                  <a:pt x="4791" y="6197"/>
                  <a:pt x="4738" y="6251"/>
                </a:cubicBezTo>
                <a:cubicBezTo>
                  <a:pt x="4692" y="6297"/>
                  <a:pt x="4666" y="6317"/>
                  <a:pt x="4713" y="6375"/>
                </a:cubicBezTo>
                <a:cubicBezTo>
                  <a:pt x="4749" y="6420"/>
                  <a:pt x="4790" y="6444"/>
                  <a:pt x="4837" y="6474"/>
                </a:cubicBezTo>
                <a:cubicBezTo>
                  <a:pt x="4955" y="6550"/>
                  <a:pt x="5085" y="6602"/>
                  <a:pt x="5209" y="6672"/>
                </a:cubicBezTo>
                <a:cubicBezTo>
                  <a:pt x="5320" y="6735"/>
                  <a:pt x="5413" y="6781"/>
                  <a:pt x="5507" y="6871"/>
                </a:cubicBezTo>
                <a:cubicBezTo>
                  <a:pt x="5566" y="6927"/>
                  <a:pt x="5623" y="6992"/>
                  <a:pt x="5581" y="7069"/>
                </a:cubicBezTo>
                <a:cubicBezTo>
                  <a:pt x="5543" y="7139"/>
                  <a:pt x="5448" y="7149"/>
                  <a:pt x="5383" y="7169"/>
                </a:cubicBezTo>
                <a:cubicBezTo>
                  <a:pt x="5281" y="7200"/>
                  <a:pt x="5167" y="7215"/>
                  <a:pt x="5060" y="7218"/>
                </a:cubicBezTo>
                <a:cubicBezTo>
                  <a:pt x="4973" y="7221"/>
                  <a:pt x="4860" y="7199"/>
                  <a:pt x="4787" y="7144"/>
                </a:cubicBezTo>
                <a:cubicBezTo>
                  <a:pt x="4714" y="7090"/>
                  <a:pt x="4721" y="7078"/>
                  <a:pt x="4713" y="6995"/>
                </a:cubicBezTo>
              </a:path>
              <a:path w="12775" h="2134">
                <a:moveTo>
                  <a:pt x="5854" y="6548"/>
                </a:moveTo>
                <a:cubicBezTo>
                  <a:pt x="5872" y="6658"/>
                  <a:pt x="5920" y="6809"/>
                  <a:pt x="5904" y="6921"/>
                </a:cubicBezTo>
                <a:cubicBezTo>
                  <a:pt x="5890" y="7016"/>
                  <a:pt x="5904" y="7092"/>
                  <a:pt x="5904" y="7193"/>
                </a:cubicBezTo>
                <a:cubicBezTo>
                  <a:pt x="5904" y="7331"/>
                  <a:pt x="5904" y="7144"/>
                  <a:pt x="5904" y="7119"/>
                </a:cubicBezTo>
              </a:path>
              <a:path w="12775" h="2134">
                <a:moveTo>
                  <a:pt x="5953" y="6102"/>
                </a:moveTo>
                <a:lnTo>
                  <a:pt x="5953" y="6102"/>
                </a:lnTo>
              </a:path>
              <a:path w="12775" h="2134">
                <a:moveTo>
                  <a:pt x="6201" y="6772"/>
                </a:moveTo>
                <a:cubicBezTo>
                  <a:pt x="6201" y="6905"/>
                  <a:pt x="6207" y="6979"/>
                  <a:pt x="6226" y="7094"/>
                </a:cubicBezTo>
                <a:cubicBezTo>
                  <a:pt x="6226" y="7111"/>
                  <a:pt x="6226" y="7127"/>
                  <a:pt x="6226" y="7144"/>
                </a:cubicBezTo>
                <a:cubicBezTo>
                  <a:pt x="6226" y="7059"/>
                  <a:pt x="6238" y="6999"/>
                  <a:pt x="6251" y="6921"/>
                </a:cubicBezTo>
                <a:cubicBezTo>
                  <a:pt x="6267" y="6827"/>
                  <a:pt x="6268" y="6765"/>
                  <a:pt x="6300" y="6672"/>
                </a:cubicBezTo>
                <a:cubicBezTo>
                  <a:pt x="6340" y="6556"/>
                  <a:pt x="6357" y="6563"/>
                  <a:pt x="6449" y="6499"/>
                </a:cubicBezTo>
                <a:cubicBezTo>
                  <a:pt x="6518" y="6451"/>
                  <a:pt x="6531" y="6447"/>
                  <a:pt x="6623" y="6499"/>
                </a:cubicBezTo>
                <a:cubicBezTo>
                  <a:pt x="6688" y="6536"/>
                  <a:pt x="6777" y="6723"/>
                  <a:pt x="6796" y="6772"/>
                </a:cubicBezTo>
                <a:cubicBezTo>
                  <a:pt x="6827" y="6851"/>
                  <a:pt x="6842" y="6963"/>
                  <a:pt x="6846" y="7045"/>
                </a:cubicBezTo>
                <a:cubicBezTo>
                  <a:pt x="6849" y="7100"/>
                  <a:pt x="6851" y="7202"/>
                  <a:pt x="6896" y="7169"/>
                </a:cubicBezTo>
                <a:cubicBezTo>
                  <a:pt x="6904" y="7161"/>
                  <a:pt x="6913" y="7152"/>
                  <a:pt x="6921" y="7144"/>
                </a:cubicBezTo>
              </a:path>
              <a:path w="12775" h="2134">
                <a:moveTo>
                  <a:pt x="7838" y="6052"/>
                </a:moveTo>
                <a:cubicBezTo>
                  <a:pt x="7829" y="6116"/>
                  <a:pt x="7811" y="6162"/>
                  <a:pt x="7789" y="6226"/>
                </a:cubicBezTo>
                <a:cubicBezTo>
                  <a:pt x="7750" y="6340"/>
                  <a:pt x="7723" y="6458"/>
                  <a:pt x="7689" y="6573"/>
                </a:cubicBezTo>
                <a:cubicBezTo>
                  <a:pt x="7661" y="6668"/>
                  <a:pt x="7641" y="6822"/>
                  <a:pt x="7665" y="6921"/>
                </a:cubicBezTo>
                <a:cubicBezTo>
                  <a:pt x="7680" y="6984"/>
                  <a:pt x="7731" y="7143"/>
                  <a:pt x="7789" y="7193"/>
                </a:cubicBezTo>
                <a:cubicBezTo>
                  <a:pt x="7841" y="7238"/>
                  <a:pt x="7945" y="7258"/>
                  <a:pt x="8012" y="7243"/>
                </a:cubicBezTo>
                <a:cubicBezTo>
                  <a:pt x="8107" y="7222"/>
                  <a:pt x="8166" y="7151"/>
                  <a:pt x="8210" y="7069"/>
                </a:cubicBezTo>
                <a:cubicBezTo>
                  <a:pt x="8276" y="6946"/>
                  <a:pt x="8330" y="6864"/>
                  <a:pt x="8334" y="6722"/>
                </a:cubicBezTo>
                <a:cubicBezTo>
                  <a:pt x="8338" y="6598"/>
                  <a:pt x="8343" y="6465"/>
                  <a:pt x="8285" y="6350"/>
                </a:cubicBezTo>
                <a:cubicBezTo>
                  <a:pt x="8238" y="6258"/>
                  <a:pt x="8140" y="6121"/>
                  <a:pt x="8062" y="6052"/>
                </a:cubicBezTo>
                <a:cubicBezTo>
                  <a:pt x="8012" y="6008"/>
                  <a:pt x="7941" y="5997"/>
                  <a:pt x="7888" y="5978"/>
                </a:cubicBezTo>
                <a:cubicBezTo>
                  <a:pt x="7844" y="5956"/>
                  <a:pt x="7832" y="5943"/>
                  <a:pt x="7813" y="5978"/>
                </a:cubicBezTo>
              </a:path>
              <a:path w="12775" h="2134">
                <a:moveTo>
                  <a:pt x="7417" y="6648"/>
                </a:moveTo>
                <a:cubicBezTo>
                  <a:pt x="7485" y="6688"/>
                  <a:pt x="7606" y="6690"/>
                  <a:pt x="7689" y="6697"/>
                </a:cubicBezTo>
                <a:cubicBezTo>
                  <a:pt x="7819" y="6708"/>
                  <a:pt x="7953" y="6672"/>
                  <a:pt x="8086" y="6672"/>
                </a:cubicBezTo>
                <a:cubicBezTo>
                  <a:pt x="8230" y="6672"/>
                  <a:pt x="8329" y="6585"/>
                  <a:pt x="8458" y="6648"/>
                </a:cubicBezTo>
                <a:cubicBezTo>
                  <a:pt x="8466" y="6656"/>
                  <a:pt x="8475" y="6664"/>
                  <a:pt x="8483" y="6672"/>
                </a:cubicBezTo>
              </a:path>
              <a:path w="12775" h="2134">
                <a:moveTo>
                  <a:pt x="8905" y="6648"/>
                </a:moveTo>
                <a:cubicBezTo>
                  <a:pt x="9009" y="6668"/>
                  <a:pt x="9098" y="6672"/>
                  <a:pt x="9203" y="6672"/>
                </a:cubicBezTo>
                <a:cubicBezTo>
                  <a:pt x="9261" y="6672"/>
                  <a:pt x="9269" y="6672"/>
                  <a:pt x="9302" y="6672"/>
                </a:cubicBezTo>
              </a:path>
              <a:path w="12775" h="2134">
                <a:moveTo>
                  <a:pt x="8905" y="6846"/>
                </a:moveTo>
                <a:cubicBezTo>
                  <a:pt x="8979" y="6874"/>
                  <a:pt x="9071" y="6886"/>
                  <a:pt x="9153" y="6871"/>
                </a:cubicBezTo>
                <a:cubicBezTo>
                  <a:pt x="9178" y="6863"/>
                  <a:pt x="9202" y="6854"/>
                  <a:pt x="9227" y="6846"/>
                </a:cubicBezTo>
              </a:path>
              <a:path w="12775" h="2134">
                <a:moveTo>
                  <a:pt x="14585" y="6548"/>
                </a:moveTo>
                <a:cubicBezTo>
                  <a:pt x="14585" y="6614"/>
                  <a:pt x="14585" y="6631"/>
                  <a:pt x="14585" y="6672"/>
                </a:cubicBezTo>
                <a:cubicBezTo>
                  <a:pt x="14622" y="6612"/>
                  <a:pt x="14599" y="6592"/>
                  <a:pt x="14585" y="6524"/>
                </a:cubicBezTo>
              </a:path>
              <a:path w="12775" h="2134">
                <a:moveTo>
                  <a:pt x="14412" y="6424"/>
                </a:moveTo>
                <a:cubicBezTo>
                  <a:pt x="14259" y="6547"/>
                  <a:pt x="14128" y="6630"/>
                  <a:pt x="14064" y="6821"/>
                </a:cubicBezTo>
                <a:cubicBezTo>
                  <a:pt x="14040" y="6892"/>
                  <a:pt x="14004" y="7054"/>
                  <a:pt x="14064" y="7119"/>
                </a:cubicBezTo>
                <a:cubicBezTo>
                  <a:pt x="14098" y="7156"/>
                  <a:pt x="14214" y="7202"/>
                  <a:pt x="14263" y="7218"/>
                </a:cubicBezTo>
                <a:cubicBezTo>
                  <a:pt x="14405" y="7264"/>
                  <a:pt x="14473" y="7222"/>
                  <a:pt x="14610" y="7169"/>
                </a:cubicBezTo>
              </a:path>
              <a:path w="12775" h="2134">
                <a:moveTo>
                  <a:pt x="14982" y="6598"/>
                </a:moveTo>
                <a:cubicBezTo>
                  <a:pt x="14907" y="6642"/>
                  <a:pt x="14836" y="6683"/>
                  <a:pt x="14759" y="6722"/>
                </a:cubicBezTo>
                <a:cubicBezTo>
                  <a:pt x="14771" y="6809"/>
                  <a:pt x="14805" y="6817"/>
                  <a:pt x="14883" y="6871"/>
                </a:cubicBezTo>
                <a:cubicBezTo>
                  <a:pt x="14977" y="6936"/>
                  <a:pt x="15111" y="6981"/>
                  <a:pt x="15156" y="7094"/>
                </a:cubicBezTo>
                <a:cubicBezTo>
                  <a:pt x="15181" y="7157"/>
                  <a:pt x="15062" y="7245"/>
                  <a:pt x="15007" y="7243"/>
                </a:cubicBezTo>
                <a:cubicBezTo>
                  <a:pt x="14949" y="7240"/>
                  <a:pt x="14810" y="7200"/>
                  <a:pt x="14759" y="7169"/>
                </a:cubicBezTo>
                <a:cubicBezTo>
                  <a:pt x="14731" y="7141"/>
                  <a:pt x="14722" y="7127"/>
                  <a:pt x="14734" y="7094"/>
                </a:cubicBezTo>
              </a:path>
              <a:path w="12775" h="2134">
                <a:moveTo>
                  <a:pt x="15652" y="6598"/>
                </a:moveTo>
                <a:cubicBezTo>
                  <a:pt x="15667" y="6673"/>
                  <a:pt x="15619" y="6632"/>
                  <a:pt x="15553" y="6598"/>
                </a:cubicBezTo>
                <a:cubicBezTo>
                  <a:pt x="15466" y="6554"/>
                  <a:pt x="15412" y="6569"/>
                  <a:pt x="15354" y="6648"/>
                </a:cubicBezTo>
                <a:cubicBezTo>
                  <a:pt x="15282" y="6746"/>
                  <a:pt x="15201" y="6819"/>
                  <a:pt x="15180" y="6945"/>
                </a:cubicBezTo>
                <a:cubicBezTo>
                  <a:pt x="15155" y="7092"/>
                  <a:pt x="15229" y="7151"/>
                  <a:pt x="15354" y="7218"/>
                </a:cubicBezTo>
                <a:cubicBezTo>
                  <a:pt x="15461" y="7275"/>
                  <a:pt x="15585" y="7268"/>
                  <a:pt x="15701" y="7268"/>
                </a:cubicBezTo>
                <a:cubicBezTo>
                  <a:pt x="15753" y="7268"/>
                  <a:pt x="15771" y="7267"/>
                  <a:pt x="15801" y="7243"/>
                </a:cubicBezTo>
              </a:path>
              <a:path w="12775" h="2134">
                <a:moveTo>
                  <a:pt x="16297" y="6474"/>
                </a:moveTo>
                <a:cubicBezTo>
                  <a:pt x="16273" y="6570"/>
                  <a:pt x="16192" y="6646"/>
                  <a:pt x="16148" y="6747"/>
                </a:cubicBezTo>
                <a:cubicBezTo>
                  <a:pt x="16108" y="6838"/>
                  <a:pt x="16075" y="6969"/>
                  <a:pt x="16098" y="7069"/>
                </a:cubicBezTo>
                <a:cubicBezTo>
                  <a:pt x="16114" y="7140"/>
                  <a:pt x="16242" y="7276"/>
                  <a:pt x="16321" y="7293"/>
                </a:cubicBezTo>
                <a:cubicBezTo>
                  <a:pt x="16414" y="7313"/>
                  <a:pt x="16504" y="7302"/>
                  <a:pt x="16570" y="7243"/>
                </a:cubicBezTo>
                <a:cubicBezTo>
                  <a:pt x="16645" y="7176"/>
                  <a:pt x="16680" y="7068"/>
                  <a:pt x="16694" y="6970"/>
                </a:cubicBezTo>
                <a:cubicBezTo>
                  <a:pt x="16708" y="6870"/>
                  <a:pt x="16667" y="6753"/>
                  <a:pt x="16619" y="6672"/>
                </a:cubicBezTo>
                <a:cubicBezTo>
                  <a:pt x="16562" y="6576"/>
                  <a:pt x="16455" y="6525"/>
                  <a:pt x="16346" y="6499"/>
                </a:cubicBezTo>
                <a:cubicBezTo>
                  <a:pt x="16287" y="6485"/>
                  <a:pt x="16241" y="6519"/>
                  <a:pt x="16197" y="6548"/>
                </a:cubicBezTo>
              </a:path>
              <a:path w="12775" h="2134">
                <a:moveTo>
                  <a:pt x="15925" y="6871"/>
                </a:moveTo>
                <a:cubicBezTo>
                  <a:pt x="16042" y="6910"/>
                  <a:pt x="16123" y="6921"/>
                  <a:pt x="16247" y="6921"/>
                </a:cubicBezTo>
                <a:cubicBezTo>
                  <a:pt x="16393" y="6921"/>
                  <a:pt x="16527" y="6923"/>
                  <a:pt x="16669" y="6896"/>
                </a:cubicBezTo>
              </a:path>
              <a:path w="12775" h="2134">
                <a:moveTo>
                  <a:pt x="17115" y="6772"/>
                </a:moveTo>
                <a:cubicBezTo>
                  <a:pt x="17240" y="6785"/>
                  <a:pt x="17315" y="6819"/>
                  <a:pt x="17413" y="6772"/>
                </a:cubicBezTo>
              </a:path>
              <a:path w="12775" h="2134">
                <a:moveTo>
                  <a:pt x="17066" y="7094"/>
                </a:moveTo>
                <a:cubicBezTo>
                  <a:pt x="17199" y="7113"/>
                  <a:pt x="17329" y="7134"/>
                  <a:pt x="17462" y="7144"/>
                </a:cubicBezTo>
              </a:path>
              <a:path w="12775" h="2134">
                <a:moveTo>
                  <a:pt x="9723" y="5854"/>
                </a:moveTo>
                <a:cubicBezTo>
                  <a:pt x="9723" y="5959"/>
                  <a:pt x="9692" y="6026"/>
                  <a:pt x="9674" y="6127"/>
                </a:cubicBezTo>
                <a:cubicBezTo>
                  <a:pt x="9674" y="6143"/>
                  <a:pt x="9674" y="6160"/>
                  <a:pt x="9674" y="6176"/>
                </a:cubicBezTo>
                <a:cubicBezTo>
                  <a:pt x="9750" y="6151"/>
                  <a:pt x="9816" y="6152"/>
                  <a:pt x="9897" y="6152"/>
                </a:cubicBezTo>
                <a:cubicBezTo>
                  <a:pt x="9975" y="6152"/>
                  <a:pt x="10009" y="6151"/>
                  <a:pt x="10071" y="6102"/>
                </a:cubicBezTo>
              </a:path>
              <a:path w="12775" h="2134">
                <a:moveTo>
                  <a:pt x="10046" y="5705"/>
                </a:moveTo>
                <a:cubicBezTo>
                  <a:pt x="10023" y="5810"/>
                  <a:pt x="10021" y="5895"/>
                  <a:pt x="10021" y="6003"/>
                </a:cubicBezTo>
                <a:cubicBezTo>
                  <a:pt x="10021" y="6087"/>
                  <a:pt x="9981" y="6166"/>
                  <a:pt x="9996" y="6251"/>
                </a:cubicBezTo>
                <a:cubicBezTo>
                  <a:pt x="10013" y="6343"/>
                  <a:pt x="10021" y="6406"/>
                  <a:pt x="10021" y="6499"/>
                </a:cubicBezTo>
              </a:path>
              <a:path w="12775" h="2134">
                <a:moveTo>
                  <a:pt x="9550" y="6548"/>
                </a:moveTo>
                <a:cubicBezTo>
                  <a:pt x="9831" y="6548"/>
                  <a:pt x="10112" y="6548"/>
                  <a:pt x="10393" y="6548"/>
                </a:cubicBezTo>
              </a:path>
              <a:path w="12775" h="2134">
                <a:moveTo>
                  <a:pt x="9500" y="6970"/>
                </a:moveTo>
                <a:cubicBezTo>
                  <a:pt x="9494" y="7059"/>
                  <a:pt x="9475" y="7129"/>
                  <a:pt x="9475" y="7218"/>
                </a:cubicBezTo>
                <a:cubicBezTo>
                  <a:pt x="9475" y="7292"/>
                  <a:pt x="9475" y="7367"/>
                  <a:pt x="9475" y="7441"/>
                </a:cubicBezTo>
                <a:cubicBezTo>
                  <a:pt x="9475" y="7575"/>
                  <a:pt x="9454" y="7295"/>
                  <a:pt x="9451" y="7268"/>
                </a:cubicBezTo>
                <a:cubicBezTo>
                  <a:pt x="9441" y="7173"/>
                  <a:pt x="9467" y="7083"/>
                  <a:pt x="9500" y="6995"/>
                </a:cubicBezTo>
                <a:cubicBezTo>
                  <a:pt x="9530" y="6914"/>
                  <a:pt x="9610" y="6916"/>
                  <a:pt x="9674" y="6871"/>
                </a:cubicBezTo>
                <a:cubicBezTo>
                  <a:pt x="9722" y="6838"/>
                  <a:pt x="9736" y="6808"/>
                  <a:pt x="9798" y="6796"/>
                </a:cubicBezTo>
              </a:path>
              <a:path w="12775" h="2134">
                <a:moveTo>
                  <a:pt x="9872" y="7094"/>
                </a:moveTo>
                <a:cubicBezTo>
                  <a:pt x="9872" y="7026"/>
                  <a:pt x="9880" y="6975"/>
                  <a:pt x="9847" y="6921"/>
                </a:cubicBezTo>
                <a:cubicBezTo>
                  <a:pt x="9783" y="6957"/>
                  <a:pt x="9757" y="6979"/>
                  <a:pt x="9723" y="7045"/>
                </a:cubicBezTo>
                <a:cubicBezTo>
                  <a:pt x="9694" y="7100"/>
                  <a:pt x="9649" y="7177"/>
                  <a:pt x="9674" y="7243"/>
                </a:cubicBezTo>
                <a:cubicBezTo>
                  <a:pt x="9682" y="7251"/>
                  <a:pt x="9691" y="7260"/>
                  <a:pt x="9699" y="7268"/>
                </a:cubicBezTo>
                <a:cubicBezTo>
                  <a:pt x="9758" y="7238"/>
                  <a:pt x="9830" y="7218"/>
                  <a:pt x="9847" y="7144"/>
                </a:cubicBezTo>
                <a:cubicBezTo>
                  <a:pt x="9847" y="7099"/>
                  <a:pt x="9844" y="7086"/>
                  <a:pt x="9872" y="7069"/>
                </a:cubicBezTo>
                <a:cubicBezTo>
                  <a:pt x="9872" y="7158"/>
                  <a:pt x="9858" y="7235"/>
                  <a:pt x="9847" y="7317"/>
                </a:cubicBezTo>
                <a:cubicBezTo>
                  <a:pt x="9836" y="7402"/>
                  <a:pt x="9847" y="7648"/>
                  <a:pt x="9872" y="7565"/>
                </a:cubicBezTo>
                <a:cubicBezTo>
                  <a:pt x="9872" y="7507"/>
                  <a:pt x="9872" y="7499"/>
                  <a:pt x="9872" y="7466"/>
                </a:cubicBezTo>
              </a:path>
              <a:path w="12775" h="2134">
                <a:moveTo>
                  <a:pt x="9996" y="7020"/>
                </a:moveTo>
                <a:cubicBezTo>
                  <a:pt x="10079" y="7002"/>
                  <a:pt x="10162" y="6975"/>
                  <a:pt x="10244" y="6970"/>
                </a:cubicBezTo>
                <a:cubicBezTo>
                  <a:pt x="10261" y="6970"/>
                  <a:pt x="10277" y="6970"/>
                  <a:pt x="10294" y="6970"/>
                </a:cubicBezTo>
                <a:cubicBezTo>
                  <a:pt x="10286" y="7026"/>
                  <a:pt x="10254" y="7070"/>
                  <a:pt x="10244" y="7119"/>
                </a:cubicBezTo>
                <a:cubicBezTo>
                  <a:pt x="10233" y="7175"/>
                  <a:pt x="10225" y="7264"/>
                  <a:pt x="10220" y="7317"/>
                </a:cubicBezTo>
                <a:cubicBezTo>
                  <a:pt x="10213" y="7399"/>
                  <a:pt x="10220" y="7507"/>
                  <a:pt x="10269" y="7491"/>
                </a:cubicBezTo>
              </a:path>
              <a:path w="12775" h="2134">
                <a:moveTo>
                  <a:pt x="10492" y="7169"/>
                </a:moveTo>
                <a:cubicBezTo>
                  <a:pt x="10488" y="7241"/>
                  <a:pt x="10443" y="7393"/>
                  <a:pt x="10468" y="7466"/>
                </a:cubicBezTo>
                <a:cubicBezTo>
                  <a:pt x="10476" y="7474"/>
                  <a:pt x="10484" y="7483"/>
                  <a:pt x="10492" y="7491"/>
                </a:cubicBezTo>
                <a:cubicBezTo>
                  <a:pt x="10502" y="7398"/>
                  <a:pt x="10517" y="7315"/>
                  <a:pt x="10517" y="7218"/>
                </a:cubicBezTo>
                <a:cubicBezTo>
                  <a:pt x="10517" y="7131"/>
                  <a:pt x="10494" y="7021"/>
                  <a:pt x="10542" y="6945"/>
                </a:cubicBezTo>
                <a:cubicBezTo>
                  <a:pt x="10567" y="6905"/>
                  <a:pt x="10624" y="6863"/>
                  <a:pt x="10666" y="6846"/>
                </a:cubicBezTo>
                <a:cubicBezTo>
                  <a:pt x="10771" y="6802"/>
                  <a:pt x="10900" y="6777"/>
                  <a:pt x="11013" y="6772"/>
                </a:cubicBezTo>
                <a:cubicBezTo>
                  <a:pt x="11030" y="6771"/>
                  <a:pt x="11233" y="6754"/>
                  <a:pt x="11237" y="6747"/>
                </a:cubicBezTo>
                <a:cubicBezTo>
                  <a:pt x="11229" y="6739"/>
                  <a:pt x="11220" y="6730"/>
                  <a:pt x="11212" y="6722"/>
                </a:cubicBezTo>
              </a:path>
              <a:path w="12775" h="2134">
                <a:moveTo>
                  <a:pt x="10964" y="7119"/>
                </a:moveTo>
                <a:cubicBezTo>
                  <a:pt x="10964" y="7072"/>
                  <a:pt x="10968" y="6972"/>
                  <a:pt x="10914" y="6945"/>
                </a:cubicBezTo>
                <a:cubicBezTo>
                  <a:pt x="10897" y="6945"/>
                  <a:pt x="10881" y="6945"/>
                  <a:pt x="10864" y="6945"/>
                </a:cubicBezTo>
                <a:cubicBezTo>
                  <a:pt x="10835" y="6970"/>
                  <a:pt x="10721" y="7099"/>
                  <a:pt x="10716" y="7144"/>
                </a:cubicBezTo>
                <a:cubicBezTo>
                  <a:pt x="10709" y="7201"/>
                  <a:pt x="10791" y="7293"/>
                  <a:pt x="10840" y="7218"/>
                </a:cubicBezTo>
                <a:cubicBezTo>
                  <a:pt x="10856" y="7185"/>
                  <a:pt x="10873" y="7152"/>
                  <a:pt x="10889" y="7119"/>
                </a:cubicBezTo>
                <a:cubicBezTo>
                  <a:pt x="10897" y="7102"/>
                  <a:pt x="10906" y="7086"/>
                  <a:pt x="10914" y="7069"/>
                </a:cubicBezTo>
                <a:cubicBezTo>
                  <a:pt x="10889" y="7161"/>
                  <a:pt x="10868" y="7247"/>
                  <a:pt x="10864" y="7342"/>
                </a:cubicBezTo>
                <a:cubicBezTo>
                  <a:pt x="10862" y="7384"/>
                  <a:pt x="10851" y="7534"/>
                  <a:pt x="10914" y="7541"/>
                </a:cubicBezTo>
                <a:cubicBezTo>
                  <a:pt x="10957" y="7546"/>
                  <a:pt x="10962" y="7457"/>
                  <a:pt x="10964" y="7441"/>
                </a:cubicBezTo>
              </a:path>
              <a:path w="12775" h="2134">
                <a:moveTo>
                  <a:pt x="11038" y="7094"/>
                </a:moveTo>
                <a:cubicBezTo>
                  <a:pt x="11123" y="7094"/>
                  <a:pt x="11183" y="7082"/>
                  <a:pt x="11261" y="7069"/>
                </a:cubicBezTo>
                <a:cubicBezTo>
                  <a:pt x="11323" y="7059"/>
                  <a:pt x="11327" y="7053"/>
                  <a:pt x="11385" y="7020"/>
                </a:cubicBezTo>
                <a:cubicBezTo>
                  <a:pt x="11376" y="7097"/>
                  <a:pt x="11343" y="7169"/>
                  <a:pt x="11311" y="7243"/>
                </a:cubicBezTo>
                <a:cubicBezTo>
                  <a:pt x="11278" y="7319"/>
                  <a:pt x="11261" y="7329"/>
                  <a:pt x="11261" y="7417"/>
                </a:cubicBezTo>
                <a:cubicBezTo>
                  <a:pt x="11261" y="7478"/>
                  <a:pt x="11270" y="7512"/>
                  <a:pt x="11237" y="7466"/>
                </a:cubicBezTo>
              </a:path>
              <a:path w="12775" h="2134">
                <a:moveTo>
                  <a:pt x="10616" y="5978"/>
                </a:moveTo>
                <a:cubicBezTo>
                  <a:pt x="10616" y="6097"/>
                  <a:pt x="10652" y="6322"/>
                  <a:pt x="10592" y="6424"/>
                </a:cubicBezTo>
                <a:cubicBezTo>
                  <a:pt x="10592" y="6340"/>
                  <a:pt x="10571" y="6280"/>
                  <a:pt x="10567" y="6201"/>
                </a:cubicBezTo>
                <a:cubicBezTo>
                  <a:pt x="10562" y="6112"/>
                  <a:pt x="10566" y="6038"/>
                  <a:pt x="10592" y="5953"/>
                </a:cubicBezTo>
                <a:cubicBezTo>
                  <a:pt x="10630" y="5829"/>
                  <a:pt x="10651" y="5827"/>
                  <a:pt x="10765" y="5779"/>
                </a:cubicBezTo>
                <a:cubicBezTo>
                  <a:pt x="10842" y="5747"/>
                  <a:pt x="10900" y="5696"/>
                  <a:pt x="10988" y="5680"/>
                </a:cubicBezTo>
                <a:cubicBezTo>
                  <a:pt x="11057" y="5667"/>
                  <a:pt x="11114" y="5655"/>
                  <a:pt x="11187" y="5655"/>
                </a:cubicBezTo>
                <a:cubicBezTo>
                  <a:pt x="11204" y="5655"/>
                  <a:pt x="11220" y="5655"/>
                  <a:pt x="11237" y="5655"/>
                </a:cubicBezTo>
              </a:path>
              <a:path w="12775" h="2134">
                <a:moveTo>
                  <a:pt x="11038" y="6052"/>
                </a:moveTo>
                <a:cubicBezTo>
                  <a:pt x="11030" y="5988"/>
                  <a:pt x="11019" y="5931"/>
                  <a:pt x="10988" y="5879"/>
                </a:cubicBezTo>
                <a:cubicBezTo>
                  <a:pt x="10883" y="5927"/>
                  <a:pt x="10818" y="5979"/>
                  <a:pt x="10790" y="6102"/>
                </a:cubicBezTo>
                <a:cubicBezTo>
                  <a:pt x="10773" y="6176"/>
                  <a:pt x="10779" y="6177"/>
                  <a:pt x="10790" y="6251"/>
                </a:cubicBezTo>
                <a:cubicBezTo>
                  <a:pt x="10886" y="6239"/>
                  <a:pt x="10909" y="6225"/>
                  <a:pt x="10939" y="6127"/>
                </a:cubicBezTo>
                <a:cubicBezTo>
                  <a:pt x="10971" y="6020"/>
                  <a:pt x="10964" y="5923"/>
                  <a:pt x="10964" y="6077"/>
                </a:cubicBezTo>
                <a:cubicBezTo>
                  <a:pt x="10964" y="6177"/>
                  <a:pt x="10953" y="6255"/>
                  <a:pt x="10939" y="6350"/>
                </a:cubicBezTo>
                <a:cubicBezTo>
                  <a:pt x="10935" y="6380"/>
                  <a:pt x="10954" y="6582"/>
                  <a:pt x="10964" y="6449"/>
                </a:cubicBezTo>
                <a:cubicBezTo>
                  <a:pt x="10964" y="6433"/>
                  <a:pt x="10964" y="6416"/>
                  <a:pt x="10964" y="6400"/>
                </a:cubicBezTo>
              </a:path>
              <a:path w="12775" h="2134">
                <a:moveTo>
                  <a:pt x="11013" y="5928"/>
                </a:moveTo>
                <a:cubicBezTo>
                  <a:pt x="11079" y="5904"/>
                  <a:pt x="11148" y="5901"/>
                  <a:pt x="11212" y="5879"/>
                </a:cubicBezTo>
                <a:cubicBezTo>
                  <a:pt x="11244" y="5868"/>
                  <a:pt x="11367" y="5813"/>
                  <a:pt x="11385" y="5879"/>
                </a:cubicBezTo>
                <a:cubicBezTo>
                  <a:pt x="11405" y="5952"/>
                  <a:pt x="11332" y="6102"/>
                  <a:pt x="11311" y="6176"/>
                </a:cubicBezTo>
                <a:cubicBezTo>
                  <a:pt x="11282" y="6279"/>
                  <a:pt x="11251" y="6323"/>
                  <a:pt x="11286" y="6424"/>
                </a:cubicBezTo>
                <a:cubicBezTo>
                  <a:pt x="11305" y="6482"/>
                  <a:pt x="11314" y="6525"/>
                  <a:pt x="11311" y="6474"/>
                </a:cubicBezTo>
              </a:path>
              <a:path w="12775" h="2134">
                <a:moveTo>
                  <a:pt x="11733" y="6276"/>
                </a:moveTo>
                <a:cubicBezTo>
                  <a:pt x="11807" y="6276"/>
                  <a:pt x="11869" y="6268"/>
                  <a:pt x="11931" y="6251"/>
                </a:cubicBezTo>
                <a:cubicBezTo>
                  <a:pt x="11939" y="6251"/>
                  <a:pt x="11948" y="6251"/>
                  <a:pt x="11956" y="6251"/>
                </a:cubicBezTo>
              </a:path>
              <a:path w="12775" h="2134">
                <a:moveTo>
                  <a:pt x="11733" y="6474"/>
                </a:moveTo>
                <a:cubicBezTo>
                  <a:pt x="11816" y="6492"/>
                  <a:pt x="11873" y="6499"/>
                  <a:pt x="11956" y="6499"/>
                </a:cubicBezTo>
              </a:path>
              <a:path w="12775" h="2134">
                <a:moveTo>
                  <a:pt x="12204" y="5804"/>
                </a:moveTo>
                <a:cubicBezTo>
                  <a:pt x="12204" y="5887"/>
                  <a:pt x="12193" y="5960"/>
                  <a:pt x="12179" y="6028"/>
                </a:cubicBezTo>
                <a:cubicBezTo>
                  <a:pt x="12158" y="6133"/>
                  <a:pt x="12184" y="6148"/>
                  <a:pt x="12254" y="6201"/>
                </a:cubicBezTo>
                <a:cubicBezTo>
                  <a:pt x="12305" y="6240"/>
                  <a:pt x="12351" y="6234"/>
                  <a:pt x="12402" y="6201"/>
                </a:cubicBezTo>
                <a:cubicBezTo>
                  <a:pt x="12481" y="6150"/>
                  <a:pt x="12507" y="6129"/>
                  <a:pt x="12502" y="6052"/>
                </a:cubicBezTo>
              </a:path>
              <a:path w="12775" h="2134">
                <a:moveTo>
                  <a:pt x="12477" y="5655"/>
                </a:moveTo>
                <a:cubicBezTo>
                  <a:pt x="12444" y="5710"/>
                  <a:pt x="12452" y="5761"/>
                  <a:pt x="12452" y="5829"/>
                </a:cubicBezTo>
                <a:cubicBezTo>
                  <a:pt x="12452" y="5948"/>
                  <a:pt x="12427" y="6055"/>
                  <a:pt x="12427" y="6176"/>
                </a:cubicBezTo>
                <a:cubicBezTo>
                  <a:pt x="12427" y="6290"/>
                  <a:pt x="12434" y="6394"/>
                  <a:pt x="12452" y="6499"/>
                </a:cubicBezTo>
                <a:cubicBezTo>
                  <a:pt x="12471" y="6613"/>
                  <a:pt x="12477" y="6552"/>
                  <a:pt x="12477" y="6474"/>
                </a:cubicBezTo>
                <a:cubicBezTo>
                  <a:pt x="12477" y="6457"/>
                  <a:pt x="12477" y="6441"/>
                  <a:pt x="12477" y="6424"/>
                </a:cubicBezTo>
              </a:path>
              <a:path w="12775" h="2134">
                <a:moveTo>
                  <a:pt x="12626" y="5978"/>
                </a:moveTo>
                <a:cubicBezTo>
                  <a:pt x="12649" y="6123"/>
                  <a:pt x="12650" y="6222"/>
                  <a:pt x="12650" y="6375"/>
                </a:cubicBezTo>
                <a:cubicBezTo>
                  <a:pt x="12650" y="6256"/>
                  <a:pt x="12642" y="6141"/>
                  <a:pt x="12626" y="6028"/>
                </a:cubicBezTo>
                <a:cubicBezTo>
                  <a:pt x="12621" y="5991"/>
                  <a:pt x="12636" y="5865"/>
                  <a:pt x="12650" y="5829"/>
                </a:cubicBezTo>
                <a:cubicBezTo>
                  <a:pt x="12666" y="5787"/>
                  <a:pt x="12737" y="5722"/>
                  <a:pt x="12774" y="5705"/>
                </a:cubicBezTo>
                <a:cubicBezTo>
                  <a:pt x="12853" y="5669"/>
                  <a:pt x="12920" y="5673"/>
                  <a:pt x="12998" y="5655"/>
                </a:cubicBezTo>
                <a:cubicBezTo>
                  <a:pt x="13080" y="5636"/>
                  <a:pt x="13200" y="5625"/>
                  <a:pt x="13271" y="5581"/>
                </a:cubicBezTo>
                <a:cubicBezTo>
                  <a:pt x="13279" y="5573"/>
                  <a:pt x="13287" y="5564"/>
                  <a:pt x="13295" y="5556"/>
                </a:cubicBezTo>
              </a:path>
              <a:path w="12775" h="2134">
                <a:moveTo>
                  <a:pt x="13047" y="6052"/>
                </a:moveTo>
                <a:cubicBezTo>
                  <a:pt x="13071" y="6004"/>
                  <a:pt x="13089" y="5916"/>
                  <a:pt x="13072" y="5854"/>
                </a:cubicBezTo>
                <a:cubicBezTo>
                  <a:pt x="13049" y="5770"/>
                  <a:pt x="12991" y="5762"/>
                  <a:pt x="12923" y="5804"/>
                </a:cubicBezTo>
                <a:cubicBezTo>
                  <a:pt x="12888" y="5825"/>
                  <a:pt x="12870" y="5935"/>
                  <a:pt x="12849" y="5978"/>
                </a:cubicBezTo>
                <a:cubicBezTo>
                  <a:pt x="12821" y="6035"/>
                  <a:pt x="12805" y="6214"/>
                  <a:pt x="12923" y="6176"/>
                </a:cubicBezTo>
                <a:cubicBezTo>
                  <a:pt x="12965" y="6162"/>
                  <a:pt x="12997" y="6062"/>
                  <a:pt x="13022" y="6028"/>
                </a:cubicBezTo>
                <a:cubicBezTo>
                  <a:pt x="13052" y="5998"/>
                  <a:pt x="13063" y="5984"/>
                  <a:pt x="13072" y="5953"/>
                </a:cubicBezTo>
                <a:cubicBezTo>
                  <a:pt x="13032" y="6044"/>
                  <a:pt x="13025" y="6135"/>
                  <a:pt x="12998" y="6226"/>
                </a:cubicBezTo>
                <a:cubicBezTo>
                  <a:pt x="12975" y="6305"/>
                  <a:pt x="12978" y="6343"/>
                  <a:pt x="12998" y="6424"/>
                </a:cubicBezTo>
                <a:cubicBezTo>
                  <a:pt x="13018" y="6485"/>
                  <a:pt x="13015" y="6500"/>
                  <a:pt x="13047" y="6524"/>
                </a:cubicBezTo>
                <a:cubicBezTo>
                  <a:pt x="13047" y="6466"/>
                  <a:pt x="13044" y="6445"/>
                  <a:pt x="13072" y="6400"/>
                </a:cubicBezTo>
              </a:path>
              <a:path w="12775" h="2134">
                <a:moveTo>
                  <a:pt x="13146" y="5879"/>
                </a:moveTo>
                <a:cubicBezTo>
                  <a:pt x="13241" y="5879"/>
                  <a:pt x="13307" y="5859"/>
                  <a:pt x="13395" y="5854"/>
                </a:cubicBezTo>
                <a:cubicBezTo>
                  <a:pt x="13451" y="5854"/>
                  <a:pt x="13473" y="5849"/>
                  <a:pt x="13494" y="5804"/>
                </a:cubicBezTo>
                <a:cubicBezTo>
                  <a:pt x="13484" y="5881"/>
                  <a:pt x="13459" y="5959"/>
                  <a:pt x="13419" y="6028"/>
                </a:cubicBezTo>
                <a:cubicBezTo>
                  <a:pt x="13365" y="6122"/>
                  <a:pt x="13324" y="6192"/>
                  <a:pt x="13320" y="6300"/>
                </a:cubicBezTo>
                <a:cubicBezTo>
                  <a:pt x="13320" y="6312"/>
                  <a:pt x="13303" y="6493"/>
                  <a:pt x="13295" y="6499"/>
                </a:cubicBezTo>
                <a:cubicBezTo>
                  <a:pt x="13279" y="6499"/>
                  <a:pt x="13262" y="6499"/>
                  <a:pt x="13246" y="6499"/>
                </a:cubicBezTo>
              </a:path>
              <a:path w="12775" h="2134">
                <a:moveTo>
                  <a:pt x="12278" y="6697"/>
                </a:moveTo>
                <a:cubicBezTo>
                  <a:pt x="12594" y="6697"/>
                  <a:pt x="12908" y="6700"/>
                  <a:pt x="13221" y="6672"/>
                </a:cubicBezTo>
                <a:cubicBezTo>
                  <a:pt x="13226" y="6672"/>
                  <a:pt x="13469" y="6634"/>
                  <a:pt x="13370" y="6598"/>
                </a:cubicBezTo>
                <a:cubicBezTo>
                  <a:pt x="13353" y="6598"/>
                  <a:pt x="13337" y="6598"/>
                  <a:pt x="13320" y="6598"/>
                </a:cubicBezTo>
              </a:path>
              <a:path w="12775" h="2134">
                <a:moveTo>
                  <a:pt x="12650" y="7094"/>
                </a:moveTo>
                <a:cubicBezTo>
                  <a:pt x="12645" y="7061"/>
                  <a:pt x="12638" y="6959"/>
                  <a:pt x="12601" y="6945"/>
                </a:cubicBezTo>
                <a:cubicBezTo>
                  <a:pt x="12529" y="6917"/>
                  <a:pt x="12519" y="6935"/>
                  <a:pt x="12452" y="6970"/>
                </a:cubicBezTo>
                <a:cubicBezTo>
                  <a:pt x="12374" y="7011"/>
                  <a:pt x="12376" y="7075"/>
                  <a:pt x="12328" y="7144"/>
                </a:cubicBezTo>
                <a:cubicBezTo>
                  <a:pt x="12288" y="7202"/>
                  <a:pt x="12297" y="7257"/>
                  <a:pt x="12328" y="7317"/>
                </a:cubicBezTo>
                <a:cubicBezTo>
                  <a:pt x="12432" y="7306"/>
                  <a:pt x="12461" y="7290"/>
                  <a:pt x="12502" y="7193"/>
                </a:cubicBezTo>
                <a:cubicBezTo>
                  <a:pt x="12523" y="7128"/>
                  <a:pt x="12531" y="7112"/>
                  <a:pt x="12526" y="7069"/>
                </a:cubicBezTo>
                <a:cubicBezTo>
                  <a:pt x="12526" y="7190"/>
                  <a:pt x="12506" y="7301"/>
                  <a:pt x="12502" y="7417"/>
                </a:cubicBezTo>
                <a:cubicBezTo>
                  <a:pt x="12499" y="7501"/>
                  <a:pt x="12471" y="7729"/>
                  <a:pt x="12526" y="7665"/>
                </a:cubicBezTo>
                <a:cubicBezTo>
                  <a:pt x="12548" y="7600"/>
                  <a:pt x="12556" y="7585"/>
                  <a:pt x="12551" y="7541"/>
                </a:cubicBezTo>
              </a:path>
              <a:path w="12775" h="2134">
                <a:moveTo>
                  <a:pt x="12774" y="7069"/>
                </a:moveTo>
                <a:cubicBezTo>
                  <a:pt x="12861" y="7061"/>
                  <a:pt x="12963" y="7043"/>
                  <a:pt x="13047" y="7020"/>
                </a:cubicBezTo>
                <a:cubicBezTo>
                  <a:pt x="13102" y="6992"/>
                  <a:pt x="13125" y="6984"/>
                  <a:pt x="13171" y="6995"/>
                </a:cubicBezTo>
                <a:cubicBezTo>
                  <a:pt x="13145" y="7085"/>
                  <a:pt x="13110" y="7176"/>
                  <a:pt x="13097" y="7268"/>
                </a:cubicBezTo>
                <a:cubicBezTo>
                  <a:pt x="13083" y="7364"/>
                  <a:pt x="13092" y="7485"/>
                  <a:pt x="13122" y="7565"/>
                </a:cubicBezTo>
                <a:cubicBezTo>
                  <a:pt x="13143" y="7631"/>
                  <a:pt x="13151" y="7646"/>
                  <a:pt x="13146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Ink 4"/>
          <p:cNvSpPr/>
          <p:nvPr/>
        </p:nvSpPr>
        <p:spPr>
          <a:xfrm>
            <a:off x="6518160" y="1963800"/>
            <a:ext cx="482760" cy="974520"/>
          </a:xfrm>
          <a:custGeom>
            <a:avLst/>
            <a:gdLst/>
            <a:ahLst/>
            <a:rect l="l" t="t" r="r" b="b"/>
            <a:pathLst>
              <a:path w="1341" h="2705">
                <a:moveTo>
                  <a:pt x="18182" y="6028"/>
                </a:moveTo>
                <a:cubicBezTo>
                  <a:pt x="18220" y="6104"/>
                  <a:pt x="18268" y="6191"/>
                  <a:pt x="18281" y="6276"/>
                </a:cubicBezTo>
                <a:cubicBezTo>
                  <a:pt x="18291" y="6346"/>
                  <a:pt x="18319" y="6414"/>
                  <a:pt x="18331" y="6474"/>
                </a:cubicBezTo>
                <a:cubicBezTo>
                  <a:pt x="18359" y="6616"/>
                  <a:pt x="18282" y="6328"/>
                  <a:pt x="18281" y="6325"/>
                </a:cubicBezTo>
                <a:cubicBezTo>
                  <a:pt x="18271" y="6264"/>
                  <a:pt x="18242" y="6215"/>
                  <a:pt x="18231" y="6152"/>
                </a:cubicBezTo>
                <a:cubicBezTo>
                  <a:pt x="18219" y="6079"/>
                  <a:pt x="18224" y="6016"/>
                  <a:pt x="18231" y="5953"/>
                </a:cubicBezTo>
                <a:cubicBezTo>
                  <a:pt x="18240" y="5871"/>
                  <a:pt x="18294" y="5806"/>
                  <a:pt x="18331" y="5730"/>
                </a:cubicBezTo>
                <a:cubicBezTo>
                  <a:pt x="18370" y="5650"/>
                  <a:pt x="18455" y="5651"/>
                  <a:pt x="18529" y="5606"/>
                </a:cubicBezTo>
                <a:cubicBezTo>
                  <a:pt x="18619" y="5551"/>
                  <a:pt x="18721" y="5501"/>
                  <a:pt x="18827" y="5482"/>
                </a:cubicBezTo>
                <a:cubicBezTo>
                  <a:pt x="18897" y="5469"/>
                  <a:pt x="18998" y="5467"/>
                  <a:pt x="19050" y="5482"/>
                </a:cubicBezTo>
              </a:path>
              <a:path w="1341" h="2705">
                <a:moveTo>
                  <a:pt x="18604" y="6003"/>
                </a:moveTo>
                <a:cubicBezTo>
                  <a:pt x="18623" y="5964"/>
                  <a:pt x="18615" y="5923"/>
                  <a:pt x="18579" y="5879"/>
                </a:cubicBezTo>
                <a:cubicBezTo>
                  <a:pt x="18554" y="5854"/>
                  <a:pt x="18546" y="5846"/>
                  <a:pt x="18529" y="5829"/>
                </a:cubicBezTo>
                <a:cubicBezTo>
                  <a:pt x="18485" y="5894"/>
                  <a:pt x="18467" y="5976"/>
                  <a:pt x="18455" y="6052"/>
                </a:cubicBezTo>
                <a:cubicBezTo>
                  <a:pt x="18444" y="6127"/>
                  <a:pt x="18412" y="6179"/>
                  <a:pt x="18455" y="6251"/>
                </a:cubicBezTo>
                <a:cubicBezTo>
                  <a:pt x="18493" y="6315"/>
                  <a:pt x="18591" y="6238"/>
                  <a:pt x="18604" y="6201"/>
                </a:cubicBezTo>
                <a:cubicBezTo>
                  <a:pt x="18604" y="6176"/>
                  <a:pt x="18604" y="6152"/>
                  <a:pt x="18604" y="6127"/>
                </a:cubicBezTo>
                <a:cubicBezTo>
                  <a:pt x="18612" y="6119"/>
                  <a:pt x="18620" y="6110"/>
                  <a:pt x="18628" y="6102"/>
                </a:cubicBezTo>
                <a:cubicBezTo>
                  <a:pt x="18639" y="6224"/>
                  <a:pt x="18640" y="6270"/>
                  <a:pt x="18628" y="6400"/>
                </a:cubicBezTo>
                <a:cubicBezTo>
                  <a:pt x="18626" y="6417"/>
                  <a:pt x="18620" y="6680"/>
                  <a:pt x="18653" y="6672"/>
                </a:cubicBezTo>
                <a:cubicBezTo>
                  <a:pt x="18673" y="6632"/>
                  <a:pt x="18682" y="6626"/>
                  <a:pt x="18678" y="6598"/>
                </a:cubicBezTo>
              </a:path>
              <a:path w="1341" h="2705">
                <a:moveTo>
                  <a:pt x="18728" y="6028"/>
                </a:moveTo>
                <a:cubicBezTo>
                  <a:pt x="18785" y="5989"/>
                  <a:pt x="18846" y="5982"/>
                  <a:pt x="18901" y="5953"/>
                </a:cubicBezTo>
                <a:cubicBezTo>
                  <a:pt x="18944" y="5930"/>
                  <a:pt x="19032" y="5891"/>
                  <a:pt x="19075" y="5879"/>
                </a:cubicBezTo>
                <a:cubicBezTo>
                  <a:pt x="19153" y="5858"/>
                  <a:pt x="19215" y="5878"/>
                  <a:pt x="19224" y="5953"/>
                </a:cubicBezTo>
                <a:cubicBezTo>
                  <a:pt x="19251" y="6177"/>
                  <a:pt x="19224" y="6421"/>
                  <a:pt x="19224" y="6648"/>
                </a:cubicBezTo>
              </a:path>
              <a:path w="1341" h="2705">
                <a:moveTo>
                  <a:pt x="18107" y="6921"/>
                </a:moveTo>
                <a:cubicBezTo>
                  <a:pt x="18190" y="6921"/>
                  <a:pt x="18251" y="6908"/>
                  <a:pt x="18331" y="6896"/>
                </a:cubicBezTo>
                <a:cubicBezTo>
                  <a:pt x="18439" y="6880"/>
                  <a:pt x="18546" y="6871"/>
                  <a:pt x="18653" y="6846"/>
                </a:cubicBezTo>
                <a:cubicBezTo>
                  <a:pt x="18776" y="6818"/>
                  <a:pt x="18901" y="6800"/>
                  <a:pt x="19025" y="6796"/>
                </a:cubicBezTo>
                <a:cubicBezTo>
                  <a:pt x="19165" y="6791"/>
                  <a:pt x="19307" y="6796"/>
                  <a:pt x="19447" y="6796"/>
                </a:cubicBezTo>
              </a:path>
              <a:path w="1341" h="2705">
                <a:moveTo>
                  <a:pt x="18579" y="7144"/>
                </a:moveTo>
                <a:cubicBezTo>
                  <a:pt x="18579" y="7241"/>
                  <a:pt x="18589" y="7326"/>
                  <a:pt x="18604" y="7417"/>
                </a:cubicBezTo>
                <a:cubicBezTo>
                  <a:pt x="18612" y="7466"/>
                  <a:pt x="18579" y="7574"/>
                  <a:pt x="18678" y="7541"/>
                </a:cubicBezTo>
                <a:cubicBezTo>
                  <a:pt x="18729" y="7524"/>
                  <a:pt x="18774" y="7495"/>
                  <a:pt x="18827" y="7466"/>
                </a:cubicBezTo>
                <a:cubicBezTo>
                  <a:pt x="18887" y="7434"/>
                  <a:pt x="18928" y="7390"/>
                  <a:pt x="18976" y="7342"/>
                </a:cubicBezTo>
              </a:path>
              <a:path w="1341" h="2705">
                <a:moveTo>
                  <a:pt x="18876" y="7069"/>
                </a:moveTo>
                <a:cubicBezTo>
                  <a:pt x="18884" y="7174"/>
                  <a:pt x="18896" y="7265"/>
                  <a:pt x="18926" y="7367"/>
                </a:cubicBezTo>
                <a:cubicBezTo>
                  <a:pt x="18956" y="7468"/>
                  <a:pt x="18963" y="7584"/>
                  <a:pt x="18976" y="7689"/>
                </a:cubicBezTo>
                <a:cubicBezTo>
                  <a:pt x="18986" y="7774"/>
                  <a:pt x="19000" y="7851"/>
                  <a:pt x="19000" y="7938"/>
                </a:cubicBezTo>
                <a:cubicBezTo>
                  <a:pt x="19000" y="8070"/>
                  <a:pt x="19000" y="8087"/>
                  <a:pt x="19000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Ink 5"/>
          <p:cNvSpPr/>
          <p:nvPr/>
        </p:nvSpPr>
        <p:spPr>
          <a:xfrm>
            <a:off x="1714680" y="3463920"/>
            <a:ext cx="1554120" cy="349200"/>
          </a:xfrm>
          <a:custGeom>
            <a:avLst/>
            <a:gdLst/>
            <a:ahLst/>
            <a:rect l="l" t="t" r="r" b="b"/>
            <a:pathLst>
              <a:path w="4318" h="969">
                <a:moveTo>
                  <a:pt x="5184" y="9699"/>
                </a:moveTo>
                <a:cubicBezTo>
                  <a:pt x="5207" y="9745"/>
                  <a:pt x="5227" y="9784"/>
                  <a:pt x="5259" y="9823"/>
                </a:cubicBezTo>
                <a:cubicBezTo>
                  <a:pt x="5229" y="9771"/>
                  <a:pt x="5201" y="9741"/>
                  <a:pt x="5159" y="9699"/>
                </a:cubicBezTo>
                <a:cubicBezTo>
                  <a:pt x="5087" y="9626"/>
                  <a:pt x="5085" y="9639"/>
                  <a:pt x="4986" y="9649"/>
                </a:cubicBezTo>
                <a:cubicBezTo>
                  <a:pt x="4937" y="9654"/>
                  <a:pt x="4866" y="9720"/>
                  <a:pt x="4837" y="9773"/>
                </a:cubicBezTo>
                <a:cubicBezTo>
                  <a:pt x="4786" y="9865"/>
                  <a:pt x="4737" y="9987"/>
                  <a:pt x="4762" y="10096"/>
                </a:cubicBezTo>
                <a:cubicBezTo>
                  <a:pt x="4789" y="10214"/>
                  <a:pt x="4845" y="10314"/>
                  <a:pt x="4911" y="10418"/>
                </a:cubicBezTo>
                <a:cubicBezTo>
                  <a:pt x="4950" y="10480"/>
                  <a:pt x="5029" y="10473"/>
                  <a:pt x="5085" y="10492"/>
                </a:cubicBezTo>
                <a:cubicBezTo>
                  <a:pt x="5159" y="10517"/>
                  <a:pt x="5202" y="10479"/>
                  <a:pt x="5283" y="10443"/>
                </a:cubicBezTo>
              </a:path>
              <a:path w="4318" h="969">
                <a:moveTo>
                  <a:pt x="5556" y="9872"/>
                </a:moveTo>
                <a:cubicBezTo>
                  <a:pt x="5525" y="9989"/>
                  <a:pt x="5485" y="10120"/>
                  <a:pt x="5507" y="10244"/>
                </a:cubicBezTo>
                <a:cubicBezTo>
                  <a:pt x="5523" y="10333"/>
                  <a:pt x="5525" y="10414"/>
                  <a:pt x="5606" y="10468"/>
                </a:cubicBezTo>
                <a:cubicBezTo>
                  <a:pt x="5652" y="10499"/>
                  <a:pt x="5750" y="10507"/>
                  <a:pt x="5804" y="10492"/>
                </a:cubicBezTo>
                <a:cubicBezTo>
                  <a:pt x="5898" y="10467"/>
                  <a:pt x="5902" y="10373"/>
                  <a:pt x="5928" y="10294"/>
                </a:cubicBezTo>
                <a:cubicBezTo>
                  <a:pt x="5971" y="10164"/>
                  <a:pt x="5963" y="10084"/>
                  <a:pt x="5904" y="9971"/>
                </a:cubicBezTo>
                <a:cubicBezTo>
                  <a:pt x="5844" y="9856"/>
                  <a:pt x="5840" y="9901"/>
                  <a:pt x="5730" y="9847"/>
                </a:cubicBezTo>
                <a:cubicBezTo>
                  <a:pt x="5666" y="9816"/>
                  <a:pt x="5626" y="9816"/>
                  <a:pt x="5556" y="9847"/>
                </a:cubicBezTo>
                <a:cubicBezTo>
                  <a:pt x="5491" y="9876"/>
                  <a:pt x="5483" y="9874"/>
                  <a:pt x="5507" y="9922"/>
                </a:cubicBezTo>
              </a:path>
              <a:path w="4318" h="969">
                <a:moveTo>
                  <a:pt x="6325" y="9798"/>
                </a:moveTo>
                <a:cubicBezTo>
                  <a:pt x="6342" y="9798"/>
                  <a:pt x="6358" y="9798"/>
                  <a:pt x="6375" y="9798"/>
                </a:cubicBezTo>
                <a:cubicBezTo>
                  <a:pt x="6316" y="9845"/>
                  <a:pt x="6227" y="9907"/>
                  <a:pt x="6152" y="9922"/>
                </a:cubicBezTo>
                <a:cubicBezTo>
                  <a:pt x="6100" y="9922"/>
                  <a:pt x="6083" y="9923"/>
                  <a:pt x="6077" y="9971"/>
                </a:cubicBezTo>
                <a:cubicBezTo>
                  <a:pt x="6144" y="10039"/>
                  <a:pt x="6219" y="10120"/>
                  <a:pt x="6300" y="10170"/>
                </a:cubicBezTo>
                <a:cubicBezTo>
                  <a:pt x="6400" y="10232"/>
                  <a:pt x="6464" y="10284"/>
                  <a:pt x="6548" y="10368"/>
                </a:cubicBezTo>
                <a:cubicBezTo>
                  <a:pt x="6576" y="10396"/>
                  <a:pt x="6585" y="10410"/>
                  <a:pt x="6573" y="10443"/>
                </a:cubicBezTo>
                <a:cubicBezTo>
                  <a:pt x="6510" y="10481"/>
                  <a:pt x="6449" y="10475"/>
                  <a:pt x="6375" y="10492"/>
                </a:cubicBezTo>
                <a:cubicBezTo>
                  <a:pt x="6290" y="10512"/>
                  <a:pt x="6192" y="10537"/>
                  <a:pt x="6102" y="10517"/>
                </a:cubicBezTo>
                <a:cubicBezTo>
                  <a:pt x="6058" y="10495"/>
                  <a:pt x="6037" y="10492"/>
                  <a:pt x="6077" y="10468"/>
                </a:cubicBezTo>
              </a:path>
              <a:path w="4318" h="969">
                <a:moveTo>
                  <a:pt x="7293" y="9699"/>
                </a:moveTo>
                <a:cubicBezTo>
                  <a:pt x="7256" y="9781"/>
                  <a:pt x="7201" y="9871"/>
                  <a:pt x="7169" y="9947"/>
                </a:cubicBezTo>
                <a:cubicBezTo>
                  <a:pt x="7118" y="10071"/>
                  <a:pt x="7074" y="10181"/>
                  <a:pt x="7069" y="10319"/>
                </a:cubicBezTo>
                <a:cubicBezTo>
                  <a:pt x="7065" y="10446"/>
                  <a:pt x="7110" y="10504"/>
                  <a:pt x="7218" y="10567"/>
                </a:cubicBezTo>
                <a:cubicBezTo>
                  <a:pt x="7299" y="10614"/>
                  <a:pt x="7387" y="10585"/>
                  <a:pt x="7466" y="10542"/>
                </a:cubicBezTo>
                <a:cubicBezTo>
                  <a:pt x="7625" y="10456"/>
                  <a:pt x="7667" y="10312"/>
                  <a:pt x="7689" y="10120"/>
                </a:cubicBezTo>
                <a:cubicBezTo>
                  <a:pt x="7698" y="10046"/>
                  <a:pt x="7602" y="9926"/>
                  <a:pt x="7541" y="9897"/>
                </a:cubicBezTo>
                <a:cubicBezTo>
                  <a:pt x="7436" y="9847"/>
                  <a:pt x="7335" y="9772"/>
                  <a:pt x="7218" y="9748"/>
                </a:cubicBezTo>
                <a:cubicBezTo>
                  <a:pt x="7177" y="9748"/>
                  <a:pt x="7169" y="9748"/>
                  <a:pt x="7144" y="9748"/>
                </a:cubicBezTo>
              </a:path>
              <a:path w="4318" h="969">
                <a:moveTo>
                  <a:pt x="6821" y="10046"/>
                </a:moveTo>
                <a:cubicBezTo>
                  <a:pt x="6942" y="10116"/>
                  <a:pt x="7003" y="10141"/>
                  <a:pt x="7144" y="10145"/>
                </a:cubicBezTo>
                <a:cubicBezTo>
                  <a:pt x="7286" y="10149"/>
                  <a:pt x="7421" y="10170"/>
                  <a:pt x="7565" y="10170"/>
                </a:cubicBezTo>
                <a:cubicBezTo>
                  <a:pt x="7698" y="10170"/>
                  <a:pt x="7829" y="10152"/>
                  <a:pt x="7962" y="10145"/>
                </a:cubicBezTo>
              </a:path>
              <a:path w="4318" h="969">
                <a:moveTo>
                  <a:pt x="8359" y="9947"/>
                </a:moveTo>
                <a:cubicBezTo>
                  <a:pt x="8504" y="9947"/>
                  <a:pt x="8643" y="9954"/>
                  <a:pt x="8781" y="9971"/>
                </a:cubicBezTo>
                <a:cubicBezTo>
                  <a:pt x="8806" y="9971"/>
                  <a:pt x="8830" y="9971"/>
                  <a:pt x="8855" y="9971"/>
                </a:cubicBezTo>
              </a:path>
              <a:path w="4318" h="969">
                <a:moveTo>
                  <a:pt x="8632" y="10145"/>
                </a:moveTo>
                <a:cubicBezTo>
                  <a:pt x="8748" y="10188"/>
                  <a:pt x="8851" y="10213"/>
                  <a:pt x="8979" y="10195"/>
                </a:cubicBezTo>
                <a:cubicBezTo>
                  <a:pt x="9012" y="10187"/>
                  <a:pt x="9046" y="10178"/>
                  <a:pt x="9079" y="101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Ink 6"/>
          <p:cNvSpPr/>
          <p:nvPr/>
        </p:nvSpPr>
        <p:spPr>
          <a:xfrm>
            <a:off x="3490920" y="3054240"/>
            <a:ext cx="716040" cy="928800"/>
          </a:xfrm>
          <a:custGeom>
            <a:avLst/>
            <a:gdLst/>
            <a:ahLst/>
            <a:rect l="l" t="t" r="r" b="b"/>
            <a:pathLst>
              <a:path w="1985" h="2581">
                <a:moveTo>
                  <a:pt x="10344" y="8905"/>
                </a:moveTo>
                <a:cubicBezTo>
                  <a:pt x="10298" y="8859"/>
                  <a:pt x="10273" y="8815"/>
                  <a:pt x="10244" y="8756"/>
                </a:cubicBezTo>
                <a:cubicBezTo>
                  <a:pt x="10208" y="8683"/>
                  <a:pt x="10201" y="8617"/>
                  <a:pt x="10120" y="8607"/>
                </a:cubicBezTo>
                <a:cubicBezTo>
                  <a:pt x="10021" y="8595"/>
                  <a:pt x="10033" y="8691"/>
                  <a:pt x="9996" y="8756"/>
                </a:cubicBezTo>
                <a:cubicBezTo>
                  <a:pt x="9961" y="8818"/>
                  <a:pt x="9944" y="8865"/>
                  <a:pt x="9922" y="8930"/>
                </a:cubicBezTo>
                <a:cubicBezTo>
                  <a:pt x="9898" y="9000"/>
                  <a:pt x="9901" y="8996"/>
                  <a:pt x="9947" y="9054"/>
                </a:cubicBezTo>
                <a:cubicBezTo>
                  <a:pt x="9987" y="9013"/>
                  <a:pt x="10012" y="8975"/>
                  <a:pt x="10046" y="8930"/>
                </a:cubicBezTo>
                <a:cubicBezTo>
                  <a:pt x="10076" y="8900"/>
                  <a:pt x="10087" y="8886"/>
                  <a:pt x="10096" y="8855"/>
                </a:cubicBezTo>
                <a:cubicBezTo>
                  <a:pt x="10197" y="8899"/>
                  <a:pt x="10170" y="8986"/>
                  <a:pt x="10170" y="9103"/>
                </a:cubicBezTo>
                <a:cubicBezTo>
                  <a:pt x="10170" y="9193"/>
                  <a:pt x="10158" y="9268"/>
                  <a:pt x="10145" y="9351"/>
                </a:cubicBezTo>
                <a:cubicBezTo>
                  <a:pt x="10138" y="9395"/>
                  <a:pt x="10115" y="9548"/>
                  <a:pt x="10120" y="9575"/>
                </a:cubicBezTo>
                <a:cubicBezTo>
                  <a:pt x="10142" y="9597"/>
                  <a:pt x="10151" y="9608"/>
                  <a:pt x="10145" y="9575"/>
                </a:cubicBezTo>
              </a:path>
              <a:path w="1985" h="2581">
                <a:moveTo>
                  <a:pt x="9699" y="9773"/>
                </a:moveTo>
                <a:cubicBezTo>
                  <a:pt x="9783" y="9773"/>
                  <a:pt x="9843" y="9752"/>
                  <a:pt x="9922" y="9748"/>
                </a:cubicBezTo>
                <a:cubicBezTo>
                  <a:pt x="9992" y="9744"/>
                  <a:pt x="10046" y="9723"/>
                  <a:pt x="10120" y="9723"/>
                </a:cubicBezTo>
                <a:cubicBezTo>
                  <a:pt x="10211" y="9723"/>
                  <a:pt x="10302" y="9723"/>
                  <a:pt x="10393" y="9723"/>
                </a:cubicBezTo>
              </a:path>
              <a:path w="1985" h="2581">
                <a:moveTo>
                  <a:pt x="10468" y="9178"/>
                </a:moveTo>
                <a:cubicBezTo>
                  <a:pt x="10468" y="9254"/>
                  <a:pt x="10489" y="9308"/>
                  <a:pt x="10492" y="9376"/>
                </a:cubicBezTo>
                <a:cubicBezTo>
                  <a:pt x="10495" y="9434"/>
                  <a:pt x="10492" y="9492"/>
                  <a:pt x="10492" y="9550"/>
                </a:cubicBezTo>
                <a:cubicBezTo>
                  <a:pt x="10492" y="9477"/>
                  <a:pt x="10472" y="9421"/>
                  <a:pt x="10468" y="9351"/>
                </a:cubicBezTo>
                <a:cubicBezTo>
                  <a:pt x="10462" y="9235"/>
                  <a:pt x="10448" y="9085"/>
                  <a:pt x="10492" y="8979"/>
                </a:cubicBezTo>
                <a:cubicBezTo>
                  <a:pt x="10521" y="8911"/>
                  <a:pt x="10508" y="8813"/>
                  <a:pt x="10567" y="8756"/>
                </a:cubicBezTo>
                <a:cubicBezTo>
                  <a:pt x="10630" y="8696"/>
                  <a:pt x="10728" y="8610"/>
                  <a:pt x="10815" y="8582"/>
                </a:cubicBezTo>
                <a:cubicBezTo>
                  <a:pt x="10897" y="8556"/>
                  <a:pt x="11004" y="8524"/>
                  <a:pt x="11088" y="8508"/>
                </a:cubicBezTo>
                <a:cubicBezTo>
                  <a:pt x="11151" y="8496"/>
                  <a:pt x="11191" y="8483"/>
                  <a:pt x="11261" y="8483"/>
                </a:cubicBezTo>
                <a:cubicBezTo>
                  <a:pt x="11303" y="8483"/>
                  <a:pt x="11311" y="8483"/>
                  <a:pt x="11336" y="8483"/>
                </a:cubicBezTo>
              </a:path>
              <a:path w="1985" h="2581">
                <a:moveTo>
                  <a:pt x="11088" y="8806"/>
                </a:moveTo>
                <a:cubicBezTo>
                  <a:pt x="11037" y="8776"/>
                  <a:pt x="11006" y="8760"/>
                  <a:pt x="10964" y="8781"/>
                </a:cubicBezTo>
                <a:cubicBezTo>
                  <a:pt x="10909" y="8809"/>
                  <a:pt x="10844" y="8898"/>
                  <a:pt x="10815" y="8954"/>
                </a:cubicBezTo>
                <a:cubicBezTo>
                  <a:pt x="10781" y="9019"/>
                  <a:pt x="10721" y="9177"/>
                  <a:pt x="10740" y="9252"/>
                </a:cubicBezTo>
                <a:cubicBezTo>
                  <a:pt x="10748" y="9260"/>
                  <a:pt x="10757" y="9269"/>
                  <a:pt x="10765" y="9277"/>
                </a:cubicBezTo>
                <a:cubicBezTo>
                  <a:pt x="10826" y="9224"/>
                  <a:pt x="10876" y="9200"/>
                  <a:pt x="10914" y="9128"/>
                </a:cubicBezTo>
                <a:cubicBezTo>
                  <a:pt x="10954" y="9053"/>
                  <a:pt x="10971" y="8979"/>
                  <a:pt x="11013" y="8905"/>
                </a:cubicBezTo>
                <a:cubicBezTo>
                  <a:pt x="11045" y="8968"/>
                  <a:pt x="11053" y="9075"/>
                  <a:pt x="11038" y="9153"/>
                </a:cubicBezTo>
                <a:cubicBezTo>
                  <a:pt x="11019" y="9254"/>
                  <a:pt x="10993" y="9349"/>
                  <a:pt x="10988" y="9451"/>
                </a:cubicBezTo>
                <a:cubicBezTo>
                  <a:pt x="10988" y="9495"/>
                  <a:pt x="10985" y="9515"/>
                  <a:pt x="11013" y="9475"/>
                </a:cubicBezTo>
              </a:path>
              <a:path w="1985" h="2581">
                <a:moveTo>
                  <a:pt x="11162" y="8905"/>
                </a:moveTo>
                <a:cubicBezTo>
                  <a:pt x="11175" y="8813"/>
                  <a:pt x="11243" y="8800"/>
                  <a:pt x="11336" y="8781"/>
                </a:cubicBezTo>
                <a:cubicBezTo>
                  <a:pt x="11401" y="8768"/>
                  <a:pt x="11478" y="8742"/>
                  <a:pt x="11534" y="8731"/>
                </a:cubicBezTo>
                <a:cubicBezTo>
                  <a:pt x="11563" y="8726"/>
                  <a:pt x="11686" y="8724"/>
                  <a:pt x="11683" y="8781"/>
                </a:cubicBezTo>
                <a:cubicBezTo>
                  <a:pt x="11678" y="8881"/>
                  <a:pt x="11601" y="9015"/>
                  <a:pt x="11559" y="9103"/>
                </a:cubicBezTo>
                <a:cubicBezTo>
                  <a:pt x="11509" y="9208"/>
                  <a:pt x="11510" y="9319"/>
                  <a:pt x="11485" y="9426"/>
                </a:cubicBezTo>
                <a:cubicBezTo>
                  <a:pt x="11468" y="9499"/>
                  <a:pt x="11439" y="9555"/>
                  <a:pt x="11435" y="9624"/>
                </a:cubicBezTo>
                <a:cubicBezTo>
                  <a:pt x="11435" y="9682"/>
                  <a:pt x="11435" y="9707"/>
                  <a:pt x="11435" y="9748"/>
                </a:cubicBezTo>
              </a:path>
              <a:path w="1985" h="2581">
                <a:moveTo>
                  <a:pt x="10220" y="10145"/>
                </a:moveTo>
                <a:cubicBezTo>
                  <a:pt x="10170" y="10096"/>
                  <a:pt x="10149" y="10098"/>
                  <a:pt x="10096" y="10071"/>
                </a:cubicBezTo>
                <a:cubicBezTo>
                  <a:pt x="10049" y="10047"/>
                  <a:pt x="10005" y="10066"/>
                  <a:pt x="9971" y="10120"/>
                </a:cubicBezTo>
                <a:cubicBezTo>
                  <a:pt x="9924" y="10194"/>
                  <a:pt x="9908" y="10309"/>
                  <a:pt x="9897" y="10393"/>
                </a:cubicBezTo>
                <a:cubicBezTo>
                  <a:pt x="9897" y="10445"/>
                  <a:pt x="9898" y="10463"/>
                  <a:pt x="9922" y="10492"/>
                </a:cubicBezTo>
                <a:cubicBezTo>
                  <a:pt x="9997" y="10483"/>
                  <a:pt x="10050" y="10462"/>
                  <a:pt x="10096" y="10393"/>
                </a:cubicBezTo>
                <a:cubicBezTo>
                  <a:pt x="10145" y="10319"/>
                  <a:pt x="10167" y="10228"/>
                  <a:pt x="10195" y="10145"/>
                </a:cubicBezTo>
                <a:cubicBezTo>
                  <a:pt x="10205" y="10254"/>
                  <a:pt x="10200" y="10306"/>
                  <a:pt x="10195" y="10418"/>
                </a:cubicBezTo>
                <a:cubicBezTo>
                  <a:pt x="10188" y="10596"/>
                  <a:pt x="10195" y="10766"/>
                  <a:pt x="10170" y="10939"/>
                </a:cubicBezTo>
                <a:cubicBezTo>
                  <a:pt x="10170" y="10983"/>
                  <a:pt x="10167" y="11003"/>
                  <a:pt x="10195" y="10964"/>
                </a:cubicBezTo>
              </a:path>
              <a:path w="1985" h="2581">
                <a:moveTo>
                  <a:pt x="10418" y="10244"/>
                </a:moveTo>
                <a:cubicBezTo>
                  <a:pt x="10480" y="10195"/>
                  <a:pt x="10543" y="10176"/>
                  <a:pt x="10616" y="10145"/>
                </a:cubicBezTo>
                <a:cubicBezTo>
                  <a:pt x="10682" y="10117"/>
                  <a:pt x="10768" y="10085"/>
                  <a:pt x="10840" y="10071"/>
                </a:cubicBezTo>
                <a:cubicBezTo>
                  <a:pt x="10902" y="10059"/>
                  <a:pt x="10976" y="10049"/>
                  <a:pt x="11038" y="10046"/>
                </a:cubicBezTo>
                <a:cubicBezTo>
                  <a:pt x="11055" y="10046"/>
                  <a:pt x="11071" y="10046"/>
                  <a:pt x="11088" y="10046"/>
                </a:cubicBezTo>
                <a:cubicBezTo>
                  <a:pt x="11088" y="10195"/>
                  <a:pt x="11078" y="10290"/>
                  <a:pt x="11038" y="10443"/>
                </a:cubicBezTo>
                <a:cubicBezTo>
                  <a:pt x="11001" y="10586"/>
                  <a:pt x="10970" y="10717"/>
                  <a:pt x="10964" y="10864"/>
                </a:cubicBezTo>
                <a:cubicBezTo>
                  <a:pt x="10961" y="10930"/>
                  <a:pt x="10964" y="10997"/>
                  <a:pt x="10964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Ink 7"/>
          <p:cNvSpPr/>
          <p:nvPr/>
        </p:nvSpPr>
        <p:spPr>
          <a:xfrm>
            <a:off x="5187960" y="3232080"/>
            <a:ext cx="1768320" cy="1019160"/>
          </a:xfrm>
          <a:custGeom>
            <a:avLst/>
            <a:gdLst/>
            <a:ahLst/>
            <a:rect l="l" t="t" r="r" b="b"/>
            <a:pathLst>
              <a:path w="4912" h="2829">
                <a:moveTo>
                  <a:pt x="14883" y="9674"/>
                </a:moveTo>
                <a:cubicBezTo>
                  <a:pt x="14891" y="9666"/>
                  <a:pt x="14900" y="9657"/>
                  <a:pt x="14908" y="9649"/>
                </a:cubicBezTo>
                <a:cubicBezTo>
                  <a:pt x="14836" y="9620"/>
                  <a:pt x="14749" y="9683"/>
                  <a:pt x="14660" y="9699"/>
                </a:cubicBezTo>
                <a:cubicBezTo>
                  <a:pt x="14590" y="9711"/>
                  <a:pt x="14438" y="9679"/>
                  <a:pt x="14412" y="9773"/>
                </a:cubicBezTo>
                <a:cubicBezTo>
                  <a:pt x="14388" y="9860"/>
                  <a:pt x="14530" y="9911"/>
                  <a:pt x="14585" y="9947"/>
                </a:cubicBezTo>
                <a:cubicBezTo>
                  <a:pt x="14699" y="10021"/>
                  <a:pt x="14762" y="10094"/>
                  <a:pt x="14808" y="10220"/>
                </a:cubicBezTo>
                <a:cubicBezTo>
                  <a:pt x="14843" y="10314"/>
                  <a:pt x="14817" y="10431"/>
                  <a:pt x="14709" y="10468"/>
                </a:cubicBezTo>
                <a:cubicBezTo>
                  <a:pt x="14655" y="10486"/>
                  <a:pt x="14549" y="10460"/>
                  <a:pt x="14511" y="10418"/>
                </a:cubicBezTo>
                <a:cubicBezTo>
                  <a:pt x="14488" y="10393"/>
                  <a:pt x="14468" y="10348"/>
                  <a:pt x="14461" y="10319"/>
                </a:cubicBezTo>
              </a:path>
              <a:path w="4912" h="2829">
                <a:moveTo>
                  <a:pt x="15007" y="10145"/>
                </a:moveTo>
                <a:cubicBezTo>
                  <a:pt x="15183" y="10104"/>
                  <a:pt x="15181" y="10109"/>
                  <a:pt x="15280" y="9971"/>
                </a:cubicBezTo>
                <a:cubicBezTo>
                  <a:pt x="15308" y="9943"/>
                  <a:pt x="15316" y="9930"/>
                  <a:pt x="15304" y="9897"/>
                </a:cubicBezTo>
                <a:cubicBezTo>
                  <a:pt x="15218" y="9868"/>
                  <a:pt x="15139" y="9867"/>
                  <a:pt x="15056" y="9922"/>
                </a:cubicBezTo>
                <a:cubicBezTo>
                  <a:pt x="14979" y="9973"/>
                  <a:pt x="14961" y="10062"/>
                  <a:pt x="14957" y="10145"/>
                </a:cubicBezTo>
                <a:cubicBezTo>
                  <a:pt x="14953" y="10233"/>
                  <a:pt x="15004" y="10304"/>
                  <a:pt x="15081" y="10344"/>
                </a:cubicBezTo>
                <a:cubicBezTo>
                  <a:pt x="15179" y="10383"/>
                  <a:pt x="15193" y="10399"/>
                  <a:pt x="15255" y="10393"/>
                </a:cubicBezTo>
              </a:path>
              <a:path w="4912" h="2829">
                <a:moveTo>
                  <a:pt x="15726" y="9897"/>
                </a:moveTo>
                <a:cubicBezTo>
                  <a:pt x="15581" y="9965"/>
                  <a:pt x="15553" y="10003"/>
                  <a:pt x="15453" y="10120"/>
                </a:cubicBezTo>
                <a:cubicBezTo>
                  <a:pt x="15355" y="10235"/>
                  <a:pt x="15427" y="10294"/>
                  <a:pt x="15503" y="10393"/>
                </a:cubicBezTo>
                <a:cubicBezTo>
                  <a:pt x="15577" y="10489"/>
                  <a:pt x="15622" y="10513"/>
                  <a:pt x="15751" y="10517"/>
                </a:cubicBezTo>
                <a:cubicBezTo>
                  <a:pt x="15866" y="10521"/>
                  <a:pt x="15903" y="10498"/>
                  <a:pt x="15999" y="10443"/>
                </a:cubicBezTo>
              </a:path>
              <a:path w="4912" h="2829">
                <a:moveTo>
                  <a:pt x="16321" y="9947"/>
                </a:moveTo>
                <a:cubicBezTo>
                  <a:pt x="16274" y="10027"/>
                  <a:pt x="16207" y="10121"/>
                  <a:pt x="16222" y="10220"/>
                </a:cubicBezTo>
                <a:cubicBezTo>
                  <a:pt x="16239" y="10330"/>
                  <a:pt x="16342" y="10463"/>
                  <a:pt x="16446" y="10492"/>
                </a:cubicBezTo>
                <a:cubicBezTo>
                  <a:pt x="16521" y="10513"/>
                  <a:pt x="16619" y="10499"/>
                  <a:pt x="16669" y="10443"/>
                </a:cubicBezTo>
                <a:cubicBezTo>
                  <a:pt x="16734" y="10369"/>
                  <a:pt x="16777" y="10182"/>
                  <a:pt x="16768" y="10096"/>
                </a:cubicBezTo>
                <a:cubicBezTo>
                  <a:pt x="16754" y="9968"/>
                  <a:pt x="16650" y="9916"/>
                  <a:pt x="16545" y="9872"/>
                </a:cubicBezTo>
                <a:cubicBezTo>
                  <a:pt x="16446" y="9831"/>
                  <a:pt x="16369" y="9813"/>
                  <a:pt x="16272" y="9847"/>
                </a:cubicBezTo>
                <a:cubicBezTo>
                  <a:pt x="16247" y="9855"/>
                  <a:pt x="16222" y="9864"/>
                  <a:pt x="16197" y="9872"/>
                </a:cubicBezTo>
              </a:path>
              <a:path w="4912" h="2829">
                <a:moveTo>
                  <a:pt x="16098" y="10145"/>
                </a:moveTo>
                <a:cubicBezTo>
                  <a:pt x="16205" y="10181"/>
                  <a:pt x="16264" y="10154"/>
                  <a:pt x="16371" y="10145"/>
                </a:cubicBezTo>
                <a:cubicBezTo>
                  <a:pt x="16518" y="10133"/>
                  <a:pt x="16671" y="10145"/>
                  <a:pt x="16818" y="10145"/>
                </a:cubicBezTo>
              </a:path>
              <a:path w="4912" h="2829">
                <a:moveTo>
                  <a:pt x="17388" y="10071"/>
                </a:moveTo>
                <a:cubicBezTo>
                  <a:pt x="17494" y="10086"/>
                  <a:pt x="17580" y="10096"/>
                  <a:pt x="17686" y="10096"/>
                </a:cubicBezTo>
              </a:path>
              <a:path w="4912" h="2829">
                <a:moveTo>
                  <a:pt x="17289" y="10368"/>
                </a:moveTo>
                <a:cubicBezTo>
                  <a:pt x="17454" y="10476"/>
                  <a:pt x="17475" y="10492"/>
                  <a:pt x="17661" y="10492"/>
                </a:cubicBezTo>
                <a:cubicBezTo>
                  <a:pt x="17686" y="10492"/>
                  <a:pt x="17710" y="10492"/>
                  <a:pt x="17735" y="10492"/>
                </a:cubicBezTo>
              </a:path>
              <a:path w="4912" h="2829">
                <a:moveTo>
                  <a:pt x="18281" y="9699"/>
                </a:moveTo>
                <a:cubicBezTo>
                  <a:pt x="18297" y="9794"/>
                  <a:pt x="18286" y="9904"/>
                  <a:pt x="18306" y="9996"/>
                </a:cubicBezTo>
                <a:cubicBezTo>
                  <a:pt x="18327" y="10093"/>
                  <a:pt x="18346" y="10153"/>
                  <a:pt x="18306" y="10244"/>
                </a:cubicBezTo>
                <a:cubicBezTo>
                  <a:pt x="18295" y="10159"/>
                  <a:pt x="18281" y="10087"/>
                  <a:pt x="18281" y="9996"/>
                </a:cubicBezTo>
                <a:cubicBezTo>
                  <a:pt x="18281" y="9831"/>
                  <a:pt x="18266" y="9648"/>
                  <a:pt x="18306" y="9500"/>
                </a:cubicBezTo>
                <a:cubicBezTo>
                  <a:pt x="18330" y="9409"/>
                  <a:pt x="18319" y="9305"/>
                  <a:pt x="18380" y="9227"/>
                </a:cubicBezTo>
                <a:cubicBezTo>
                  <a:pt x="18439" y="9152"/>
                  <a:pt x="18569" y="9089"/>
                  <a:pt x="18653" y="9054"/>
                </a:cubicBezTo>
                <a:cubicBezTo>
                  <a:pt x="18766" y="9006"/>
                  <a:pt x="18878" y="8985"/>
                  <a:pt x="19000" y="8979"/>
                </a:cubicBezTo>
                <a:cubicBezTo>
                  <a:pt x="19057" y="8976"/>
                  <a:pt x="19080" y="8977"/>
                  <a:pt x="19124" y="9004"/>
                </a:cubicBezTo>
              </a:path>
              <a:path w="4912" h="2829">
                <a:moveTo>
                  <a:pt x="18802" y="9401"/>
                </a:moveTo>
                <a:cubicBezTo>
                  <a:pt x="18810" y="9393"/>
                  <a:pt x="18819" y="9384"/>
                  <a:pt x="18827" y="9376"/>
                </a:cubicBezTo>
                <a:cubicBezTo>
                  <a:pt x="18762" y="9312"/>
                  <a:pt x="18750" y="9315"/>
                  <a:pt x="18678" y="9376"/>
                </a:cubicBezTo>
                <a:cubicBezTo>
                  <a:pt x="18603" y="9439"/>
                  <a:pt x="18583" y="9536"/>
                  <a:pt x="18554" y="9624"/>
                </a:cubicBezTo>
                <a:cubicBezTo>
                  <a:pt x="18528" y="9702"/>
                  <a:pt x="18514" y="9756"/>
                  <a:pt x="18554" y="9823"/>
                </a:cubicBezTo>
                <a:cubicBezTo>
                  <a:pt x="18619" y="9785"/>
                  <a:pt x="18704" y="9726"/>
                  <a:pt x="18728" y="9649"/>
                </a:cubicBezTo>
                <a:cubicBezTo>
                  <a:pt x="18750" y="9577"/>
                  <a:pt x="18744" y="9524"/>
                  <a:pt x="18777" y="9451"/>
                </a:cubicBezTo>
                <a:cubicBezTo>
                  <a:pt x="18785" y="9434"/>
                  <a:pt x="18794" y="9418"/>
                  <a:pt x="18802" y="9401"/>
                </a:cubicBezTo>
                <a:cubicBezTo>
                  <a:pt x="18802" y="9505"/>
                  <a:pt x="18726" y="10020"/>
                  <a:pt x="18827" y="10096"/>
                </a:cubicBezTo>
                <a:cubicBezTo>
                  <a:pt x="18835" y="10088"/>
                  <a:pt x="18844" y="10079"/>
                  <a:pt x="18852" y="10071"/>
                </a:cubicBezTo>
              </a:path>
              <a:path w="4912" h="2829">
                <a:moveTo>
                  <a:pt x="18926" y="9426"/>
                </a:moveTo>
                <a:cubicBezTo>
                  <a:pt x="18982" y="9351"/>
                  <a:pt x="18991" y="9396"/>
                  <a:pt x="19100" y="9351"/>
                </a:cubicBezTo>
                <a:cubicBezTo>
                  <a:pt x="19160" y="9326"/>
                  <a:pt x="19229" y="9302"/>
                  <a:pt x="19298" y="9277"/>
                </a:cubicBezTo>
                <a:cubicBezTo>
                  <a:pt x="19345" y="9370"/>
                  <a:pt x="19307" y="9449"/>
                  <a:pt x="19298" y="9550"/>
                </a:cubicBezTo>
                <a:cubicBezTo>
                  <a:pt x="19285" y="9689"/>
                  <a:pt x="19263" y="9835"/>
                  <a:pt x="19224" y="9971"/>
                </a:cubicBezTo>
                <a:cubicBezTo>
                  <a:pt x="19203" y="10042"/>
                  <a:pt x="19199" y="10093"/>
                  <a:pt x="19199" y="10170"/>
                </a:cubicBezTo>
                <a:cubicBezTo>
                  <a:pt x="19199" y="10178"/>
                  <a:pt x="19199" y="10187"/>
                  <a:pt x="19199" y="10195"/>
                </a:cubicBezTo>
              </a:path>
              <a:path w="4912" h="2829">
                <a:moveTo>
                  <a:pt x="18281" y="10468"/>
                </a:moveTo>
                <a:cubicBezTo>
                  <a:pt x="18387" y="10468"/>
                  <a:pt x="18478" y="10455"/>
                  <a:pt x="18579" y="10443"/>
                </a:cubicBezTo>
                <a:cubicBezTo>
                  <a:pt x="18704" y="10428"/>
                  <a:pt x="18824" y="10407"/>
                  <a:pt x="18951" y="10393"/>
                </a:cubicBezTo>
                <a:cubicBezTo>
                  <a:pt x="19037" y="10383"/>
                  <a:pt x="19117" y="10357"/>
                  <a:pt x="19199" y="10344"/>
                </a:cubicBezTo>
                <a:cubicBezTo>
                  <a:pt x="19248" y="10344"/>
                  <a:pt x="19265" y="10344"/>
                  <a:pt x="19298" y="10344"/>
                </a:cubicBezTo>
              </a:path>
              <a:path w="4912" h="2829">
                <a:moveTo>
                  <a:pt x="18976" y="10691"/>
                </a:moveTo>
                <a:cubicBezTo>
                  <a:pt x="18906" y="10682"/>
                  <a:pt x="18851" y="10666"/>
                  <a:pt x="18777" y="10666"/>
                </a:cubicBezTo>
                <a:cubicBezTo>
                  <a:pt x="18696" y="10666"/>
                  <a:pt x="18646" y="10707"/>
                  <a:pt x="18628" y="10790"/>
                </a:cubicBezTo>
                <a:cubicBezTo>
                  <a:pt x="18611" y="10865"/>
                  <a:pt x="18587" y="10959"/>
                  <a:pt x="18604" y="11038"/>
                </a:cubicBezTo>
                <a:cubicBezTo>
                  <a:pt x="18612" y="11055"/>
                  <a:pt x="18620" y="11071"/>
                  <a:pt x="18628" y="11088"/>
                </a:cubicBezTo>
                <a:cubicBezTo>
                  <a:pt x="18793" y="11037"/>
                  <a:pt x="18704" y="11056"/>
                  <a:pt x="18777" y="10939"/>
                </a:cubicBezTo>
                <a:cubicBezTo>
                  <a:pt x="18811" y="10885"/>
                  <a:pt x="18840" y="10818"/>
                  <a:pt x="18876" y="10765"/>
                </a:cubicBezTo>
                <a:cubicBezTo>
                  <a:pt x="18904" y="10737"/>
                  <a:pt x="18913" y="10724"/>
                  <a:pt x="18901" y="10691"/>
                </a:cubicBezTo>
                <a:cubicBezTo>
                  <a:pt x="18936" y="10772"/>
                  <a:pt x="18926" y="10869"/>
                  <a:pt x="18926" y="10964"/>
                </a:cubicBezTo>
                <a:cubicBezTo>
                  <a:pt x="18926" y="11101"/>
                  <a:pt x="18901" y="11252"/>
                  <a:pt x="18876" y="11385"/>
                </a:cubicBezTo>
                <a:cubicBezTo>
                  <a:pt x="18857" y="11485"/>
                  <a:pt x="18814" y="11585"/>
                  <a:pt x="18802" y="11683"/>
                </a:cubicBezTo>
                <a:cubicBezTo>
                  <a:pt x="18793" y="11754"/>
                  <a:pt x="18791" y="11753"/>
                  <a:pt x="18777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Ink 8"/>
          <p:cNvSpPr/>
          <p:nvPr/>
        </p:nvSpPr>
        <p:spPr>
          <a:xfrm>
            <a:off x="1731960" y="4340160"/>
            <a:ext cx="1285920" cy="571680"/>
          </a:xfrm>
          <a:custGeom>
            <a:avLst/>
            <a:gdLst/>
            <a:ahLst/>
            <a:rect l="l" t="t" r="r" b="b"/>
            <a:pathLst>
              <a:path w="3573" h="1589">
                <a:moveTo>
                  <a:pt x="5308" y="12055"/>
                </a:moveTo>
                <a:cubicBezTo>
                  <a:pt x="5313" y="12257"/>
                  <a:pt x="5310" y="12473"/>
                  <a:pt x="5333" y="12675"/>
                </a:cubicBezTo>
                <a:cubicBezTo>
                  <a:pt x="5350" y="12824"/>
                  <a:pt x="5379" y="12972"/>
                  <a:pt x="5383" y="13122"/>
                </a:cubicBezTo>
                <a:cubicBezTo>
                  <a:pt x="5384" y="13157"/>
                  <a:pt x="5436" y="13362"/>
                  <a:pt x="5383" y="13395"/>
                </a:cubicBezTo>
                <a:cubicBezTo>
                  <a:pt x="5366" y="13395"/>
                  <a:pt x="5350" y="13395"/>
                  <a:pt x="5333" y="13395"/>
                </a:cubicBezTo>
              </a:path>
              <a:path w="3573" h="1589">
                <a:moveTo>
                  <a:pt x="4812" y="12675"/>
                </a:moveTo>
                <a:cubicBezTo>
                  <a:pt x="4955" y="12711"/>
                  <a:pt x="5093" y="12732"/>
                  <a:pt x="5234" y="12774"/>
                </a:cubicBezTo>
                <a:cubicBezTo>
                  <a:pt x="5348" y="12808"/>
                  <a:pt x="5486" y="12810"/>
                  <a:pt x="5606" y="12799"/>
                </a:cubicBezTo>
                <a:cubicBezTo>
                  <a:pt x="5664" y="12791"/>
                  <a:pt x="5721" y="12782"/>
                  <a:pt x="5779" y="12774"/>
                </a:cubicBezTo>
              </a:path>
              <a:path w="3573" h="1589">
                <a:moveTo>
                  <a:pt x="6176" y="12774"/>
                </a:moveTo>
                <a:cubicBezTo>
                  <a:pt x="6201" y="12799"/>
                  <a:pt x="6209" y="12807"/>
                  <a:pt x="6226" y="12824"/>
                </a:cubicBezTo>
                <a:cubicBezTo>
                  <a:pt x="6176" y="12864"/>
                  <a:pt x="6133" y="12872"/>
                  <a:pt x="6077" y="12898"/>
                </a:cubicBezTo>
                <a:cubicBezTo>
                  <a:pt x="6002" y="12933"/>
                  <a:pt x="5949" y="12977"/>
                  <a:pt x="5904" y="13047"/>
                </a:cubicBezTo>
                <a:cubicBezTo>
                  <a:pt x="5861" y="13114"/>
                  <a:pt x="5854" y="13141"/>
                  <a:pt x="5854" y="13221"/>
                </a:cubicBezTo>
                <a:cubicBezTo>
                  <a:pt x="5854" y="13294"/>
                  <a:pt x="5883" y="13316"/>
                  <a:pt x="5953" y="13320"/>
                </a:cubicBezTo>
                <a:cubicBezTo>
                  <a:pt x="6024" y="13324"/>
                  <a:pt x="6136" y="13284"/>
                  <a:pt x="6176" y="13221"/>
                </a:cubicBezTo>
                <a:cubicBezTo>
                  <a:pt x="6215" y="13159"/>
                  <a:pt x="6241" y="13044"/>
                  <a:pt x="6251" y="12973"/>
                </a:cubicBezTo>
                <a:cubicBezTo>
                  <a:pt x="6251" y="12956"/>
                  <a:pt x="6251" y="12940"/>
                  <a:pt x="6251" y="12923"/>
                </a:cubicBezTo>
                <a:cubicBezTo>
                  <a:pt x="6251" y="13011"/>
                  <a:pt x="6255" y="13089"/>
                  <a:pt x="6276" y="13171"/>
                </a:cubicBezTo>
                <a:cubicBezTo>
                  <a:pt x="6291" y="13232"/>
                  <a:pt x="6372" y="13324"/>
                  <a:pt x="6449" y="13320"/>
                </a:cubicBezTo>
                <a:cubicBezTo>
                  <a:pt x="6529" y="13316"/>
                  <a:pt x="6557" y="13294"/>
                  <a:pt x="6598" y="13246"/>
                </a:cubicBezTo>
              </a:path>
              <a:path w="3573" h="1589">
                <a:moveTo>
                  <a:pt x="6648" y="12948"/>
                </a:moveTo>
                <a:cubicBezTo>
                  <a:pt x="6648" y="13063"/>
                  <a:pt x="6657" y="13161"/>
                  <a:pt x="6672" y="13271"/>
                </a:cubicBezTo>
                <a:cubicBezTo>
                  <a:pt x="6680" y="13333"/>
                  <a:pt x="6674" y="13359"/>
                  <a:pt x="6697" y="13419"/>
                </a:cubicBezTo>
                <a:cubicBezTo>
                  <a:pt x="6742" y="13352"/>
                  <a:pt x="6755" y="13276"/>
                  <a:pt x="6772" y="13196"/>
                </a:cubicBezTo>
                <a:cubicBezTo>
                  <a:pt x="6785" y="13135"/>
                  <a:pt x="6795" y="12942"/>
                  <a:pt x="6921" y="12998"/>
                </a:cubicBezTo>
                <a:cubicBezTo>
                  <a:pt x="7011" y="13038"/>
                  <a:pt x="7028" y="13180"/>
                  <a:pt x="7069" y="13246"/>
                </a:cubicBezTo>
                <a:cubicBezTo>
                  <a:pt x="7105" y="13304"/>
                  <a:pt x="7125" y="13425"/>
                  <a:pt x="7169" y="13469"/>
                </a:cubicBezTo>
                <a:cubicBezTo>
                  <a:pt x="7177" y="13469"/>
                  <a:pt x="7185" y="13469"/>
                  <a:pt x="7193" y="13469"/>
                </a:cubicBezTo>
              </a:path>
              <a:path w="3573" h="1589">
                <a:moveTo>
                  <a:pt x="7789" y="12675"/>
                </a:moveTo>
                <a:cubicBezTo>
                  <a:pt x="7789" y="12804"/>
                  <a:pt x="7771" y="12898"/>
                  <a:pt x="7739" y="13022"/>
                </a:cubicBezTo>
                <a:cubicBezTo>
                  <a:pt x="7706" y="13151"/>
                  <a:pt x="7684" y="13293"/>
                  <a:pt x="7714" y="13419"/>
                </a:cubicBezTo>
                <a:cubicBezTo>
                  <a:pt x="7745" y="13552"/>
                  <a:pt x="7827" y="13618"/>
                  <a:pt x="7962" y="13643"/>
                </a:cubicBezTo>
                <a:cubicBezTo>
                  <a:pt x="8055" y="13660"/>
                  <a:pt x="8126" y="13598"/>
                  <a:pt x="8161" y="13519"/>
                </a:cubicBezTo>
                <a:cubicBezTo>
                  <a:pt x="8227" y="13369"/>
                  <a:pt x="8213" y="13232"/>
                  <a:pt x="8186" y="13072"/>
                </a:cubicBezTo>
                <a:cubicBezTo>
                  <a:pt x="8162" y="12931"/>
                  <a:pt x="8109" y="12851"/>
                  <a:pt x="8012" y="12750"/>
                </a:cubicBezTo>
                <a:cubicBezTo>
                  <a:pt x="7939" y="12673"/>
                  <a:pt x="7879" y="12630"/>
                  <a:pt x="7789" y="12576"/>
                </a:cubicBezTo>
              </a:path>
              <a:path w="3573" h="1589">
                <a:moveTo>
                  <a:pt x="7541" y="13047"/>
                </a:moveTo>
                <a:cubicBezTo>
                  <a:pt x="7730" y="13072"/>
                  <a:pt x="7897" y="13097"/>
                  <a:pt x="8086" y="13097"/>
                </a:cubicBezTo>
                <a:cubicBezTo>
                  <a:pt x="8194" y="13097"/>
                  <a:pt x="8279" y="13092"/>
                  <a:pt x="8384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Ink 9"/>
          <p:cNvSpPr/>
          <p:nvPr/>
        </p:nvSpPr>
        <p:spPr>
          <a:xfrm>
            <a:off x="3251160" y="4268880"/>
            <a:ext cx="731880" cy="1089000"/>
          </a:xfrm>
          <a:custGeom>
            <a:avLst/>
            <a:gdLst/>
            <a:ahLst/>
            <a:rect l="l" t="t" r="r" b="b"/>
            <a:pathLst>
              <a:path w="2035" h="3027">
                <a:moveTo>
                  <a:pt x="9029" y="12874"/>
                </a:moveTo>
                <a:cubicBezTo>
                  <a:pt x="9145" y="12888"/>
                  <a:pt x="9237" y="12898"/>
                  <a:pt x="9351" y="12898"/>
                </a:cubicBezTo>
              </a:path>
              <a:path w="2035" h="3027">
                <a:moveTo>
                  <a:pt x="9079" y="13097"/>
                </a:moveTo>
                <a:cubicBezTo>
                  <a:pt x="9182" y="13187"/>
                  <a:pt x="9287" y="13212"/>
                  <a:pt x="9426" y="13221"/>
                </a:cubicBezTo>
                <a:cubicBezTo>
                  <a:pt x="9451" y="13221"/>
                  <a:pt x="9475" y="13221"/>
                  <a:pt x="9500" y="13221"/>
                </a:cubicBezTo>
              </a:path>
              <a:path w="2035" h="3027">
                <a:moveTo>
                  <a:pt x="10170" y="11981"/>
                </a:moveTo>
                <a:cubicBezTo>
                  <a:pt x="10170" y="12087"/>
                  <a:pt x="10162" y="12156"/>
                  <a:pt x="10120" y="12254"/>
                </a:cubicBezTo>
                <a:cubicBezTo>
                  <a:pt x="10100" y="12301"/>
                  <a:pt x="10028" y="12375"/>
                  <a:pt x="10046" y="12427"/>
                </a:cubicBezTo>
                <a:cubicBezTo>
                  <a:pt x="10073" y="12506"/>
                  <a:pt x="10187" y="12485"/>
                  <a:pt x="10244" y="12502"/>
                </a:cubicBezTo>
                <a:cubicBezTo>
                  <a:pt x="10317" y="12523"/>
                  <a:pt x="10413" y="12546"/>
                  <a:pt x="10492" y="12526"/>
                </a:cubicBezTo>
                <a:cubicBezTo>
                  <a:pt x="10509" y="12518"/>
                  <a:pt x="10525" y="12510"/>
                  <a:pt x="10542" y="12502"/>
                </a:cubicBezTo>
              </a:path>
              <a:path w="2035" h="3027">
                <a:moveTo>
                  <a:pt x="10542" y="11857"/>
                </a:moveTo>
                <a:cubicBezTo>
                  <a:pt x="10482" y="12064"/>
                  <a:pt x="10468" y="12218"/>
                  <a:pt x="10443" y="12427"/>
                </a:cubicBezTo>
                <a:cubicBezTo>
                  <a:pt x="10421" y="12605"/>
                  <a:pt x="10438" y="12747"/>
                  <a:pt x="10443" y="12923"/>
                </a:cubicBezTo>
                <a:cubicBezTo>
                  <a:pt x="10445" y="13014"/>
                  <a:pt x="10443" y="13105"/>
                  <a:pt x="10443" y="13196"/>
                </a:cubicBezTo>
              </a:path>
              <a:path w="2035" h="3027">
                <a:moveTo>
                  <a:pt x="10021" y="13171"/>
                </a:moveTo>
                <a:cubicBezTo>
                  <a:pt x="10171" y="13171"/>
                  <a:pt x="10320" y="13177"/>
                  <a:pt x="10468" y="13196"/>
                </a:cubicBezTo>
                <a:cubicBezTo>
                  <a:pt x="10646" y="13219"/>
                  <a:pt x="10818" y="13210"/>
                  <a:pt x="10988" y="13221"/>
                </a:cubicBezTo>
                <a:cubicBezTo>
                  <a:pt x="11013" y="13229"/>
                  <a:pt x="11038" y="13238"/>
                  <a:pt x="11063" y="13246"/>
                </a:cubicBezTo>
              </a:path>
              <a:path w="2035" h="3027">
                <a:moveTo>
                  <a:pt x="10740" y="13866"/>
                </a:moveTo>
                <a:cubicBezTo>
                  <a:pt x="10760" y="13812"/>
                  <a:pt x="10861" y="13648"/>
                  <a:pt x="10765" y="13593"/>
                </a:cubicBezTo>
                <a:cubicBezTo>
                  <a:pt x="10689" y="13549"/>
                  <a:pt x="10596" y="13627"/>
                  <a:pt x="10542" y="13667"/>
                </a:cubicBezTo>
                <a:cubicBezTo>
                  <a:pt x="10441" y="13742"/>
                  <a:pt x="10380" y="13789"/>
                  <a:pt x="10443" y="13915"/>
                </a:cubicBezTo>
                <a:cubicBezTo>
                  <a:pt x="10464" y="13957"/>
                  <a:pt x="10520" y="14001"/>
                  <a:pt x="10567" y="13990"/>
                </a:cubicBezTo>
                <a:cubicBezTo>
                  <a:pt x="10622" y="13977"/>
                  <a:pt x="10687" y="13881"/>
                  <a:pt x="10740" y="13891"/>
                </a:cubicBezTo>
                <a:cubicBezTo>
                  <a:pt x="10748" y="13899"/>
                  <a:pt x="10757" y="13907"/>
                  <a:pt x="10765" y="13915"/>
                </a:cubicBezTo>
                <a:cubicBezTo>
                  <a:pt x="10789" y="14032"/>
                  <a:pt x="10750" y="14138"/>
                  <a:pt x="10740" y="14263"/>
                </a:cubicBezTo>
                <a:cubicBezTo>
                  <a:pt x="10728" y="14409"/>
                  <a:pt x="10736" y="14564"/>
                  <a:pt x="10716" y="14709"/>
                </a:cubicBezTo>
                <a:cubicBezTo>
                  <a:pt x="10692" y="14804"/>
                  <a:pt x="10686" y="14834"/>
                  <a:pt x="10641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5545080" y="4527720"/>
            <a:ext cx="1251000" cy="357120"/>
          </a:xfrm>
          <a:custGeom>
            <a:avLst/>
            <a:gdLst/>
            <a:ahLst/>
            <a:rect l="l" t="t" r="r" b="b"/>
            <a:pathLst>
              <a:path w="3473" h="993">
                <a:moveTo>
                  <a:pt x="15850" y="12774"/>
                </a:moveTo>
                <a:cubicBezTo>
                  <a:pt x="15858" y="12766"/>
                  <a:pt x="15867" y="12758"/>
                  <a:pt x="15875" y="12750"/>
                </a:cubicBezTo>
              </a:path>
              <a:path w="3473" h="993">
                <a:moveTo>
                  <a:pt x="15701" y="12576"/>
                </a:moveTo>
                <a:cubicBezTo>
                  <a:pt x="15575" y="12681"/>
                  <a:pt x="15414" y="12754"/>
                  <a:pt x="15404" y="12923"/>
                </a:cubicBezTo>
                <a:cubicBezTo>
                  <a:pt x="15393" y="13103"/>
                  <a:pt x="15426" y="13179"/>
                  <a:pt x="15528" y="13320"/>
                </a:cubicBezTo>
                <a:cubicBezTo>
                  <a:pt x="15602" y="13423"/>
                  <a:pt x="15664" y="13511"/>
                  <a:pt x="15801" y="13519"/>
                </a:cubicBezTo>
                <a:cubicBezTo>
                  <a:pt x="15940" y="13527"/>
                  <a:pt x="16043" y="13524"/>
                  <a:pt x="16148" y="13419"/>
                </a:cubicBezTo>
                <a:cubicBezTo>
                  <a:pt x="16181" y="13378"/>
                  <a:pt x="16214" y="13336"/>
                  <a:pt x="16247" y="13295"/>
                </a:cubicBezTo>
              </a:path>
              <a:path w="3473" h="993">
                <a:moveTo>
                  <a:pt x="16396" y="12849"/>
                </a:moveTo>
                <a:cubicBezTo>
                  <a:pt x="16324" y="12869"/>
                  <a:pt x="16298" y="12929"/>
                  <a:pt x="16247" y="12998"/>
                </a:cubicBezTo>
                <a:cubicBezTo>
                  <a:pt x="16201" y="13059"/>
                  <a:pt x="16166" y="13190"/>
                  <a:pt x="16197" y="13271"/>
                </a:cubicBezTo>
                <a:cubicBezTo>
                  <a:pt x="16220" y="13330"/>
                  <a:pt x="16337" y="13466"/>
                  <a:pt x="16396" y="13494"/>
                </a:cubicBezTo>
                <a:cubicBezTo>
                  <a:pt x="16502" y="13544"/>
                  <a:pt x="16630" y="13521"/>
                  <a:pt x="16669" y="13395"/>
                </a:cubicBezTo>
                <a:cubicBezTo>
                  <a:pt x="16712" y="13255"/>
                  <a:pt x="16708" y="13137"/>
                  <a:pt x="16619" y="13022"/>
                </a:cubicBezTo>
                <a:cubicBezTo>
                  <a:pt x="16563" y="12950"/>
                  <a:pt x="16457" y="12855"/>
                  <a:pt x="16371" y="12824"/>
                </a:cubicBezTo>
                <a:cubicBezTo>
                  <a:pt x="16345" y="12815"/>
                  <a:pt x="16267" y="12827"/>
                  <a:pt x="16321" y="12799"/>
                </a:cubicBezTo>
              </a:path>
              <a:path w="3473" h="993">
                <a:moveTo>
                  <a:pt x="17066" y="12675"/>
                </a:moveTo>
                <a:cubicBezTo>
                  <a:pt x="17036" y="12840"/>
                  <a:pt x="17016" y="12979"/>
                  <a:pt x="17016" y="13146"/>
                </a:cubicBezTo>
                <a:cubicBezTo>
                  <a:pt x="17016" y="13268"/>
                  <a:pt x="17052" y="13388"/>
                  <a:pt x="17115" y="13494"/>
                </a:cubicBezTo>
                <a:cubicBezTo>
                  <a:pt x="17123" y="13502"/>
                  <a:pt x="17132" y="13511"/>
                  <a:pt x="17140" y="13519"/>
                </a:cubicBezTo>
              </a:path>
              <a:path w="3473" h="993">
                <a:moveTo>
                  <a:pt x="16768" y="12923"/>
                </a:moveTo>
                <a:cubicBezTo>
                  <a:pt x="16895" y="12923"/>
                  <a:pt x="17014" y="12945"/>
                  <a:pt x="17140" y="12948"/>
                </a:cubicBezTo>
                <a:cubicBezTo>
                  <a:pt x="17198" y="12948"/>
                  <a:pt x="17256" y="12948"/>
                  <a:pt x="17314" y="12948"/>
                </a:cubicBezTo>
              </a:path>
              <a:path w="3473" h="993">
                <a:moveTo>
                  <a:pt x="17884" y="12898"/>
                </a:moveTo>
                <a:cubicBezTo>
                  <a:pt x="17834" y="12985"/>
                  <a:pt x="17686" y="13163"/>
                  <a:pt x="17686" y="13271"/>
                </a:cubicBezTo>
                <a:cubicBezTo>
                  <a:pt x="17686" y="13377"/>
                  <a:pt x="17790" y="13502"/>
                  <a:pt x="17884" y="13543"/>
                </a:cubicBezTo>
                <a:cubicBezTo>
                  <a:pt x="17962" y="13577"/>
                  <a:pt x="18111" y="13576"/>
                  <a:pt x="18182" y="13519"/>
                </a:cubicBezTo>
                <a:cubicBezTo>
                  <a:pt x="18262" y="13455"/>
                  <a:pt x="18333" y="13270"/>
                  <a:pt x="18331" y="13171"/>
                </a:cubicBezTo>
                <a:cubicBezTo>
                  <a:pt x="18326" y="12951"/>
                  <a:pt x="18220" y="12943"/>
                  <a:pt x="18058" y="12849"/>
                </a:cubicBezTo>
                <a:cubicBezTo>
                  <a:pt x="17981" y="12804"/>
                  <a:pt x="17946" y="12784"/>
                  <a:pt x="17859" y="12774"/>
                </a:cubicBezTo>
              </a:path>
              <a:path w="3473" h="993">
                <a:moveTo>
                  <a:pt x="17562" y="13097"/>
                </a:moveTo>
                <a:cubicBezTo>
                  <a:pt x="17766" y="13133"/>
                  <a:pt x="17931" y="13167"/>
                  <a:pt x="18132" y="13122"/>
                </a:cubicBezTo>
              </a:path>
              <a:path w="3473" h="993">
                <a:moveTo>
                  <a:pt x="18678" y="13122"/>
                </a:moveTo>
                <a:cubicBezTo>
                  <a:pt x="18802" y="13122"/>
                  <a:pt x="18810" y="13122"/>
                  <a:pt x="18876" y="13122"/>
                </a:cubicBezTo>
              </a:path>
              <a:path w="3473" h="993">
                <a:moveTo>
                  <a:pt x="18479" y="13345"/>
                </a:moveTo>
                <a:cubicBezTo>
                  <a:pt x="18634" y="13427"/>
                  <a:pt x="18703" y="13484"/>
                  <a:pt x="18876" y="134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7045200" y="4384800"/>
            <a:ext cx="411120" cy="1044360"/>
          </a:xfrm>
          <a:custGeom>
            <a:avLst/>
            <a:gdLst/>
            <a:ahLst/>
            <a:rect l="l" t="t" r="r" b="b"/>
            <a:pathLst>
              <a:path w="1142" h="2903">
                <a:moveTo>
                  <a:pt x="20265" y="12601"/>
                </a:moveTo>
                <a:cubicBezTo>
                  <a:pt x="20276" y="12517"/>
                  <a:pt x="20299" y="12480"/>
                  <a:pt x="20290" y="12402"/>
                </a:cubicBezTo>
                <a:cubicBezTo>
                  <a:pt x="20280" y="12309"/>
                  <a:pt x="20229" y="12242"/>
                  <a:pt x="20141" y="12204"/>
                </a:cubicBezTo>
                <a:cubicBezTo>
                  <a:pt x="20038" y="12159"/>
                  <a:pt x="19873" y="12160"/>
                  <a:pt x="19769" y="12204"/>
                </a:cubicBezTo>
                <a:cubicBezTo>
                  <a:pt x="19657" y="12252"/>
                  <a:pt x="19558" y="12325"/>
                  <a:pt x="19571" y="12452"/>
                </a:cubicBezTo>
                <a:cubicBezTo>
                  <a:pt x="19583" y="12571"/>
                  <a:pt x="19679" y="12588"/>
                  <a:pt x="19769" y="12626"/>
                </a:cubicBezTo>
                <a:cubicBezTo>
                  <a:pt x="19870" y="12668"/>
                  <a:pt x="19919" y="12677"/>
                  <a:pt x="20017" y="12650"/>
                </a:cubicBezTo>
                <a:cubicBezTo>
                  <a:pt x="20151" y="12613"/>
                  <a:pt x="20176" y="12601"/>
                  <a:pt x="20265" y="12502"/>
                </a:cubicBezTo>
                <a:cubicBezTo>
                  <a:pt x="20322" y="12439"/>
                  <a:pt x="20331" y="12411"/>
                  <a:pt x="20340" y="12328"/>
                </a:cubicBezTo>
                <a:cubicBezTo>
                  <a:pt x="20281" y="12401"/>
                  <a:pt x="20264" y="12441"/>
                  <a:pt x="20241" y="12526"/>
                </a:cubicBezTo>
                <a:cubicBezTo>
                  <a:pt x="20212" y="12633"/>
                  <a:pt x="20199" y="12761"/>
                  <a:pt x="20216" y="12874"/>
                </a:cubicBezTo>
                <a:cubicBezTo>
                  <a:pt x="20233" y="12982"/>
                  <a:pt x="20277" y="13092"/>
                  <a:pt x="20290" y="13196"/>
                </a:cubicBezTo>
                <a:cubicBezTo>
                  <a:pt x="20300" y="13275"/>
                  <a:pt x="20307" y="13301"/>
                  <a:pt x="20290" y="13370"/>
                </a:cubicBezTo>
              </a:path>
              <a:path w="1142" h="2903">
                <a:moveTo>
                  <a:pt x="19720" y="13320"/>
                </a:moveTo>
                <a:cubicBezTo>
                  <a:pt x="19885" y="13333"/>
                  <a:pt x="20048" y="13361"/>
                  <a:pt x="20216" y="13370"/>
                </a:cubicBezTo>
                <a:cubicBezTo>
                  <a:pt x="20350" y="13377"/>
                  <a:pt x="20484" y="13382"/>
                  <a:pt x="20613" y="13419"/>
                </a:cubicBezTo>
                <a:cubicBezTo>
                  <a:pt x="20673" y="13439"/>
                  <a:pt x="20688" y="13438"/>
                  <a:pt x="20712" y="13469"/>
                </a:cubicBezTo>
              </a:path>
              <a:path w="1142" h="2903">
                <a:moveTo>
                  <a:pt x="20117" y="13841"/>
                </a:moveTo>
                <a:cubicBezTo>
                  <a:pt x="20079" y="13935"/>
                  <a:pt x="20032" y="14017"/>
                  <a:pt x="20092" y="14114"/>
                </a:cubicBezTo>
                <a:cubicBezTo>
                  <a:pt x="20115" y="14151"/>
                  <a:pt x="20224" y="14229"/>
                  <a:pt x="20265" y="14238"/>
                </a:cubicBezTo>
                <a:cubicBezTo>
                  <a:pt x="20395" y="14266"/>
                  <a:pt x="20482" y="14223"/>
                  <a:pt x="20588" y="14163"/>
                </a:cubicBezTo>
              </a:path>
              <a:path w="1142" h="2903">
                <a:moveTo>
                  <a:pt x="20687" y="13767"/>
                </a:moveTo>
                <a:cubicBezTo>
                  <a:pt x="20540" y="13780"/>
                  <a:pt x="20557" y="13888"/>
                  <a:pt x="20489" y="14039"/>
                </a:cubicBezTo>
                <a:cubicBezTo>
                  <a:pt x="20389" y="14264"/>
                  <a:pt x="20414" y="14490"/>
                  <a:pt x="20414" y="14734"/>
                </a:cubicBezTo>
                <a:cubicBezTo>
                  <a:pt x="20414" y="14855"/>
                  <a:pt x="20397" y="14962"/>
                  <a:pt x="20389" y="150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Ink 12"/>
          <p:cNvSpPr/>
          <p:nvPr/>
        </p:nvSpPr>
        <p:spPr>
          <a:xfrm>
            <a:off x="285840" y="98280"/>
            <a:ext cx="1063440" cy="893880"/>
          </a:xfrm>
          <a:custGeom>
            <a:avLst/>
            <a:gdLst/>
            <a:ahLst/>
            <a:rect l="l" t="t" r="r" b="b"/>
            <a:pathLst>
              <a:path w="2953" h="2481">
                <a:moveTo>
                  <a:pt x="794" y="2580"/>
                </a:moveTo>
                <a:cubicBezTo>
                  <a:pt x="900" y="2490"/>
                  <a:pt x="1013" y="2402"/>
                  <a:pt x="1116" y="2307"/>
                </a:cubicBezTo>
                <a:cubicBezTo>
                  <a:pt x="1278" y="2157"/>
                  <a:pt x="1431" y="2011"/>
                  <a:pt x="1612" y="1885"/>
                </a:cubicBezTo>
                <a:cubicBezTo>
                  <a:pt x="1860" y="1712"/>
                  <a:pt x="2106" y="1517"/>
                  <a:pt x="2332" y="1315"/>
                </a:cubicBezTo>
                <a:cubicBezTo>
                  <a:pt x="2519" y="1148"/>
                  <a:pt x="2687" y="959"/>
                  <a:pt x="2877" y="794"/>
                </a:cubicBezTo>
                <a:cubicBezTo>
                  <a:pt x="3016" y="673"/>
                  <a:pt x="3186" y="586"/>
                  <a:pt x="3324" y="471"/>
                </a:cubicBezTo>
                <a:cubicBezTo>
                  <a:pt x="3387" y="419"/>
                  <a:pt x="3444" y="351"/>
                  <a:pt x="3497" y="298"/>
                </a:cubicBezTo>
                <a:cubicBezTo>
                  <a:pt x="3505" y="290"/>
                  <a:pt x="3514" y="281"/>
                  <a:pt x="3522" y="273"/>
                </a:cubicBezTo>
                <a:cubicBezTo>
                  <a:pt x="3534" y="346"/>
                  <a:pt x="3545" y="434"/>
                  <a:pt x="3547" y="521"/>
                </a:cubicBezTo>
                <a:cubicBezTo>
                  <a:pt x="3551" y="670"/>
                  <a:pt x="3501" y="815"/>
                  <a:pt x="3497" y="967"/>
                </a:cubicBezTo>
                <a:cubicBezTo>
                  <a:pt x="3493" y="1121"/>
                  <a:pt x="3511" y="1265"/>
                  <a:pt x="3522" y="1414"/>
                </a:cubicBezTo>
                <a:cubicBezTo>
                  <a:pt x="3532" y="1548"/>
                  <a:pt x="3523" y="1679"/>
                  <a:pt x="3547" y="1811"/>
                </a:cubicBezTo>
                <a:cubicBezTo>
                  <a:pt x="3569" y="1932"/>
                  <a:pt x="3671" y="2021"/>
                  <a:pt x="3696" y="2133"/>
                </a:cubicBezTo>
                <a:cubicBezTo>
                  <a:pt x="3714" y="2211"/>
                  <a:pt x="3705" y="2302"/>
                  <a:pt x="3721" y="2381"/>
                </a:cubicBezTo>
                <a:cubicBezTo>
                  <a:pt x="3721" y="2433"/>
                  <a:pt x="3722" y="2451"/>
                  <a:pt x="3746" y="2480"/>
                </a:cubicBezTo>
                <a:cubicBezTo>
                  <a:pt x="3682" y="2504"/>
                  <a:pt x="3681" y="2526"/>
                  <a:pt x="3597" y="2530"/>
                </a:cubicBezTo>
                <a:cubicBezTo>
                  <a:pt x="3299" y="2545"/>
                  <a:pt x="3000" y="2536"/>
                  <a:pt x="2704" y="2555"/>
                </a:cubicBezTo>
                <a:cubicBezTo>
                  <a:pt x="2463" y="2571"/>
                  <a:pt x="2252" y="2565"/>
                  <a:pt x="2009" y="2604"/>
                </a:cubicBezTo>
                <a:cubicBezTo>
                  <a:pt x="1838" y="2631"/>
                  <a:pt x="1660" y="2662"/>
                  <a:pt x="1488" y="2679"/>
                </a:cubicBezTo>
                <a:cubicBezTo>
                  <a:pt x="1355" y="2692"/>
                  <a:pt x="1223" y="2687"/>
                  <a:pt x="1091" y="2704"/>
                </a:cubicBezTo>
                <a:cubicBezTo>
                  <a:pt x="1004" y="2716"/>
                  <a:pt x="924" y="2743"/>
                  <a:pt x="843" y="2753"/>
                </a:cubicBezTo>
                <a:cubicBezTo>
                  <a:pt x="827" y="2753"/>
                  <a:pt x="810" y="2753"/>
                  <a:pt x="794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Ink 13"/>
          <p:cNvSpPr/>
          <p:nvPr/>
        </p:nvSpPr>
        <p:spPr>
          <a:xfrm>
            <a:off x="446040" y="776160"/>
            <a:ext cx="13500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364" y="2332"/>
                </a:moveTo>
                <a:cubicBezTo>
                  <a:pt x="1321" y="2548"/>
                  <a:pt x="1272" y="2487"/>
                  <a:pt x="1364" y="2580"/>
                </a:cubicBezTo>
                <a:cubicBezTo>
                  <a:pt x="1466" y="2570"/>
                  <a:pt x="1464" y="2553"/>
                  <a:pt x="1538" y="2480"/>
                </a:cubicBezTo>
                <a:cubicBezTo>
                  <a:pt x="1608" y="2411"/>
                  <a:pt x="1612" y="2376"/>
                  <a:pt x="1612" y="2282"/>
                </a:cubicBezTo>
                <a:cubicBezTo>
                  <a:pt x="1612" y="2187"/>
                  <a:pt x="1616" y="2164"/>
                  <a:pt x="1513" y="2158"/>
                </a:cubicBezTo>
                <a:cubicBezTo>
                  <a:pt x="1431" y="2153"/>
                  <a:pt x="1319" y="2224"/>
                  <a:pt x="1265" y="2282"/>
                </a:cubicBezTo>
                <a:cubicBezTo>
                  <a:pt x="1257" y="2299"/>
                  <a:pt x="1248" y="2315"/>
                  <a:pt x="1240" y="23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Ink 14"/>
          <p:cNvSpPr/>
          <p:nvPr/>
        </p:nvSpPr>
        <p:spPr>
          <a:xfrm>
            <a:off x="411120" y="785880"/>
            <a:ext cx="366840" cy="115920"/>
          </a:xfrm>
          <a:custGeom>
            <a:avLst/>
            <a:gdLst/>
            <a:ahLst/>
            <a:rect l="l" t="t" r="r" b="b"/>
            <a:pathLst>
              <a:path w="1018" h="323">
                <a:moveTo>
                  <a:pt x="1141" y="2505"/>
                </a:moveTo>
                <a:cubicBezTo>
                  <a:pt x="1231" y="2505"/>
                  <a:pt x="1331" y="2495"/>
                  <a:pt x="1414" y="2456"/>
                </a:cubicBezTo>
                <a:cubicBezTo>
                  <a:pt x="1551" y="2392"/>
                  <a:pt x="1665" y="2350"/>
                  <a:pt x="1811" y="2307"/>
                </a:cubicBezTo>
                <a:cubicBezTo>
                  <a:pt x="1928" y="2273"/>
                  <a:pt x="2047" y="2232"/>
                  <a:pt x="2158" y="21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Ink 15"/>
          <p:cNvSpPr/>
          <p:nvPr/>
        </p:nvSpPr>
        <p:spPr>
          <a:xfrm>
            <a:off x="1384200" y="347760"/>
            <a:ext cx="889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3845" y="967"/>
                </a:moveTo>
                <a:cubicBezTo>
                  <a:pt x="3873" y="1051"/>
                  <a:pt x="3870" y="1125"/>
                  <a:pt x="3870" y="1215"/>
                </a:cubicBezTo>
                <a:cubicBezTo>
                  <a:pt x="3947" y="1215"/>
                  <a:pt x="4000" y="1207"/>
                  <a:pt x="4068" y="1166"/>
                </a:cubicBezTo>
                <a:cubicBezTo>
                  <a:pt x="4076" y="1158"/>
                  <a:pt x="4085" y="1149"/>
                  <a:pt x="4093" y="11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Ink 16"/>
          <p:cNvSpPr/>
          <p:nvPr/>
        </p:nvSpPr>
        <p:spPr>
          <a:xfrm>
            <a:off x="1455840" y="276120"/>
            <a:ext cx="36360" cy="331920"/>
          </a:xfrm>
          <a:custGeom>
            <a:avLst/>
            <a:gdLst/>
            <a:ahLst/>
            <a:rect l="l" t="t" r="r" b="b"/>
            <a:pathLst>
              <a:path w="100" h="919">
                <a:moveTo>
                  <a:pt x="4068" y="769"/>
                </a:moveTo>
                <a:cubicBezTo>
                  <a:pt x="4053" y="952"/>
                  <a:pt x="4013" y="1177"/>
                  <a:pt x="4043" y="1364"/>
                </a:cubicBezTo>
                <a:cubicBezTo>
                  <a:pt x="4056" y="1445"/>
                  <a:pt x="4146" y="1560"/>
                  <a:pt x="4142" y="1637"/>
                </a:cubicBezTo>
                <a:cubicBezTo>
                  <a:pt x="4122" y="1678"/>
                  <a:pt x="4125" y="1695"/>
                  <a:pt x="4093" y="16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Ink 17"/>
          <p:cNvSpPr/>
          <p:nvPr/>
        </p:nvSpPr>
        <p:spPr>
          <a:xfrm>
            <a:off x="633240" y="1044720"/>
            <a:ext cx="152640" cy="25848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2183" y="3101"/>
                </a:moveTo>
                <a:cubicBezTo>
                  <a:pt x="2119" y="3037"/>
                  <a:pt x="2055" y="2981"/>
                  <a:pt x="1984" y="2927"/>
                </a:cubicBezTo>
                <a:cubicBezTo>
                  <a:pt x="1868" y="2839"/>
                  <a:pt x="1852" y="2962"/>
                  <a:pt x="1811" y="3051"/>
                </a:cubicBezTo>
                <a:cubicBezTo>
                  <a:pt x="1784" y="3109"/>
                  <a:pt x="1755" y="3205"/>
                  <a:pt x="1786" y="3249"/>
                </a:cubicBezTo>
                <a:cubicBezTo>
                  <a:pt x="1825" y="3305"/>
                  <a:pt x="1923" y="3268"/>
                  <a:pt x="1960" y="3225"/>
                </a:cubicBezTo>
                <a:cubicBezTo>
                  <a:pt x="2010" y="3167"/>
                  <a:pt x="2015" y="3071"/>
                  <a:pt x="2034" y="3001"/>
                </a:cubicBezTo>
                <a:cubicBezTo>
                  <a:pt x="2059" y="3101"/>
                  <a:pt x="2066" y="3199"/>
                  <a:pt x="2084" y="3299"/>
                </a:cubicBezTo>
                <a:cubicBezTo>
                  <a:pt x="2099" y="3382"/>
                  <a:pt x="2080" y="3521"/>
                  <a:pt x="2108" y="3597"/>
                </a:cubicBezTo>
                <a:cubicBezTo>
                  <a:pt x="2133" y="3621"/>
                  <a:pt x="2141" y="3629"/>
                  <a:pt x="2108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Ink 18"/>
          <p:cNvSpPr/>
          <p:nvPr/>
        </p:nvSpPr>
        <p:spPr>
          <a:xfrm>
            <a:off x="1152360" y="704880"/>
            <a:ext cx="160560" cy="250920"/>
          </a:xfrm>
          <a:custGeom>
            <a:avLst/>
            <a:gdLst/>
            <a:ahLst/>
            <a:rect l="l" t="t" r="r" b="b"/>
            <a:pathLst>
              <a:path w="447" h="695">
                <a:moveTo>
                  <a:pt x="3646" y="1960"/>
                </a:moveTo>
                <a:cubicBezTo>
                  <a:pt x="3551" y="1960"/>
                  <a:pt x="3463" y="1950"/>
                  <a:pt x="3373" y="1984"/>
                </a:cubicBezTo>
                <a:cubicBezTo>
                  <a:pt x="3305" y="2010"/>
                  <a:pt x="3276" y="2009"/>
                  <a:pt x="3200" y="2009"/>
                </a:cubicBezTo>
                <a:cubicBezTo>
                  <a:pt x="3250" y="2059"/>
                  <a:pt x="3257" y="2069"/>
                  <a:pt x="3274" y="2133"/>
                </a:cubicBezTo>
                <a:cubicBezTo>
                  <a:pt x="3299" y="2226"/>
                  <a:pt x="3320" y="2358"/>
                  <a:pt x="3299" y="2456"/>
                </a:cubicBezTo>
                <a:cubicBezTo>
                  <a:pt x="3281" y="2541"/>
                  <a:pt x="3295" y="2554"/>
                  <a:pt x="3324" y="26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Ink 19"/>
          <p:cNvSpPr/>
          <p:nvPr/>
        </p:nvSpPr>
        <p:spPr>
          <a:xfrm>
            <a:off x="544680" y="214200"/>
            <a:ext cx="187200" cy="384120"/>
          </a:xfrm>
          <a:custGeom>
            <a:avLst/>
            <a:gdLst/>
            <a:ahLst/>
            <a:rect l="l" t="t" r="r" b="b"/>
            <a:pathLst>
              <a:path w="522" h="1068">
                <a:moveTo>
                  <a:pt x="1786" y="1439"/>
                </a:moveTo>
                <a:cubicBezTo>
                  <a:pt x="1809" y="1546"/>
                  <a:pt x="1824" y="1578"/>
                  <a:pt x="1836" y="1662"/>
                </a:cubicBezTo>
                <a:cubicBezTo>
                  <a:pt x="1824" y="1580"/>
                  <a:pt x="1783" y="1559"/>
                  <a:pt x="1736" y="1488"/>
                </a:cubicBezTo>
                <a:cubicBezTo>
                  <a:pt x="1677" y="1399"/>
                  <a:pt x="1622" y="1303"/>
                  <a:pt x="1563" y="1215"/>
                </a:cubicBezTo>
                <a:cubicBezTo>
                  <a:pt x="1509" y="1134"/>
                  <a:pt x="1508" y="1076"/>
                  <a:pt x="1538" y="992"/>
                </a:cubicBezTo>
                <a:cubicBezTo>
                  <a:pt x="1588" y="851"/>
                  <a:pt x="1681" y="752"/>
                  <a:pt x="1811" y="670"/>
                </a:cubicBezTo>
                <a:cubicBezTo>
                  <a:pt x="1868" y="634"/>
                  <a:pt x="1969" y="606"/>
                  <a:pt x="2034" y="5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Ink 20"/>
          <p:cNvSpPr/>
          <p:nvPr/>
        </p:nvSpPr>
        <p:spPr>
          <a:xfrm>
            <a:off x="633240" y="303120"/>
            <a:ext cx="162000" cy="16200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2034" y="1042"/>
                </a:moveTo>
                <a:cubicBezTo>
                  <a:pt x="2034" y="978"/>
                  <a:pt x="2044" y="932"/>
                  <a:pt x="1984" y="893"/>
                </a:cubicBezTo>
                <a:cubicBezTo>
                  <a:pt x="1935" y="868"/>
                  <a:pt x="1918" y="859"/>
                  <a:pt x="1885" y="843"/>
                </a:cubicBezTo>
                <a:cubicBezTo>
                  <a:pt x="1804" y="914"/>
                  <a:pt x="1756" y="1047"/>
                  <a:pt x="1761" y="1166"/>
                </a:cubicBezTo>
                <a:cubicBezTo>
                  <a:pt x="1762" y="1204"/>
                  <a:pt x="1855" y="1250"/>
                  <a:pt x="1885" y="1240"/>
                </a:cubicBezTo>
                <a:cubicBezTo>
                  <a:pt x="1968" y="1212"/>
                  <a:pt x="1954" y="1084"/>
                  <a:pt x="1960" y="1017"/>
                </a:cubicBezTo>
                <a:cubicBezTo>
                  <a:pt x="1988" y="1104"/>
                  <a:pt x="2003" y="1186"/>
                  <a:pt x="2084" y="1240"/>
                </a:cubicBezTo>
                <a:cubicBezTo>
                  <a:pt x="2131" y="1272"/>
                  <a:pt x="2198" y="1284"/>
                  <a:pt x="2208" y="12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Ink 21"/>
          <p:cNvSpPr/>
          <p:nvPr/>
        </p:nvSpPr>
        <p:spPr>
          <a:xfrm>
            <a:off x="741240" y="177840"/>
            <a:ext cx="196920" cy="17928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059" y="794"/>
                </a:moveTo>
                <a:cubicBezTo>
                  <a:pt x="2129" y="711"/>
                  <a:pt x="2192" y="654"/>
                  <a:pt x="2282" y="595"/>
                </a:cubicBezTo>
                <a:cubicBezTo>
                  <a:pt x="2345" y="554"/>
                  <a:pt x="2362" y="558"/>
                  <a:pt x="2406" y="496"/>
                </a:cubicBezTo>
                <a:cubicBezTo>
                  <a:pt x="2406" y="577"/>
                  <a:pt x="2438" y="604"/>
                  <a:pt x="2456" y="670"/>
                </a:cubicBezTo>
                <a:cubicBezTo>
                  <a:pt x="2481" y="762"/>
                  <a:pt x="2567" y="784"/>
                  <a:pt x="2604" y="868"/>
                </a:cubicBezTo>
                <a:cubicBezTo>
                  <a:pt x="2616" y="896"/>
                  <a:pt x="2604" y="960"/>
                  <a:pt x="2604" y="9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9ddcd"/>
                </a:solidFill>
                <a:latin typeface="Arial"/>
              </a:rPr>
              <a:t>Lesson 4.3</a:t>
            </a:r>
            <a:br>
              <a:rPr sz="8500"/>
            </a:br>
            <a:r>
              <a:rPr b="0" lang="en-US" sz="8500" spc="-1" strike="noStrike">
                <a:solidFill>
                  <a:srgbClr val="e9ddc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9ddcd"/>
                </a:solidFill>
                <a:latin typeface="Arial"/>
              </a:rPr>
              <a:t>Finding the value of </a:t>
            </a:r>
            <a:r>
              <a:rPr b="0" lang="el-GR" sz="8500" spc="-1" strike="noStrike">
                <a:solidFill>
                  <a:srgbClr val="e9ddcd"/>
                </a:solidFill>
                <a:latin typeface="Arial"/>
                <a:ea typeface="Arial"/>
              </a:rPr>
              <a:t>Θ</a:t>
            </a:r>
            <a:endParaRPr b="0" lang="en-US" sz="85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Find the value of </a:t>
            </a:r>
            <a:r>
              <a:rPr b="0" lang="el-GR" sz="4000" spc="-1" strike="noStrike">
                <a:solidFill>
                  <a:srgbClr val="e9ddc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e9ddcd"/>
                </a:solidFill>
                <a:latin typeface="Arial"/>
                <a:ea typeface="Arial"/>
              </a:rPr>
              <a:t> in degrees and in radians (1</a:t>
            </a:r>
            <a:r>
              <a:rPr b="0" lang="en-US" sz="4000" spc="-1" strike="noStrike" baseline="30000">
                <a:solidFill>
                  <a:srgbClr val="e9ddcd"/>
                </a:solidFill>
                <a:latin typeface="Arial"/>
                <a:ea typeface="Arial"/>
              </a:rPr>
              <a:t>st</a:t>
            </a:r>
            <a:r>
              <a:rPr b="0" lang="en-US" sz="4000" spc="-1" strike="noStrike">
                <a:solidFill>
                  <a:srgbClr val="e9ddcd"/>
                </a:solidFill>
                <a:latin typeface="Arial"/>
                <a:ea typeface="Arial"/>
              </a:rPr>
              <a:t> quadrant only)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Sin </a:t>
            </a:r>
            <a:r>
              <a:rPr b="0" lang="el-GR" sz="5000" spc="-1" strike="noStrike">
                <a:solidFill>
                  <a:srgbClr val="ffffff"/>
                </a:solidFill>
                <a:latin typeface="Verdana"/>
                <a:ea typeface="Arial"/>
              </a:rPr>
              <a:t>Θ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 = 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50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Tan </a:t>
            </a:r>
            <a:r>
              <a:rPr b="0" lang="el-GR" sz="5000" spc="-1" strike="noStrike">
                <a:solidFill>
                  <a:srgbClr val="ffffff"/>
                </a:solidFill>
                <a:latin typeface="Verdana"/>
                <a:ea typeface="Arial"/>
              </a:rPr>
              <a:t>Θ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 = 1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Csc </a:t>
            </a:r>
            <a:r>
              <a:rPr b="0" lang="el-GR" sz="5000" spc="-1" strike="noStrike">
                <a:solidFill>
                  <a:srgbClr val="ffffff"/>
                </a:solidFill>
                <a:latin typeface="Verdana"/>
                <a:ea typeface="Arial"/>
              </a:rPr>
              <a:t>Θ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 = </a:t>
            </a:r>
            <a:r>
              <a:rPr b="0" lang="en-US" sz="50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50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Ink 4"/>
          <p:cNvSpPr/>
          <p:nvPr/>
        </p:nvSpPr>
        <p:spPr>
          <a:xfrm>
            <a:off x="8528040" y="1714680"/>
            <a:ext cx="500040" cy="2027160"/>
          </a:xfrm>
          <a:custGeom>
            <a:avLst/>
            <a:gdLst/>
            <a:ahLst/>
            <a:rect l="l" t="t" r="r" b="b"/>
            <a:pathLst>
              <a:path w="1391" h="5632">
                <a:moveTo>
                  <a:pt x="23688" y="8781"/>
                </a:moveTo>
                <a:cubicBezTo>
                  <a:pt x="23766" y="8781"/>
                  <a:pt x="23818" y="8766"/>
                  <a:pt x="23887" y="8756"/>
                </a:cubicBezTo>
              </a:path>
              <a:path w="1391" h="5632">
                <a:moveTo>
                  <a:pt x="23688" y="8979"/>
                </a:moveTo>
                <a:cubicBezTo>
                  <a:pt x="23769" y="8979"/>
                  <a:pt x="23818" y="8975"/>
                  <a:pt x="23887" y="8930"/>
                </a:cubicBezTo>
              </a:path>
              <a:path w="1391" h="5632">
                <a:moveTo>
                  <a:pt x="24507" y="4936"/>
                </a:moveTo>
                <a:cubicBezTo>
                  <a:pt x="24532" y="5005"/>
                  <a:pt x="24557" y="5074"/>
                  <a:pt x="24581" y="5135"/>
                </a:cubicBezTo>
                <a:cubicBezTo>
                  <a:pt x="24627" y="5250"/>
                  <a:pt x="24694" y="5267"/>
                  <a:pt x="24755" y="5358"/>
                </a:cubicBezTo>
                <a:cubicBezTo>
                  <a:pt x="24812" y="5444"/>
                  <a:pt x="24836" y="5464"/>
                  <a:pt x="24904" y="5531"/>
                </a:cubicBezTo>
                <a:cubicBezTo>
                  <a:pt x="24941" y="5568"/>
                  <a:pt x="24958" y="5599"/>
                  <a:pt x="24904" y="5581"/>
                </a:cubicBezTo>
              </a:path>
              <a:path w="1391" h="5632">
                <a:moveTo>
                  <a:pt x="25078" y="4762"/>
                </a:moveTo>
                <a:cubicBezTo>
                  <a:pt x="25051" y="4834"/>
                  <a:pt x="25069" y="4889"/>
                  <a:pt x="25053" y="4961"/>
                </a:cubicBezTo>
                <a:cubicBezTo>
                  <a:pt x="25027" y="5077"/>
                  <a:pt x="25019" y="5190"/>
                  <a:pt x="25003" y="5308"/>
                </a:cubicBezTo>
                <a:cubicBezTo>
                  <a:pt x="24970" y="5554"/>
                  <a:pt x="24928" y="5708"/>
                  <a:pt x="24854" y="5928"/>
                </a:cubicBezTo>
                <a:cubicBezTo>
                  <a:pt x="24813" y="6050"/>
                  <a:pt x="24827" y="6155"/>
                  <a:pt x="24805" y="6276"/>
                </a:cubicBezTo>
                <a:cubicBezTo>
                  <a:pt x="24788" y="6370"/>
                  <a:pt x="24780" y="6450"/>
                  <a:pt x="24780" y="6548"/>
                </a:cubicBezTo>
                <a:cubicBezTo>
                  <a:pt x="24780" y="6565"/>
                  <a:pt x="24780" y="6581"/>
                  <a:pt x="24780" y="6598"/>
                </a:cubicBezTo>
              </a:path>
              <a:path w="1391" h="5632">
                <a:moveTo>
                  <a:pt x="24408" y="6772"/>
                </a:moveTo>
                <a:cubicBezTo>
                  <a:pt x="24503" y="6873"/>
                  <a:pt x="24565" y="6955"/>
                  <a:pt x="24631" y="7069"/>
                </a:cubicBezTo>
                <a:cubicBezTo>
                  <a:pt x="24671" y="7138"/>
                  <a:pt x="24755" y="7263"/>
                  <a:pt x="24805" y="7317"/>
                </a:cubicBezTo>
                <a:cubicBezTo>
                  <a:pt x="24850" y="7365"/>
                  <a:pt x="24903" y="7415"/>
                  <a:pt x="24954" y="7466"/>
                </a:cubicBezTo>
                <a:cubicBezTo>
                  <a:pt x="24983" y="7496"/>
                  <a:pt x="24994" y="7511"/>
                  <a:pt x="25003" y="7541"/>
                </a:cubicBezTo>
              </a:path>
              <a:path w="1391" h="5632">
                <a:moveTo>
                  <a:pt x="24929" y="6772"/>
                </a:moveTo>
                <a:cubicBezTo>
                  <a:pt x="24849" y="6883"/>
                  <a:pt x="24811" y="7012"/>
                  <a:pt x="24730" y="7119"/>
                </a:cubicBezTo>
                <a:cubicBezTo>
                  <a:pt x="24631" y="7250"/>
                  <a:pt x="24542" y="7384"/>
                  <a:pt x="24457" y="7516"/>
                </a:cubicBezTo>
                <a:cubicBezTo>
                  <a:pt x="24409" y="7590"/>
                  <a:pt x="24363" y="7668"/>
                  <a:pt x="24309" y="7739"/>
                </a:cubicBezTo>
                <a:cubicBezTo>
                  <a:pt x="24284" y="7764"/>
                  <a:pt x="24276" y="7772"/>
                  <a:pt x="24259" y="7789"/>
                </a:cubicBezTo>
              </a:path>
              <a:path w="1391" h="5632">
                <a:moveTo>
                  <a:pt x="24284" y="8657"/>
                </a:moveTo>
                <a:cubicBezTo>
                  <a:pt x="24352" y="8725"/>
                  <a:pt x="24408" y="8798"/>
                  <a:pt x="24457" y="8880"/>
                </a:cubicBezTo>
                <a:cubicBezTo>
                  <a:pt x="24499" y="8950"/>
                  <a:pt x="24534" y="8974"/>
                  <a:pt x="24581" y="9029"/>
                </a:cubicBezTo>
                <a:cubicBezTo>
                  <a:pt x="24610" y="9063"/>
                  <a:pt x="24608" y="9124"/>
                  <a:pt x="24631" y="9079"/>
                </a:cubicBezTo>
              </a:path>
              <a:path w="1391" h="5632">
                <a:moveTo>
                  <a:pt x="24631" y="8384"/>
                </a:moveTo>
                <a:cubicBezTo>
                  <a:pt x="24631" y="8486"/>
                  <a:pt x="24626" y="8583"/>
                  <a:pt x="24606" y="8682"/>
                </a:cubicBezTo>
                <a:cubicBezTo>
                  <a:pt x="24584" y="8794"/>
                  <a:pt x="24571" y="8896"/>
                  <a:pt x="24532" y="9004"/>
                </a:cubicBezTo>
                <a:cubicBezTo>
                  <a:pt x="24499" y="9095"/>
                  <a:pt x="24472" y="9185"/>
                  <a:pt x="24457" y="9277"/>
                </a:cubicBezTo>
                <a:cubicBezTo>
                  <a:pt x="24447" y="9334"/>
                  <a:pt x="24461" y="9352"/>
                  <a:pt x="24433" y="9401"/>
                </a:cubicBezTo>
              </a:path>
              <a:path w="1391" h="5632">
                <a:moveTo>
                  <a:pt x="23887" y="9302"/>
                </a:moveTo>
                <a:cubicBezTo>
                  <a:pt x="23989" y="9293"/>
                  <a:pt x="24085" y="9263"/>
                  <a:pt x="24185" y="9252"/>
                </a:cubicBezTo>
                <a:cubicBezTo>
                  <a:pt x="24284" y="9241"/>
                  <a:pt x="24388" y="9212"/>
                  <a:pt x="24482" y="9203"/>
                </a:cubicBezTo>
                <a:cubicBezTo>
                  <a:pt x="24574" y="9194"/>
                  <a:pt x="24690" y="9200"/>
                  <a:pt x="24780" y="9178"/>
                </a:cubicBezTo>
                <a:cubicBezTo>
                  <a:pt x="24829" y="9166"/>
                  <a:pt x="24851" y="9153"/>
                  <a:pt x="24904" y="9153"/>
                </a:cubicBezTo>
              </a:path>
              <a:path w="1391" h="5632">
                <a:moveTo>
                  <a:pt x="24284" y="9823"/>
                </a:moveTo>
                <a:cubicBezTo>
                  <a:pt x="24343" y="9899"/>
                  <a:pt x="24434" y="9987"/>
                  <a:pt x="24507" y="10046"/>
                </a:cubicBezTo>
                <a:cubicBezTo>
                  <a:pt x="24550" y="10081"/>
                  <a:pt x="24590" y="10105"/>
                  <a:pt x="24631" y="10145"/>
                </a:cubicBezTo>
                <a:cubicBezTo>
                  <a:pt x="24654" y="10168"/>
                  <a:pt x="24658" y="10176"/>
                  <a:pt x="24681" y="10170"/>
                </a:cubicBezTo>
              </a:path>
              <a:path w="1391" h="5632">
                <a:moveTo>
                  <a:pt x="24581" y="9575"/>
                </a:moveTo>
                <a:cubicBezTo>
                  <a:pt x="24490" y="9694"/>
                  <a:pt x="24491" y="9823"/>
                  <a:pt x="24408" y="9947"/>
                </a:cubicBezTo>
                <a:cubicBezTo>
                  <a:pt x="24320" y="10078"/>
                  <a:pt x="24241" y="10204"/>
                  <a:pt x="24160" y="10344"/>
                </a:cubicBezTo>
                <a:cubicBezTo>
                  <a:pt x="24152" y="10360"/>
                  <a:pt x="24143" y="10377"/>
                  <a:pt x="24135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Ink 5"/>
          <p:cNvSpPr/>
          <p:nvPr/>
        </p:nvSpPr>
        <p:spPr>
          <a:xfrm>
            <a:off x="8089920" y="1633680"/>
            <a:ext cx="669960" cy="393480"/>
          </a:xfrm>
          <a:custGeom>
            <a:avLst/>
            <a:gdLst/>
            <a:ahLst/>
            <a:rect l="l" t="t" r="r" b="b"/>
            <a:pathLst>
              <a:path w="1861" h="1093">
                <a:moveTo>
                  <a:pt x="22870" y="4961"/>
                </a:moveTo>
                <a:cubicBezTo>
                  <a:pt x="22911" y="4961"/>
                  <a:pt x="22871" y="4881"/>
                  <a:pt x="22820" y="4837"/>
                </a:cubicBezTo>
                <a:cubicBezTo>
                  <a:pt x="22741" y="4769"/>
                  <a:pt x="22696" y="4798"/>
                  <a:pt x="22622" y="4837"/>
                </a:cubicBezTo>
                <a:cubicBezTo>
                  <a:pt x="22585" y="4857"/>
                  <a:pt x="22487" y="4887"/>
                  <a:pt x="22473" y="4936"/>
                </a:cubicBezTo>
                <a:cubicBezTo>
                  <a:pt x="22459" y="4984"/>
                  <a:pt x="22459" y="5092"/>
                  <a:pt x="22523" y="5110"/>
                </a:cubicBezTo>
                <a:cubicBezTo>
                  <a:pt x="22584" y="5128"/>
                  <a:pt x="22641" y="5130"/>
                  <a:pt x="22696" y="5159"/>
                </a:cubicBezTo>
                <a:cubicBezTo>
                  <a:pt x="22772" y="5199"/>
                  <a:pt x="22843" y="5245"/>
                  <a:pt x="22920" y="5283"/>
                </a:cubicBezTo>
                <a:cubicBezTo>
                  <a:pt x="22992" y="5319"/>
                  <a:pt x="23093" y="5376"/>
                  <a:pt x="23118" y="5457"/>
                </a:cubicBezTo>
                <a:cubicBezTo>
                  <a:pt x="23139" y="5524"/>
                  <a:pt x="23110" y="5563"/>
                  <a:pt x="23068" y="5606"/>
                </a:cubicBezTo>
                <a:cubicBezTo>
                  <a:pt x="23026" y="5649"/>
                  <a:pt x="22954" y="5631"/>
                  <a:pt x="22895" y="5631"/>
                </a:cubicBezTo>
                <a:cubicBezTo>
                  <a:pt x="22841" y="5631"/>
                  <a:pt x="22758" y="5599"/>
                  <a:pt x="22721" y="5556"/>
                </a:cubicBezTo>
                <a:cubicBezTo>
                  <a:pt x="22681" y="5510"/>
                  <a:pt x="22655" y="5438"/>
                  <a:pt x="22647" y="5383"/>
                </a:cubicBezTo>
              </a:path>
              <a:path w="1861" h="1093">
                <a:moveTo>
                  <a:pt x="23217" y="4986"/>
                </a:moveTo>
                <a:cubicBezTo>
                  <a:pt x="23245" y="5104"/>
                  <a:pt x="23267" y="5187"/>
                  <a:pt x="23267" y="5308"/>
                </a:cubicBezTo>
                <a:cubicBezTo>
                  <a:pt x="23267" y="5359"/>
                  <a:pt x="23254" y="5495"/>
                  <a:pt x="23292" y="5457"/>
                </a:cubicBezTo>
              </a:path>
              <a:path w="1861" h="1093">
                <a:moveTo>
                  <a:pt x="23242" y="4589"/>
                </a:moveTo>
                <a:cubicBezTo>
                  <a:pt x="23250" y="4572"/>
                  <a:pt x="23259" y="4556"/>
                  <a:pt x="23267" y="4539"/>
                </a:cubicBezTo>
              </a:path>
              <a:path w="1861" h="1093">
                <a:moveTo>
                  <a:pt x="23391" y="5283"/>
                </a:moveTo>
                <a:cubicBezTo>
                  <a:pt x="23407" y="5375"/>
                  <a:pt x="23457" y="5503"/>
                  <a:pt x="23416" y="5482"/>
                </a:cubicBezTo>
                <a:cubicBezTo>
                  <a:pt x="23416" y="5383"/>
                  <a:pt x="23394" y="5306"/>
                  <a:pt x="23391" y="5209"/>
                </a:cubicBezTo>
                <a:cubicBezTo>
                  <a:pt x="23389" y="5147"/>
                  <a:pt x="23422" y="5010"/>
                  <a:pt x="23465" y="4961"/>
                </a:cubicBezTo>
                <a:cubicBezTo>
                  <a:pt x="23507" y="4913"/>
                  <a:pt x="23620" y="4929"/>
                  <a:pt x="23664" y="4961"/>
                </a:cubicBezTo>
                <a:cubicBezTo>
                  <a:pt x="23733" y="5011"/>
                  <a:pt x="23776" y="5128"/>
                  <a:pt x="23788" y="5209"/>
                </a:cubicBezTo>
                <a:cubicBezTo>
                  <a:pt x="23800" y="5290"/>
                  <a:pt x="23808" y="5377"/>
                  <a:pt x="23812" y="5457"/>
                </a:cubicBezTo>
                <a:cubicBezTo>
                  <a:pt x="23815" y="5515"/>
                  <a:pt x="23800" y="5532"/>
                  <a:pt x="23837" y="5556"/>
                </a:cubicBezTo>
              </a:path>
              <a:path w="1861" h="1093">
                <a:moveTo>
                  <a:pt x="24036" y="5060"/>
                </a:moveTo>
                <a:cubicBezTo>
                  <a:pt x="24081" y="5056"/>
                  <a:pt x="24202" y="5007"/>
                  <a:pt x="24234" y="5011"/>
                </a:cubicBezTo>
                <a:cubicBezTo>
                  <a:pt x="24251" y="5019"/>
                  <a:pt x="24267" y="5027"/>
                  <a:pt x="24284" y="5035"/>
                </a:cubicBezTo>
              </a:path>
              <a:path w="1861" h="1093">
                <a:moveTo>
                  <a:pt x="24011" y="5333"/>
                </a:moveTo>
                <a:cubicBezTo>
                  <a:pt x="24085" y="5333"/>
                  <a:pt x="24142" y="5317"/>
                  <a:pt x="24209" y="5308"/>
                </a:cubicBezTo>
                <a:cubicBezTo>
                  <a:pt x="24277" y="5308"/>
                  <a:pt x="24296" y="5311"/>
                  <a:pt x="24333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Ink 6"/>
          <p:cNvSpPr/>
          <p:nvPr/>
        </p:nvSpPr>
        <p:spPr>
          <a:xfrm>
            <a:off x="8072280" y="2401920"/>
            <a:ext cx="660600" cy="260280"/>
          </a:xfrm>
          <a:custGeom>
            <a:avLst/>
            <a:gdLst/>
            <a:ahLst/>
            <a:rect l="l" t="t" r="r" b="b"/>
            <a:pathLst>
              <a:path w="1837" h="721">
                <a:moveTo>
                  <a:pt x="22696" y="6896"/>
                </a:moveTo>
                <a:cubicBezTo>
                  <a:pt x="22721" y="6945"/>
                  <a:pt x="22730" y="6962"/>
                  <a:pt x="22746" y="6995"/>
                </a:cubicBezTo>
                <a:cubicBezTo>
                  <a:pt x="22715" y="6914"/>
                  <a:pt x="22732" y="6841"/>
                  <a:pt x="22671" y="6772"/>
                </a:cubicBezTo>
                <a:cubicBezTo>
                  <a:pt x="22596" y="6688"/>
                  <a:pt x="22551" y="6790"/>
                  <a:pt x="22523" y="6846"/>
                </a:cubicBezTo>
                <a:cubicBezTo>
                  <a:pt x="22491" y="6911"/>
                  <a:pt x="22462" y="7020"/>
                  <a:pt x="22448" y="7094"/>
                </a:cubicBezTo>
                <a:cubicBezTo>
                  <a:pt x="22431" y="7180"/>
                  <a:pt x="22413" y="7238"/>
                  <a:pt x="22473" y="7317"/>
                </a:cubicBezTo>
                <a:cubicBezTo>
                  <a:pt x="22510" y="7366"/>
                  <a:pt x="22538" y="7389"/>
                  <a:pt x="22597" y="7392"/>
                </a:cubicBezTo>
                <a:cubicBezTo>
                  <a:pt x="22678" y="7397"/>
                  <a:pt x="22688" y="7353"/>
                  <a:pt x="22746" y="7317"/>
                </a:cubicBezTo>
                <a:cubicBezTo>
                  <a:pt x="22800" y="7291"/>
                  <a:pt x="22820" y="7279"/>
                  <a:pt x="22845" y="7243"/>
                </a:cubicBezTo>
              </a:path>
              <a:path w="1837" h="721">
                <a:moveTo>
                  <a:pt x="22994" y="6846"/>
                </a:moveTo>
                <a:cubicBezTo>
                  <a:pt x="22971" y="6950"/>
                  <a:pt x="22932" y="7067"/>
                  <a:pt x="22920" y="7169"/>
                </a:cubicBezTo>
                <a:cubicBezTo>
                  <a:pt x="22911" y="7240"/>
                  <a:pt x="22904" y="7347"/>
                  <a:pt x="22994" y="7367"/>
                </a:cubicBezTo>
                <a:cubicBezTo>
                  <a:pt x="23062" y="7382"/>
                  <a:pt x="23105" y="7344"/>
                  <a:pt x="23143" y="7293"/>
                </a:cubicBezTo>
                <a:cubicBezTo>
                  <a:pt x="23210" y="7202"/>
                  <a:pt x="23263" y="7160"/>
                  <a:pt x="23267" y="7045"/>
                </a:cubicBezTo>
                <a:cubicBezTo>
                  <a:pt x="23269" y="6969"/>
                  <a:pt x="23288" y="6892"/>
                  <a:pt x="23217" y="6846"/>
                </a:cubicBezTo>
                <a:cubicBezTo>
                  <a:pt x="23147" y="6801"/>
                  <a:pt x="23048" y="6821"/>
                  <a:pt x="22969" y="6821"/>
                </a:cubicBezTo>
                <a:cubicBezTo>
                  <a:pt x="22961" y="6821"/>
                  <a:pt x="22952" y="6821"/>
                  <a:pt x="22944" y="6821"/>
                </a:cubicBezTo>
              </a:path>
              <a:path w="1837" h="721">
                <a:moveTo>
                  <a:pt x="23589" y="6672"/>
                </a:moveTo>
                <a:cubicBezTo>
                  <a:pt x="23550" y="6722"/>
                  <a:pt x="23380" y="6867"/>
                  <a:pt x="23440" y="6945"/>
                </a:cubicBezTo>
                <a:cubicBezTo>
                  <a:pt x="23479" y="6995"/>
                  <a:pt x="23586" y="7039"/>
                  <a:pt x="23639" y="7069"/>
                </a:cubicBezTo>
                <a:cubicBezTo>
                  <a:pt x="23683" y="7094"/>
                  <a:pt x="23759" y="7156"/>
                  <a:pt x="23738" y="7218"/>
                </a:cubicBezTo>
                <a:cubicBezTo>
                  <a:pt x="23711" y="7297"/>
                  <a:pt x="23616" y="7328"/>
                  <a:pt x="23540" y="7342"/>
                </a:cubicBezTo>
                <a:cubicBezTo>
                  <a:pt x="23484" y="7352"/>
                  <a:pt x="23475" y="7327"/>
                  <a:pt x="23440" y="7293"/>
                </a:cubicBezTo>
              </a:path>
              <a:path w="1837" h="721">
                <a:moveTo>
                  <a:pt x="23862" y="6871"/>
                </a:moveTo>
                <a:cubicBezTo>
                  <a:pt x="23971" y="6848"/>
                  <a:pt x="24032" y="6821"/>
                  <a:pt x="24135" y="6821"/>
                </a:cubicBezTo>
                <a:cubicBezTo>
                  <a:pt x="24201" y="6821"/>
                  <a:pt x="24218" y="6821"/>
                  <a:pt x="24259" y="6821"/>
                </a:cubicBezTo>
              </a:path>
              <a:path w="1837" h="721">
                <a:moveTo>
                  <a:pt x="23961" y="7069"/>
                </a:moveTo>
                <a:cubicBezTo>
                  <a:pt x="24039" y="7098"/>
                  <a:pt x="24136" y="7085"/>
                  <a:pt x="24209" y="7119"/>
                </a:cubicBezTo>
                <a:cubicBezTo>
                  <a:pt x="24232" y="7142"/>
                  <a:pt x="24236" y="7150"/>
                  <a:pt x="24259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Ink 7"/>
          <p:cNvSpPr/>
          <p:nvPr/>
        </p:nvSpPr>
        <p:spPr>
          <a:xfrm>
            <a:off x="7956720" y="3081240"/>
            <a:ext cx="527040" cy="285840"/>
          </a:xfrm>
          <a:custGeom>
            <a:avLst/>
            <a:gdLst/>
            <a:ahLst/>
            <a:rect l="l" t="t" r="r" b="b"/>
            <a:pathLst>
              <a:path w="1464" h="794">
                <a:moveTo>
                  <a:pt x="22349" y="8558"/>
                </a:moveTo>
                <a:cubicBezTo>
                  <a:pt x="22363" y="8708"/>
                  <a:pt x="22367" y="8881"/>
                  <a:pt x="22399" y="9029"/>
                </a:cubicBezTo>
                <a:cubicBezTo>
                  <a:pt x="22415" y="9102"/>
                  <a:pt x="22435" y="9188"/>
                  <a:pt x="22448" y="9252"/>
                </a:cubicBezTo>
                <a:cubicBezTo>
                  <a:pt x="22471" y="9365"/>
                  <a:pt x="22441" y="9361"/>
                  <a:pt x="22399" y="9252"/>
                </a:cubicBezTo>
              </a:path>
              <a:path w="1464" h="794">
                <a:moveTo>
                  <a:pt x="22101" y="8954"/>
                </a:moveTo>
                <a:cubicBezTo>
                  <a:pt x="22181" y="8898"/>
                  <a:pt x="22226" y="8869"/>
                  <a:pt x="22324" y="8855"/>
                </a:cubicBezTo>
                <a:cubicBezTo>
                  <a:pt x="22409" y="8843"/>
                  <a:pt x="22481" y="8830"/>
                  <a:pt x="22572" y="8830"/>
                </a:cubicBezTo>
                <a:cubicBezTo>
                  <a:pt x="22647" y="8830"/>
                  <a:pt x="22817" y="8836"/>
                  <a:pt x="22895" y="8806"/>
                </a:cubicBezTo>
                <a:cubicBezTo>
                  <a:pt x="22903" y="8798"/>
                  <a:pt x="22912" y="8789"/>
                  <a:pt x="22920" y="8781"/>
                </a:cubicBezTo>
                <a:cubicBezTo>
                  <a:pt x="22838" y="8732"/>
                  <a:pt x="22759" y="8780"/>
                  <a:pt x="22696" y="8855"/>
                </a:cubicBezTo>
                <a:cubicBezTo>
                  <a:pt x="22636" y="8927"/>
                  <a:pt x="22579" y="9016"/>
                  <a:pt x="22572" y="9103"/>
                </a:cubicBezTo>
                <a:cubicBezTo>
                  <a:pt x="22566" y="9179"/>
                  <a:pt x="22579" y="9198"/>
                  <a:pt x="22622" y="9252"/>
                </a:cubicBezTo>
                <a:cubicBezTo>
                  <a:pt x="22719" y="9243"/>
                  <a:pt x="22768" y="9234"/>
                  <a:pt x="22796" y="9128"/>
                </a:cubicBezTo>
                <a:cubicBezTo>
                  <a:pt x="22820" y="9038"/>
                  <a:pt x="22841" y="8934"/>
                  <a:pt x="22796" y="8855"/>
                </a:cubicBezTo>
                <a:cubicBezTo>
                  <a:pt x="22796" y="8961"/>
                  <a:pt x="22814" y="9008"/>
                  <a:pt x="22845" y="9103"/>
                </a:cubicBezTo>
                <a:cubicBezTo>
                  <a:pt x="22860" y="9149"/>
                  <a:pt x="22913" y="9304"/>
                  <a:pt x="22969" y="9178"/>
                </a:cubicBezTo>
                <a:cubicBezTo>
                  <a:pt x="22969" y="9170"/>
                  <a:pt x="22969" y="9161"/>
                  <a:pt x="22969" y="9153"/>
                </a:cubicBezTo>
              </a:path>
              <a:path w="1464" h="794">
                <a:moveTo>
                  <a:pt x="23044" y="8954"/>
                </a:moveTo>
                <a:cubicBezTo>
                  <a:pt x="23063" y="9044"/>
                  <a:pt x="23062" y="9108"/>
                  <a:pt x="23118" y="9178"/>
                </a:cubicBezTo>
                <a:cubicBezTo>
                  <a:pt x="23118" y="9094"/>
                  <a:pt x="23097" y="9033"/>
                  <a:pt x="23093" y="8954"/>
                </a:cubicBezTo>
                <a:cubicBezTo>
                  <a:pt x="23086" y="8825"/>
                  <a:pt x="23097" y="8743"/>
                  <a:pt x="23217" y="8731"/>
                </a:cubicBezTo>
                <a:cubicBezTo>
                  <a:pt x="23299" y="8723"/>
                  <a:pt x="23427" y="8831"/>
                  <a:pt x="23465" y="8880"/>
                </a:cubicBezTo>
                <a:cubicBezTo>
                  <a:pt x="23493" y="8916"/>
                  <a:pt x="23554" y="9055"/>
                  <a:pt x="23564" y="9103"/>
                </a:cubicBezTo>
                <a:cubicBezTo>
                  <a:pt x="23564" y="9145"/>
                  <a:pt x="23564" y="9170"/>
                  <a:pt x="23564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Ink 8"/>
          <p:cNvSpPr/>
          <p:nvPr/>
        </p:nvSpPr>
        <p:spPr>
          <a:xfrm>
            <a:off x="7634160" y="1473120"/>
            <a:ext cx="331920" cy="3357720"/>
          </a:xfrm>
          <a:custGeom>
            <a:avLst/>
            <a:gdLst/>
            <a:ahLst/>
            <a:rect l="l" t="t" r="r" b="b"/>
            <a:pathLst>
              <a:path w="919" h="9327">
                <a:moveTo>
                  <a:pt x="21208" y="4142"/>
                </a:moveTo>
                <a:cubicBezTo>
                  <a:pt x="21331" y="4115"/>
                  <a:pt x="21442" y="4074"/>
                  <a:pt x="21580" y="4093"/>
                </a:cubicBezTo>
                <a:cubicBezTo>
                  <a:pt x="21720" y="4113"/>
                  <a:pt x="21839" y="4174"/>
                  <a:pt x="21952" y="4242"/>
                </a:cubicBezTo>
                <a:cubicBezTo>
                  <a:pt x="22046" y="4299"/>
                  <a:pt x="22139" y="4397"/>
                  <a:pt x="22126" y="4514"/>
                </a:cubicBezTo>
                <a:cubicBezTo>
                  <a:pt x="22105" y="4706"/>
                  <a:pt x="21968" y="4894"/>
                  <a:pt x="21878" y="5060"/>
                </a:cubicBezTo>
                <a:cubicBezTo>
                  <a:pt x="21821" y="5166"/>
                  <a:pt x="21759" y="5260"/>
                  <a:pt x="21754" y="5383"/>
                </a:cubicBezTo>
                <a:cubicBezTo>
                  <a:pt x="21750" y="5494"/>
                  <a:pt x="21804" y="5543"/>
                  <a:pt x="21853" y="5631"/>
                </a:cubicBezTo>
                <a:cubicBezTo>
                  <a:pt x="21897" y="5711"/>
                  <a:pt x="21985" y="5772"/>
                  <a:pt x="22027" y="5854"/>
                </a:cubicBezTo>
                <a:cubicBezTo>
                  <a:pt x="22118" y="6031"/>
                  <a:pt x="22039" y="6222"/>
                  <a:pt x="21952" y="6375"/>
                </a:cubicBezTo>
                <a:cubicBezTo>
                  <a:pt x="21872" y="6516"/>
                  <a:pt x="21766" y="6645"/>
                  <a:pt x="21704" y="6796"/>
                </a:cubicBezTo>
                <a:cubicBezTo>
                  <a:pt x="21649" y="6929"/>
                  <a:pt x="21646" y="6999"/>
                  <a:pt x="21704" y="7119"/>
                </a:cubicBezTo>
                <a:cubicBezTo>
                  <a:pt x="21757" y="7229"/>
                  <a:pt x="21861" y="7261"/>
                  <a:pt x="21927" y="7342"/>
                </a:cubicBezTo>
                <a:cubicBezTo>
                  <a:pt x="22058" y="7504"/>
                  <a:pt x="22135" y="7609"/>
                  <a:pt x="22101" y="7813"/>
                </a:cubicBezTo>
                <a:cubicBezTo>
                  <a:pt x="22067" y="8015"/>
                  <a:pt x="21965" y="8224"/>
                  <a:pt x="21878" y="8409"/>
                </a:cubicBezTo>
                <a:cubicBezTo>
                  <a:pt x="21757" y="8665"/>
                  <a:pt x="21548" y="8955"/>
                  <a:pt x="21555" y="9252"/>
                </a:cubicBezTo>
                <a:cubicBezTo>
                  <a:pt x="21559" y="9409"/>
                  <a:pt x="21600" y="9542"/>
                  <a:pt x="21679" y="9674"/>
                </a:cubicBezTo>
                <a:cubicBezTo>
                  <a:pt x="21827" y="9921"/>
                  <a:pt x="21894" y="10017"/>
                  <a:pt x="21853" y="10319"/>
                </a:cubicBezTo>
                <a:cubicBezTo>
                  <a:pt x="21812" y="10626"/>
                  <a:pt x="21670" y="10872"/>
                  <a:pt x="21580" y="11162"/>
                </a:cubicBezTo>
                <a:cubicBezTo>
                  <a:pt x="21504" y="11405"/>
                  <a:pt x="21439" y="11627"/>
                  <a:pt x="21431" y="11881"/>
                </a:cubicBezTo>
                <a:cubicBezTo>
                  <a:pt x="21427" y="12018"/>
                  <a:pt x="21441" y="12173"/>
                  <a:pt x="21481" y="12303"/>
                </a:cubicBezTo>
                <a:cubicBezTo>
                  <a:pt x="21519" y="12425"/>
                  <a:pt x="21592" y="12529"/>
                  <a:pt x="21630" y="12650"/>
                </a:cubicBezTo>
                <a:cubicBezTo>
                  <a:pt x="21710" y="12906"/>
                  <a:pt x="21790" y="13189"/>
                  <a:pt x="21927" y="13419"/>
                </a:cubicBezTo>
                <a:cubicBezTo>
                  <a:pt x="21935" y="13419"/>
                  <a:pt x="21944" y="13419"/>
                  <a:pt x="21952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Ink 9"/>
          <p:cNvSpPr/>
          <p:nvPr/>
        </p:nvSpPr>
        <p:spPr>
          <a:xfrm>
            <a:off x="7035840" y="3268800"/>
            <a:ext cx="795240" cy="1946160"/>
          </a:xfrm>
          <a:custGeom>
            <a:avLst/>
            <a:gdLst/>
            <a:ahLst/>
            <a:rect l="l" t="t" r="r" b="b"/>
            <a:pathLst>
              <a:path w="2209" h="5408">
                <a:moveTo>
                  <a:pt x="20265" y="9475"/>
                </a:moveTo>
                <a:cubicBezTo>
                  <a:pt x="20218" y="9524"/>
                  <a:pt x="20306" y="9440"/>
                  <a:pt x="20340" y="9426"/>
                </a:cubicBezTo>
                <a:cubicBezTo>
                  <a:pt x="20427" y="9390"/>
                  <a:pt x="20434" y="9376"/>
                  <a:pt x="20538" y="9376"/>
                </a:cubicBezTo>
                <a:cubicBezTo>
                  <a:pt x="20665" y="9376"/>
                  <a:pt x="20649" y="9383"/>
                  <a:pt x="20638" y="9500"/>
                </a:cubicBezTo>
                <a:cubicBezTo>
                  <a:pt x="20629" y="9596"/>
                  <a:pt x="20570" y="9574"/>
                  <a:pt x="20513" y="9649"/>
                </a:cubicBezTo>
                <a:cubicBezTo>
                  <a:pt x="20484" y="9687"/>
                  <a:pt x="20474" y="9714"/>
                  <a:pt x="20439" y="9748"/>
                </a:cubicBezTo>
                <a:cubicBezTo>
                  <a:pt x="20541" y="9714"/>
                  <a:pt x="20585" y="9733"/>
                  <a:pt x="20687" y="9748"/>
                </a:cubicBezTo>
                <a:cubicBezTo>
                  <a:pt x="20727" y="9754"/>
                  <a:pt x="20796" y="9770"/>
                  <a:pt x="20811" y="9823"/>
                </a:cubicBezTo>
                <a:cubicBezTo>
                  <a:pt x="20830" y="9890"/>
                  <a:pt x="20805" y="9928"/>
                  <a:pt x="20762" y="9971"/>
                </a:cubicBezTo>
                <a:cubicBezTo>
                  <a:pt x="20698" y="10035"/>
                  <a:pt x="20688" y="10093"/>
                  <a:pt x="20613" y="10145"/>
                </a:cubicBezTo>
                <a:cubicBezTo>
                  <a:pt x="20560" y="10182"/>
                  <a:pt x="20519" y="10213"/>
                  <a:pt x="20464" y="10244"/>
                </a:cubicBezTo>
              </a:path>
              <a:path w="2209" h="5408">
                <a:moveTo>
                  <a:pt x="20836" y="9575"/>
                </a:moveTo>
                <a:cubicBezTo>
                  <a:pt x="20842" y="9683"/>
                  <a:pt x="20861" y="9765"/>
                  <a:pt x="20861" y="9872"/>
                </a:cubicBezTo>
                <a:cubicBezTo>
                  <a:pt x="20861" y="9923"/>
                  <a:pt x="20882" y="10000"/>
                  <a:pt x="20910" y="10046"/>
                </a:cubicBezTo>
                <a:cubicBezTo>
                  <a:pt x="20918" y="10054"/>
                  <a:pt x="20927" y="10063"/>
                  <a:pt x="20935" y="10071"/>
                </a:cubicBezTo>
                <a:cubicBezTo>
                  <a:pt x="20904" y="9987"/>
                  <a:pt x="20890" y="9888"/>
                  <a:pt x="20886" y="9798"/>
                </a:cubicBezTo>
                <a:cubicBezTo>
                  <a:pt x="20883" y="9729"/>
                  <a:pt x="20861" y="9676"/>
                  <a:pt x="20861" y="9599"/>
                </a:cubicBezTo>
                <a:cubicBezTo>
                  <a:pt x="20861" y="9489"/>
                  <a:pt x="20856" y="9441"/>
                  <a:pt x="20910" y="9351"/>
                </a:cubicBezTo>
                <a:cubicBezTo>
                  <a:pt x="20945" y="9293"/>
                  <a:pt x="20974" y="9217"/>
                  <a:pt x="21034" y="9178"/>
                </a:cubicBezTo>
                <a:cubicBezTo>
                  <a:pt x="21087" y="9144"/>
                  <a:pt x="21217" y="9060"/>
                  <a:pt x="21282" y="9079"/>
                </a:cubicBezTo>
                <a:cubicBezTo>
                  <a:pt x="21307" y="9103"/>
                  <a:pt x="21316" y="9111"/>
                  <a:pt x="21332" y="9128"/>
                </a:cubicBezTo>
              </a:path>
              <a:path w="2209" h="5408">
                <a:moveTo>
                  <a:pt x="21109" y="9401"/>
                </a:moveTo>
                <a:cubicBezTo>
                  <a:pt x="21193" y="9370"/>
                  <a:pt x="21289" y="9323"/>
                  <a:pt x="21382" y="9351"/>
                </a:cubicBezTo>
                <a:cubicBezTo>
                  <a:pt x="21448" y="9371"/>
                  <a:pt x="21424" y="9486"/>
                  <a:pt x="21406" y="9525"/>
                </a:cubicBezTo>
                <a:cubicBezTo>
                  <a:pt x="21370" y="9605"/>
                  <a:pt x="21244" y="9615"/>
                  <a:pt x="21258" y="9723"/>
                </a:cubicBezTo>
                <a:cubicBezTo>
                  <a:pt x="21265" y="9774"/>
                  <a:pt x="21375" y="9733"/>
                  <a:pt x="21406" y="9798"/>
                </a:cubicBezTo>
                <a:cubicBezTo>
                  <a:pt x="21441" y="9873"/>
                  <a:pt x="21429" y="9950"/>
                  <a:pt x="21357" y="9996"/>
                </a:cubicBezTo>
                <a:cubicBezTo>
                  <a:pt x="21295" y="10035"/>
                  <a:pt x="21245" y="10082"/>
                  <a:pt x="21183" y="10120"/>
                </a:cubicBezTo>
              </a:path>
              <a:path w="2209" h="5408">
                <a:moveTo>
                  <a:pt x="20687" y="10344"/>
                </a:moveTo>
                <a:cubicBezTo>
                  <a:pt x="20752" y="10344"/>
                  <a:pt x="20810" y="10327"/>
                  <a:pt x="20861" y="10319"/>
                </a:cubicBezTo>
                <a:cubicBezTo>
                  <a:pt x="21025" y="10294"/>
                  <a:pt x="21193" y="10293"/>
                  <a:pt x="21357" y="10244"/>
                </a:cubicBezTo>
                <a:cubicBezTo>
                  <a:pt x="21431" y="10222"/>
                  <a:pt x="21501" y="10199"/>
                  <a:pt x="21580" y="10195"/>
                </a:cubicBezTo>
                <a:cubicBezTo>
                  <a:pt x="21638" y="10192"/>
                  <a:pt x="21696" y="10195"/>
                  <a:pt x="21754" y="10195"/>
                </a:cubicBezTo>
              </a:path>
              <a:path w="2209" h="5408">
                <a:moveTo>
                  <a:pt x="20811" y="10468"/>
                </a:moveTo>
                <a:cubicBezTo>
                  <a:pt x="20801" y="10544"/>
                  <a:pt x="20753" y="10593"/>
                  <a:pt x="20737" y="10666"/>
                </a:cubicBezTo>
                <a:cubicBezTo>
                  <a:pt x="20721" y="10738"/>
                  <a:pt x="20705" y="10816"/>
                  <a:pt x="20687" y="10889"/>
                </a:cubicBezTo>
                <a:cubicBezTo>
                  <a:pt x="20665" y="10976"/>
                  <a:pt x="20662" y="11047"/>
                  <a:pt x="20662" y="11137"/>
                </a:cubicBezTo>
                <a:cubicBezTo>
                  <a:pt x="20662" y="11205"/>
                  <a:pt x="20659" y="11300"/>
                  <a:pt x="20687" y="11361"/>
                </a:cubicBezTo>
                <a:cubicBezTo>
                  <a:pt x="20714" y="11419"/>
                  <a:pt x="20846" y="11384"/>
                  <a:pt x="20886" y="11361"/>
                </a:cubicBezTo>
                <a:cubicBezTo>
                  <a:pt x="20962" y="11318"/>
                  <a:pt x="21008" y="11228"/>
                  <a:pt x="21034" y="11162"/>
                </a:cubicBezTo>
                <a:cubicBezTo>
                  <a:pt x="21063" y="11087"/>
                  <a:pt x="21062" y="11088"/>
                  <a:pt x="21034" y="11013"/>
                </a:cubicBezTo>
                <a:cubicBezTo>
                  <a:pt x="20975" y="11043"/>
                  <a:pt x="20910" y="11070"/>
                  <a:pt x="20886" y="11137"/>
                </a:cubicBezTo>
                <a:cubicBezTo>
                  <a:pt x="20854" y="11226"/>
                  <a:pt x="20859" y="11278"/>
                  <a:pt x="20836" y="11361"/>
                </a:cubicBezTo>
                <a:cubicBezTo>
                  <a:pt x="20821" y="11416"/>
                  <a:pt x="20787" y="11498"/>
                  <a:pt x="20811" y="11559"/>
                </a:cubicBezTo>
                <a:cubicBezTo>
                  <a:pt x="20836" y="11584"/>
                  <a:pt x="20844" y="11592"/>
                  <a:pt x="20861" y="11609"/>
                </a:cubicBezTo>
              </a:path>
              <a:path w="2209" h="5408">
                <a:moveTo>
                  <a:pt x="20638" y="9203"/>
                </a:moveTo>
                <a:cubicBezTo>
                  <a:pt x="20654" y="9276"/>
                  <a:pt x="20654" y="9354"/>
                  <a:pt x="20613" y="9426"/>
                </a:cubicBezTo>
                <a:cubicBezTo>
                  <a:pt x="20565" y="9511"/>
                  <a:pt x="20496" y="9620"/>
                  <a:pt x="20439" y="9699"/>
                </a:cubicBezTo>
                <a:cubicBezTo>
                  <a:pt x="20369" y="9796"/>
                  <a:pt x="20289" y="9881"/>
                  <a:pt x="20241" y="9996"/>
                </a:cubicBezTo>
                <a:cubicBezTo>
                  <a:pt x="20213" y="10062"/>
                  <a:pt x="20163" y="10129"/>
                  <a:pt x="20141" y="10195"/>
                </a:cubicBezTo>
                <a:cubicBezTo>
                  <a:pt x="20141" y="10203"/>
                  <a:pt x="20141" y="10212"/>
                  <a:pt x="20141" y="10220"/>
                </a:cubicBezTo>
              </a:path>
              <a:path w="2209" h="5408">
                <a:moveTo>
                  <a:pt x="20960" y="10790"/>
                </a:moveTo>
                <a:cubicBezTo>
                  <a:pt x="20870" y="10922"/>
                  <a:pt x="20810" y="11036"/>
                  <a:pt x="20712" y="11162"/>
                </a:cubicBezTo>
                <a:cubicBezTo>
                  <a:pt x="20640" y="11254"/>
                  <a:pt x="20614" y="11367"/>
                  <a:pt x="20538" y="11460"/>
                </a:cubicBezTo>
                <a:cubicBezTo>
                  <a:pt x="20485" y="11525"/>
                  <a:pt x="20475" y="11574"/>
                  <a:pt x="20464" y="11658"/>
                </a:cubicBezTo>
              </a:path>
              <a:path w="2209" h="5408">
                <a:moveTo>
                  <a:pt x="21233" y="10864"/>
                </a:moveTo>
                <a:cubicBezTo>
                  <a:pt x="21266" y="10834"/>
                  <a:pt x="21395" y="10690"/>
                  <a:pt x="21456" y="10790"/>
                </a:cubicBezTo>
                <a:cubicBezTo>
                  <a:pt x="21485" y="10838"/>
                  <a:pt x="21427" y="11012"/>
                  <a:pt x="21406" y="11063"/>
                </a:cubicBezTo>
                <a:cubicBezTo>
                  <a:pt x="21374" y="11139"/>
                  <a:pt x="21301" y="11192"/>
                  <a:pt x="21258" y="11261"/>
                </a:cubicBezTo>
                <a:cubicBezTo>
                  <a:pt x="21238" y="11293"/>
                  <a:pt x="21196" y="11399"/>
                  <a:pt x="21208" y="11435"/>
                </a:cubicBezTo>
                <a:cubicBezTo>
                  <a:pt x="21216" y="11443"/>
                  <a:pt x="21225" y="11452"/>
                  <a:pt x="21233" y="11460"/>
                </a:cubicBezTo>
                <a:cubicBezTo>
                  <a:pt x="21287" y="11452"/>
                  <a:pt x="21351" y="11450"/>
                  <a:pt x="21406" y="11435"/>
                </a:cubicBezTo>
                <a:cubicBezTo>
                  <a:pt x="21475" y="11416"/>
                  <a:pt x="21470" y="11398"/>
                  <a:pt x="21530" y="11435"/>
                </a:cubicBezTo>
                <a:cubicBezTo>
                  <a:pt x="21521" y="11444"/>
                  <a:pt x="21440" y="11526"/>
                  <a:pt x="21506" y="11460"/>
                </a:cubicBezTo>
              </a:path>
              <a:path w="2209" h="5408">
                <a:moveTo>
                  <a:pt x="19645" y="12675"/>
                </a:moveTo>
                <a:cubicBezTo>
                  <a:pt x="19621" y="12650"/>
                  <a:pt x="19613" y="12642"/>
                  <a:pt x="19596" y="12626"/>
                </a:cubicBezTo>
                <a:cubicBezTo>
                  <a:pt x="19596" y="12716"/>
                  <a:pt x="19607" y="12790"/>
                  <a:pt x="19621" y="12874"/>
                </a:cubicBezTo>
                <a:cubicBezTo>
                  <a:pt x="19633" y="12943"/>
                  <a:pt x="19642" y="13004"/>
                  <a:pt x="19645" y="13072"/>
                </a:cubicBezTo>
                <a:cubicBezTo>
                  <a:pt x="19648" y="13136"/>
                  <a:pt x="19670" y="13174"/>
                  <a:pt x="19670" y="13246"/>
                </a:cubicBezTo>
                <a:cubicBezTo>
                  <a:pt x="19670" y="13271"/>
                  <a:pt x="19670" y="13295"/>
                  <a:pt x="19670" y="13320"/>
                </a:cubicBezTo>
                <a:cubicBezTo>
                  <a:pt x="19670" y="13458"/>
                  <a:pt x="19670" y="13200"/>
                  <a:pt x="19670" y="13171"/>
                </a:cubicBezTo>
                <a:cubicBezTo>
                  <a:pt x="19670" y="13073"/>
                  <a:pt x="19692" y="12992"/>
                  <a:pt x="19695" y="12898"/>
                </a:cubicBezTo>
                <a:cubicBezTo>
                  <a:pt x="19698" y="12796"/>
                  <a:pt x="19702" y="12677"/>
                  <a:pt x="19720" y="12576"/>
                </a:cubicBezTo>
                <a:cubicBezTo>
                  <a:pt x="19742" y="12455"/>
                  <a:pt x="19811" y="12359"/>
                  <a:pt x="19869" y="12254"/>
                </a:cubicBezTo>
                <a:cubicBezTo>
                  <a:pt x="19909" y="12181"/>
                  <a:pt x="19956" y="12162"/>
                  <a:pt x="20017" y="12105"/>
                </a:cubicBezTo>
                <a:cubicBezTo>
                  <a:pt x="20087" y="12039"/>
                  <a:pt x="20168" y="11998"/>
                  <a:pt x="20265" y="11981"/>
                </a:cubicBezTo>
                <a:cubicBezTo>
                  <a:pt x="20349" y="11966"/>
                  <a:pt x="20426" y="11956"/>
                  <a:pt x="20513" y="11956"/>
                </a:cubicBezTo>
                <a:cubicBezTo>
                  <a:pt x="20571" y="11956"/>
                  <a:pt x="20629" y="11956"/>
                  <a:pt x="20687" y="11956"/>
                </a:cubicBezTo>
              </a:path>
              <a:path w="2209" h="5408">
                <a:moveTo>
                  <a:pt x="20017" y="12452"/>
                </a:moveTo>
                <a:cubicBezTo>
                  <a:pt x="20085" y="12384"/>
                  <a:pt x="20129" y="12343"/>
                  <a:pt x="20216" y="12303"/>
                </a:cubicBezTo>
                <a:cubicBezTo>
                  <a:pt x="20273" y="12277"/>
                  <a:pt x="20318" y="12228"/>
                  <a:pt x="20389" y="12254"/>
                </a:cubicBezTo>
                <a:cubicBezTo>
                  <a:pt x="20453" y="12278"/>
                  <a:pt x="20464" y="12358"/>
                  <a:pt x="20439" y="12402"/>
                </a:cubicBezTo>
                <a:cubicBezTo>
                  <a:pt x="20395" y="12478"/>
                  <a:pt x="20329" y="12592"/>
                  <a:pt x="20265" y="12650"/>
                </a:cubicBezTo>
                <a:cubicBezTo>
                  <a:pt x="20216" y="12694"/>
                  <a:pt x="20164" y="12727"/>
                  <a:pt x="20117" y="12774"/>
                </a:cubicBezTo>
                <a:cubicBezTo>
                  <a:pt x="20164" y="12767"/>
                  <a:pt x="20246" y="12720"/>
                  <a:pt x="20290" y="12725"/>
                </a:cubicBezTo>
                <a:cubicBezTo>
                  <a:pt x="20345" y="12731"/>
                  <a:pt x="20401" y="12796"/>
                  <a:pt x="20389" y="12849"/>
                </a:cubicBezTo>
                <a:cubicBezTo>
                  <a:pt x="20374" y="12913"/>
                  <a:pt x="20324" y="13044"/>
                  <a:pt x="20290" y="13097"/>
                </a:cubicBezTo>
                <a:cubicBezTo>
                  <a:pt x="20250" y="13160"/>
                  <a:pt x="20126" y="13328"/>
                  <a:pt x="20067" y="13370"/>
                </a:cubicBezTo>
                <a:cubicBezTo>
                  <a:pt x="20017" y="13395"/>
                  <a:pt x="19968" y="13419"/>
                  <a:pt x="19918" y="13444"/>
                </a:cubicBezTo>
              </a:path>
              <a:path w="2209" h="5408">
                <a:moveTo>
                  <a:pt x="19546" y="13667"/>
                </a:moveTo>
                <a:cubicBezTo>
                  <a:pt x="19633" y="13610"/>
                  <a:pt x="19696" y="13564"/>
                  <a:pt x="19794" y="13543"/>
                </a:cubicBezTo>
                <a:cubicBezTo>
                  <a:pt x="19928" y="13515"/>
                  <a:pt x="20039" y="13441"/>
                  <a:pt x="20166" y="13395"/>
                </a:cubicBezTo>
                <a:cubicBezTo>
                  <a:pt x="20253" y="13363"/>
                  <a:pt x="20348" y="13333"/>
                  <a:pt x="20439" y="13320"/>
                </a:cubicBezTo>
                <a:cubicBezTo>
                  <a:pt x="20508" y="13310"/>
                  <a:pt x="20560" y="13295"/>
                  <a:pt x="20638" y="13295"/>
                </a:cubicBezTo>
              </a:path>
              <a:path w="2209" h="5408">
                <a:moveTo>
                  <a:pt x="19968" y="13742"/>
                </a:moveTo>
                <a:cubicBezTo>
                  <a:pt x="20038" y="13733"/>
                  <a:pt x="20099" y="13703"/>
                  <a:pt x="20166" y="13692"/>
                </a:cubicBezTo>
                <a:cubicBezTo>
                  <a:pt x="20223" y="13682"/>
                  <a:pt x="20298" y="13735"/>
                  <a:pt x="20315" y="13791"/>
                </a:cubicBezTo>
                <a:cubicBezTo>
                  <a:pt x="20342" y="13882"/>
                  <a:pt x="20309" y="14009"/>
                  <a:pt x="20265" y="14089"/>
                </a:cubicBezTo>
                <a:cubicBezTo>
                  <a:pt x="20209" y="14189"/>
                  <a:pt x="20162" y="14283"/>
                  <a:pt x="20117" y="14387"/>
                </a:cubicBezTo>
                <a:cubicBezTo>
                  <a:pt x="20093" y="14435"/>
                  <a:pt x="20084" y="14449"/>
                  <a:pt x="20092" y="14486"/>
                </a:cubicBezTo>
                <a:cubicBezTo>
                  <a:pt x="20154" y="14477"/>
                  <a:pt x="20204" y="14463"/>
                  <a:pt x="20265" y="14436"/>
                </a:cubicBezTo>
                <a:cubicBezTo>
                  <a:pt x="20317" y="14413"/>
                  <a:pt x="20406" y="14431"/>
                  <a:pt x="20439" y="14387"/>
                </a:cubicBezTo>
                <a:cubicBezTo>
                  <a:pt x="20447" y="14370"/>
                  <a:pt x="20456" y="14354"/>
                  <a:pt x="20464" y="143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5295960" y="1697040"/>
            <a:ext cx="1490760" cy="741240"/>
          </a:xfrm>
          <a:custGeom>
            <a:avLst/>
            <a:gdLst/>
            <a:ahLst/>
            <a:rect l="l" t="t" r="r" b="b"/>
            <a:pathLst>
              <a:path w="4144" h="2060">
                <a:moveTo>
                  <a:pt x="14858" y="4936"/>
                </a:moveTo>
                <a:cubicBezTo>
                  <a:pt x="14858" y="5013"/>
                  <a:pt x="14854" y="5064"/>
                  <a:pt x="14833" y="5135"/>
                </a:cubicBezTo>
                <a:cubicBezTo>
                  <a:pt x="14803" y="5239"/>
                  <a:pt x="14791" y="5357"/>
                  <a:pt x="14759" y="5457"/>
                </a:cubicBezTo>
                <a:cubicBezTo>
                  <a:pt x="14739" y="5519"/>
                  <a:pt x="14716" y="5565"/>
                  <a:pt x="14709" y="5631"/>
                </a:cubicBezTo>
                <a:cubicBezTo>
                  <a:pt x="14931" y="5631"/>
                  <a:pt x="15173" y="5645"/>
                  <a:pt x="15379" y="5606"/>
                </a:cubicBezTo>
                <a:cubicBezTo>
                  <a:pt x="15442" y="5606"/>
                  <a:pt x="15466" y="5595"/>
                  <a:pt x="15478" y="5531"/>
                </a:cubicBezTo>
              </a:path>
              <a:path w="4144" h="2060">
                <a:moveTo>
                  <a:pt x="15354" y="4911"/>
                </a:moveTo>
                <a:cubicBezTo>
                  <a:pt x="15382" y="5024"/>
                  <a:pt x="15400" y="5116"/>
                  <a:pt x="15404" y="5234"/>
                </a:cubicBezTo>
                <a:cubicBezTo>
                  <a:pt x="15408" y="5369"/>
                  <a:pt x="15425" y="5497"/>
                  <a:pt x="15429" y="5631"/>
                </a:cubicBezTo>
                <a:cubicBezTo>
                  <a:pt x="15433" y="5773"/>
                  <a:pt x="15453" y="5909"/>
                  <a:pt x="15453" y="6052"/>
                </a:cubicBezTo>
                <a:cubicBezTo>
                  <a:pt x="15453" y="6171"/>
                  <a:pt x="15478" y="6279"/>
                  <a:pt x="15478" y="6400"/>
                </a:cubicBezTo>
                <a:cubicBezTo>
                  <a:pt x="15478" y="6449"/>
                  <a:pt x="15478" y="6465"/>
                  <a:pt x="15478" y="6400"/>
                </a:cubicBezTo>
              </a:path>
              <a:path w="4144" h="2060">
                <a:moveTo>
                  <a:pt x="15726" y="5110"/>
                </a:moveTo>
                <a:cubicBezTo>
                  <a:pt x="15848" y="5110"/>
                  <a:pt x="15959" y="5103"/>
                  <a:pt x="16073" y="5085"/>
                </a:cubicBezTo>
                <a:cubicBezTo>
                  <a:pt x="16150" y="5073"/>
                  <a:pt x="16223" y="5079"/>
                  <a:pt x="16297" y="5060"/>
                </a:cubicBezTo>
                <a:cubicBezTo>
                  <a:pt x="16367" y="5042"/>
                  <a:pt x="16382" y="5042"/>
                  <a:pt x="16396" y="4986"/>
                </a:cubicBezTo>
              </a:path>
              <a:path w="4144" h="2060">
                <a:moveTo>
                  <a:pt x="15825" y="5110"/>
                </a:moveTo>
                <a:cubicBezTo>
                  <a:pt x="15799" y="5217"/>
                  <a:pt x="15744" y="5298"/>
                  <a:pt x="15726" y="5407"/>
                </a:cubicBezTo>
                <a:cubicBezTo>
                  <a:pt x="15713" y="5482"/>
                  <a:pt x="15686" y="5629"/>
                  <a:pt x="15701" y="5705"/>
                </a:cubicBezTo>
                <a:cubicBezTo>
                  <a:pt x="15709" y="5722"/>
                  <a:pt x="15718" y="5738"/>
                  <a:pt x="15726" y="5755"/>
                </a:cubicBezTo>
                <a:cubicBezTo>
                  <a:pt x="15777" y="5704"/>
                  <a:pt x="15851" y="5599"/>
                  <a:pt x="15925" y="5581"/>
                </a:cubicBezTo>
                <a:cubicBezTo>
                  <a:pt x="16005" y="5562"/>
                  <a:pt x="16045" y="5554"/>
                  <a:pt x="16123" y="5581"/>
                </a:cubicBezTo>
                <a:cubicBezTo>
                  <a:pt x="16199" y="5608"/>
                  <a:pt x="16275" y="5643"/>
                  <a:pt x="16321" y="5705"/>
                </a:cubicBezTo>
                <a:cubicBezTo>
                  <a:pt x="16382" y="5787"/>
                  <a:pt x="16450" y="5894"/>
                  <a:pt x="16421" y="6003"/>
                </a:cubicBezTo>
                <a:cubicBezTo>
                  <a:pt x="16399" y="6085"/>
                  <a:pt x="16356" y="6142"/>
                  <a:pt x="16297" y="6201"/>
                </a:cubicBezTo>
                <a:cubicBezTo>
                  <a:pt x="16248" y="6250"/>
                  <a:pt x="16220" y="6273"/>
                  <a:pt x="16148" y="6276"/>
                </a:cubicBezTo>
                <a:cubicBezTo>
                  <a:pt x="16084" y="6278"/>
                  <a:pt x="15964" y="6272"/>
                  <a:pt x="15925" y="6201"/>
                </a:cubicBezTo>
                <a:cubicBezTo>
                  <a:pt x="15925" y="6193"/>
                  <a:pt x="15925" y="6184"/>
                  <a:pt x="15925" y="6176"/>
                </a:cubicBezTo>
              </a:path>
              <a:path w="4144" h="2060">
                <a:moveTo>
                  <a:pt x="16644" y="4812"/>
                </a:moveTo>
                <a:cubicBezTo>
                  <a:pt x="16615" y="4889"/>
                  <a:pt x="16607" y="4939"/>
                  <a:pt x="16644" y="5011"/>
                </a:cubicBezTo>
                <a:cubicBezTo>
                  <a:pt x="16672" y="5065"/>
                  <a:pt x="16753" y="5085"/>
                  <a:pt x="16818" y="5060"/>
                </a:cubicBezTo>
                <a:cubicBezTo>
                  <a:pt x="16836" y="5053"/>
                  <a:pt x="16941" y="4938"/>
                  <a:pt x="16942" y="4936"/>
                </a:cubicBezTo>
                <a:cubicBezTo>
                  <a:pt x="16976" y="4840"/>
                  <a:pt x="16927" y="4788"/>
                  <a:pt x="16867" y="4738"/>
                </a:cubicBezTo>
                <a:cubicBezTo>
                  <a:pt x="16819" y="4698"/>
                  <a:pt x="16757" y="4713"/>
                  <a:pt x="16694" y="4713"/>
                </a:cubicBezTo>
                <a:cubicBezTo>
                  <a:pt x="16644" y="4713"/>
                  <a:pt x="16627" y="4713"/>
                  <a:pt x="16594" y="4713"/>
                </a:cubicBezTo>
              </a:path>
              <a:path w="4144" h="2060">
                <a:moveTo>
                  <a:pt x="17512" y="5259"/>
                </a:moveTo>
                <a:cubicBezTo>
                  <a:pt x="17489" y="5281"/>
                  <a:pt x="17484" y="5289"/>
                  <a:pt x="17462" y="5283"/>
                </a:cubicBezTo>
              </a:path>
              <a:path w="4144" h="2060">
                <a:moveTo>
                  <a:pt x="17587" y="5655"/>
                </a:moveTo>
                <a:cubicBezTo>
                  <a:pt x="17607" y="5730"/>
                  <a:pt x="17633" y="5803"/>
                  <a:pt x="17636" y="5879"/>
                </a:cubicBezTo>
                <a:cubicBezTo>
                  <a:pt x="17641" y="5992"/>
                  <a:pt x="17651" y="6064"/>
                  <a:pt x="17636" y="6176"/>
                </a:cubicBezTo>
                <a:cubicBezTo>
                  <a:pt x="17621" y="6289"/>
                  <a:pt x="17619" y="6413"/>
                  <a:pt x="17587" y="6524"/>
                </a:cubicBezTo>
                <a:cubicBezTo>
                  <a:pt x="17570" y="6582"/>
                  <a:pt x="17527" y="6653"/>
                  <a:pt x="17487" y="6697"/>
                </a:cubicBezTo>
                <a:cubicBezTo>
                  <a:pt x="17462" y="6722"/>
                  <a:pt x="17454" y="6730"/>
                  <a:pt x="17438" y="6747"/>
                </a:cubicBezTo>
              </a:path>
              <a:path w="4144" h="2060">
                <a:moveTo>
                  <a:pt x="17934" y="4961"/>
                </a:moveTo>
                <a:cubicBezTo>
                  <a:pt x="18061" y="4943"/>
                  <a:pt x="18208" y="4940"/>
                  <a:pt x="18331" y="4911"/>
                </a:cubicBezTo>
                <a:cubicBezTo>
                  <a:pt x="18425" y="4889"/>
                  <a:pt x="18531" y="4867"/>
                  <a:pt x="18628" y="4862"/>
                </a:cubicBezTo>
                <a:cubicBezTo>
                  <a:pt x="18645" y="4862"/>
                  <a:pt x="18661" y="4862"/>
                  <a:pt x="18678" y="4862"/>
                </a:cubicBezTo>
              </a:path>
              <a:path w="4144" h="2060">
                <a:moveTo>
                  <a:pt x="18083" y="5060"/>
                </a:moveTo>
                <a:cubicBezTo>
                  <a:pt x="18101" y="5151"/>
                  <a:pt x="18128" y="5243"/>
                  <a:pt x="18132" y="5333"/>
                </a:cubicBezTo>
                <a:cubicBezTo>
                  <a:pt x="18136" y="5417"/>
                  <a:pt x="18143" y="5664"/>
                  <a:pt x="18157" y="5581"/>
                </a:cubicBezTo>
                <a:cubicBezTo>
                  <a:pt x="18157" y="5556"/>
                  <a:pt x="18157" y="5532"/>
                  <a:pt x="18157" y="5507"/>
                </a:cubicBezTo>
              </a:path>
              <a:path w="4144" h="2060">
                <a:moveTo>
                  <a:pt x="18331" y="4961"/>
                </a:moveTo>
                <a:cubicBezTo>
                  <a:pt x="18346" y="5099"/>
                  <a:pt x="18355" y="5221"/>
                  <a:pt x="18355" y="5358"/>
                </a:cubicBezTo>
                <a:cubicBezTo>
                  <a:pt x="18355" y="5450"/>
                  <a:pt x="18387" y="5469"/>
                  <a:pt x="18405" y="5556"/>
                </a:cubicBezTo>
                <a:cubicBezTo>
                  <a:pt x="18405" y="5573"/>
                  <a:pt x="18405" y="5589"/>
                  <a:pt x="18405" y="5606"/>
                </a:cubicBezTo>
              </a:path>
              <a:path w="4144" h="2060">
                <a:moveTo>
                  <a:pt x="17959" y="5730"/>
                </a:moveTo>
                <a:cubicBezTo>
                  <a:pt x="18035" y="5747"/>
                  <a:pt x="18098" y="5730"/>
                  <a:pt x="18182" y="5730"/>
                </a:cubicBezTo>
                <a:cubicBezTo>
                  <a:pt x="18351" y="5730"/>
                  <a:pt x="18490" y="5705"/>
                  <a:pt x="18653" y="5705"/>
                </a:cubicBezTo>
                <a:cubicBezTo>
                  <a:pt x="18702" y="5705"/>
                  <a:pt x="18866" y="5719"/>
                  <a:pt x="18827" y="5680"/>
                </a:cubicBezTo>
              </a:path>
              <a:path w="4144" h="2060">
                <a:moveTo>
                  <a:pt x="18331" y="5978"/>
                </a:moveTo>
                <a:cubicBezTo>
                  <a:pt x="18314" y="6056"/>
                  <a:pt x="18240" y="6183"/>
                  <a:pt x="18231" y="6251"/>
                </a:cubicBezTo>
                <a:cubicBezTo>
                  <a:pt x="18239" y="6259"/>
                  <a:pt x="18248" y="6268"/>
                  <a:pt x="18256" y="6276"/>
                </a:cubicBezTo>
                <a:cubicBezTo>
                  <a:pt x="18306" y="6300"/>
                  <a:pt x="18324" y="6269"/>
                  <a:pt x="18380" y="6251"/>
                </a:cubicBezTo>
                <a:cubicBezTo>
                  <a:pt x="18474" y="6221"/>
                  <a:pt x="18563" y="6194"/>
                  <a:pt x="18653" y="6152"/>
                </a:cubicBezTo>
                <a:cubicBezTo>
                  <a:pt x="18670" y="6144"/>
                  <a:pt x="18686" y="6135"/>
                  <a:pt x="18703" y="6127"/>
                </a:cubicBezTo>
              </a:path>
              <a:path w="4144" h="2060">
                <a:moveTo>
                  <a:pt x="18554" y="5928"/>
                </a:moveTo>
                <a:cubicBezTo>
                  <a:pt x="18624" y="6090"/>
                  <a:pt x="18701" y="6248"/>
                  <a:pt x="18728" y="6424"/>
                </a:cubicBezTo>
                <a:cubicBezTo>
                  <a:pt x="18739" y="6493"/>
                  <a:pt x="18781" y="6605"/>
                  <a:pt x="18777" y="6672"/>
                </a:cubicBezTo>
                <a:cubicBezTo>
                  <a:pt x="18769" y="6705"/>
                  <a:pt x="18760" y="6739"/>
                  <a:pt x="18752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5160960" y="2616120"/>
            <a:ext cx="1366920" cy="642960"/>
          </a:xfrm>
          <a:custGeom>
            <a:avLst/>
            <a:gdLst/>
            <a:ahLst/>
            <a:rect l="l" t="t" r="r" b="b"/>
            <a:pathLst>
              <a:path w="3796" h="1787">
                <a:moveTo>
                  <a:pt x="14412" y="7516"/>
                </a:moveTo>
                <a:cubicBezTo>
                  <a:pt x="14378" y="7605"/>
                  <a:pt x="14404" y="7669"/>
                  <a:pt x="14387" y="7764"/>
                </a:cubicBezTo>
                <a:cubicBezTo>
                  <a:pt x="14374" y="7839"/>
                  <a:pt x="14306" y="7931"/>
                  <a:pt x="14337" y="8012"/>
                </a:cubicBezTo>
                <a:cubicBezTo>
                  <a:pt x="14345" y="8020"/>
                  <a:pt x="14354" y="8029"/>
                  <a:pt x="14362" y="8037"/>
                </a:cubicBezTo>
                <a:cubicBezTo>
                  <a:pt x="14454" y="8006"/>
                  <a:pt x="14536" y="8012"/>
                  <a:pt x="14635" y="8012"/>
                </a:cubicBezTo>
                <a:cubicBezTo>
                  <a:pt x="14721" y="8012"/>
                  <a:pt x="14768" y="8016"/>
                  <a:pt x="14858" y="8012"/>
                </a:cubicBezTo>
                <a:cubicBezTo>
                  <a:pt x="14942" y="8008"/>
                  <a:pt x="14960" y="7974"/>
                  <a:pt x="15007" y="7913"/>
                </a:cubicBezTo>
              </a:path>
              <a:path w="3796" h="1787">
                <a:moveTo>
                  <a:pt x="14784" y="7888"/>
                </a:moveTo>
                <a:cubicBezTo>
                  <a:pt x="14791" y="7993"/>
                  <a:pt x="14839" y="8311"/>
                  <a:pt x="14808" y="8458"/>
                </a:cubicBezTo>
                <a:cubicBezTo>
                  <a:pt x="14795" y="8520"/>
                  <a:pt x="14756" y="8572"/>
                  <a:pt x="14808" y="8607"/>
                </a:cubicBezTo>
              </a:path>
              <a:path w="3796" h="1787">
                <a:moveTo>
                  <a:pt x="15106" y="7590"/>
                </a:moveTo>
                <a:cubicBezTo>
                  <a:pt x="15183" y="7600"/>
                  <a:pt x="15214" y="7603"/>
                  <a:pt x="15280" y="7590"/>
                </a:cubicBezTo>
                <a:cubicBezTo>
                  <a:pt x="15361" y="7574"/>
                  <a:pt x="15422" y="7571"/>
                  <a:pt x="15503" y="7541"/>
                </a:cubicBezTo>
                <a:cubicBezTo>
                  <a:pt x="15528" y="7533"/>
                  <a:pt x="15552" y="7524"/>
                  <a:pt x="15577" y="7516"/>
                </a:cubicBezTo>
              </a:path>
              <a:path w="3796" h="1787">
                <a:moveTo>
                  <a:pt x="15056" y="7640"/>
                </a:moveTo>
                <a:cubicBezTo>
                  <a:pt x="15001" y="7752"/>
                  <a:pt x="14982" y="7792"/>
                  <a:pt x="14982" y="7913"/>
                </a:cubicBezTo>
                <a:cubicBezTo>
                  <a:pt x="14982" y="7987"/>
                  <a:pt x="14966" y="8070"/>
                  <a:pt x="15007" y="8136"/>
                </a:cubicBezTo>
                <a:cubicBezTo>
                  <a:pt x="15015" y="8144"/>
                  <a:pt x="15024" y="8153"/>
                  <a:pt x="15032" y="8161"/>
                </a:cubicBezTo>
                <a:cubicBezTo>
                  <a:pt x="15111" y="8115"/>
                  <a:pt x="15082" y="8098"/>
                  <a:pt x="15131" y="8037"/>
                </a:cubicBezTo>
                <a:cubicBezTo>
                  <a:pt x="15176" y="7981"/>
                  <a:pt x="15262" y="7942"/>
                  <a:pt x="15329" y="7938"/>
                </a:cubicBezTo>
                <a:cubicBezTo>
                  <a:pt x="15405" y="7934"/>
                  <a:pt x="15472" y="7968"/>
                  <a:pt x="15503" y="8037"/>
                </a:cubicBezTo>
                <a:cubicBezTo>
                  <a:pt x="15539" y="8117"/>
                  <a:pt x="15528" y="8200"/>
                  <a:pt x="15528" y="8285"/>
                </a:cubicBezTo>
                <a:cubicBezTo>
                  <a:pt x="15528" y="8341"/>
                  <a:pt x="15496" y="8442"/>
                  <a:pt x="15453" y="8483"/>
                </a:cubicBezTo>
                <a:cubicBezTo>
                  <a:pt x="15396" y="8538"/>
                  <a:pt x="15307" y="8603"/>
                  <a:pt x="15230" y="8607"/>
                </a:cubicBezTo>
                <a:cubicBezTo>
                  <a:pt x="15150" y="8611"/>
                  <a:pt x="15122" y="8647"/>
                  <a:pt x="15056" y="8607"/>
                </a:cubicBezTo>
              </a:path>
              <a:path w="3796" h="1787">
                <a:moveTo>
                  <a:pt x="15875" y="7317"/>
                </a:moveTo>
                <a:cubicBezTo>
                  <a:pt x="15861" y="7357"/>
                  <a:pt x="15773" y="7524"/>
                  <a:pt x="15801" y="7565"/>
                </a:cubicBezTo>
                <a:cubicBezTo>
                  <a:pt x="15817" y="7573"/>
                  <a:pt x="15834" y="7582"/>
                  <a:pt x="15850" y="7590"/>
                </a:cubicBezTo>
                <a:cubicBezTo>
                  <a:pt x="15872" y="7562"/>
                  <a:pt x="15940" y="7499"/>
                  <a:pt x="15949" y="7466"/>
                </a:cubicBezTo>
                <a:cubicBezTo>
                  <a:pt x="15958" y="7435"/>
                  <a:pt x="15963" y="7289"/>
                  <a:pt x="15900" y="7293"/>
                </a:cubicBezTo>
                <a:cubicBezTo>
                  <a:pt x="15832" y="7297"/>
                  <a:pt x="15761" y="7347"/>
                  <a:pt x="15701" y="7367"/>
                </a:cubicBezTo>
              </a:path>
              <a:path w="3796" h="1787">
                <a:moveTo>
                  <a:pt x="16470" y="7342"/>
                </a:moveTo>
                <a:cubicBezTo>
                  <a:pt x="16429" y="7342"/>
                  <a:pt x="16413" y="7334"/>
                  <a:pt x="16421" y="7367"/>
                </a:cubicBezTo>
              </a:path>
              <a:path w="3796" h="1787">
                <a:moveTo>
                  <a:pt x="16470" y="7764"/>
                </a:moveTo>
                <a:cubicBezTo>
                  <a:pt x="16497" y="7909"/>
                  <a:pt x="16541" y="8061"/>
                  <a:pt x="16520" y="8210"/>
                </a:cubicBezTo>
                <a:cubicBezTo>
                  <a:pt x="16494" y="8395"/>
                  <a:pt x="16469" y="8572"/>
                  <a:pt x="16421" y="8756"/>
                </a:cubicBezTo>
                <a:cubicBezTo>
                  <a:pt x="16397" y="8849"/>
                  <a:pt x="16336" y="8934"/>
                  <a:pt x="16272" y="9004"/>
                </a:cubicBezTo>
                <a:cubicBezTo>
                  <a:pt x="16232" y="9048"/>
                  <a:pt x="16242" y="9051"/>
                  <a:pt x="16197" y="9029"/>
                </a:cubicBezTo>
              </a:path>
              <a:path w="3796" h="1787">
                <a:moveTo>
                  <a:pt x="16842" y="7417"/>
                </a:moveTo>
                <a:cubicBezTo>
                  <a:pt x="16925" y="7371"/>
                  <a:pt x="17016" y="7331"/>
                  <a:pt x="17115" y="7317"/>
                </a:cubicBezTo>
                <a:cubicBezTo>
                  <a:pt x="17192" y="7306"/>
                  <a:pt x="17259" y="7293"/>
                  <a:pt x="17338" y="7293"/>
                </a:cubicBezTo>
                <a:cubicBezTo>
                  <a:pt x="17383" y="7293"/>
                  <a:pt x="17396" y="7296"/>
                  <a:pt x="17413" y="7268"/>
                </a:cubicBezTo>
              </a:path>
              <a:path w="3796" h="1787">
                <a:moveTo>
                  <a:pt x="17041" y="7466"/>
                </a:moveTo>
                <a:cubicBezTo>
                  <a:pt x="17057" y="7559"/>
                  <a:pt x="17076" y="7722"/>
                  <a:pt x="17115" y="7813"/>
                </a:cubicBezTo>
                <a:cubicBezTo>
                  <a:pt x="17146" y="7885"/>
                  <a:pt x="17161" y="7849"/>
                  <a:pt x="17190" y="7813"/>
                </a:cubicBezTo>
              </a:path>
              <a:path w="3796" h="1787">
                <a:moveTo>
                  <a:pt x="17239" y="7392"/>
                </a:moveTo>
                <a:cubicBezTo>
                  <a:pt x="17239" y="7418"/>
                  <a:pt x="17206" y="7749"/>
                  <a:pt x="17264" y="7813"/>
                </a:cubicBezTo>
                <a:cubicBezTo>
                  <a:pt x="17272" y="7813"/>
                  <a:pt x="17281" y="7813"/>
                  <a:pt x="17289" y="7813"/>
                </a:cubicBezTo>
              </a:path>
              <a:path w="3796" h="1787">
                <a:moveTo>
                  <a:pt x="17835" y="7293"/>
                </a:moveTo>
                <a:cubicBezTo>
                  <a:pt x="17775" y="7498"/>
                  <a:pt x="17670" y="7686"/>
                  <a:pt x="17611" y="7888"/>
                </a:cubicBezTo>
                <a:cubicBezTo>
                  <a:pt x="17567" y="8040"/>
                  <a:pt x="17511" y="8185"/>
                  <a:pt x="17462" y="8334"/>
                </a:cubicBezTo>
                <a:cubicBezTo>
                  <a:pt x="17430" y="8430"/>
                  <a:pt x="17417" y="8539"/>
                  <a:pt x="17388" y="8632"/>
                </a:cubicBezTo>
                <a:cubicBezTo>
                  <a:pt x="17380" y="8649"/>
                  <a:pt x="17371" y="8665"/>
                  <a:pt x="17363" y="8682"/>
                </a:cubicBezTo>
              </a:path>
              <a:path w="3796" h="1787">
                <a:moveTo>
                  <a:pt x="17760" y="8111"/>
                </a:moveTo>
                <a:cubicBezTo>
                  <a:pt x="17801" y="8240"/>
                  <a:pt x="17801" y="8377"/>
                  <a:pt x="17959" y="8285"/>
                </a:cubicBezTo>
                <a:cubicBezTo>
                  <a:pt x="17967" y="8277"/>
                  <a:pt x="17975" y="8268"/>
                  <a:pt x="17983" y="8260"/>
                </a:cubicBezTo>
              </a:path>
              <a:path w="3796" h="1787">
                <a:moveTo>
                  <a:pt x="18033" y="7888"/>
                </a:moveTo>
                <a:cubicBezTo>
                  <a:pt x="18049" y="8074"/>
                  <a:pt x="18101" y="8293"/>
                  <a:pt x="18107" y="8483"/>
                </a:cubicBezTo>
                <a:cubicBezTo>
                  <a:pt x="18111" y="8597"/>
                  <a:pt x="18120" y="8646"/>
                  <a:pt x="18107" y="8756"/>
                </a:cubicBezTo>
                <a:cubicBezTo>
                  <a:pt x="18107" y="8832"/>
                  <a:pt x="18107" y="8858"/>
                  <a:pt x="18083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5411880" y="3286080"/>
            <a:ext cx="1857240" cy="1036800"/>
          </a:xfrm>
          <a:custGeom>
            <a:avLst/>
            <a:gdLst/>
            <a:ahLst/>
            <a:rect l="l" t="t" r="r" b="b"/>
            <a:pathLst>
              <a:path w="5160" h="2878">
                <a:moveTo>
                  <a:pt x="15652" y="9798"/>
                </a:moveTo>
                <a:lnTo>
                  <a:pt x="15652" y="9798"/>
                </a:lnTo>
              </a:path>
              <a:path w="5160" h="2878">
                <a:moveTo>
                  <a:pt x="15652" y="9798"/>
                </a:moveTo>
                <a:lnTo>
                  <a:pt x="15652" y="9798"/>
                </a:lnTo>
              </a:path>
              <a:path w="5160" h="2878">
                <a:moveTo>
                  <a:pt x="15280" y="9798"/>
                </a:moveTo>
                <a:cubicBezTo>
                  <a:pt x="15111" y="9923"/>
                  <a:pt x="15146" y="9891"/>
                  <a:pt x="15081" y="10021"/>
                </a:cubicBezTo>
                <a:cubicBezTo>
                  <a:pt x="15073" y="10029"/>
                  <a:pt x="15064" y="10038"/>
                  <a:pt x="15056" y="10046"/>
                </a:cubicBezTo>
              </a:path>
              <a:path w="5160" h="2878">
                <a:moveTo>
                  <a:pt x="15131" y="10120"/>
                </a:moveTo>
                <a:cubicBezTo>
                  <a:pt x="15210" y="10160"/>
                  <a:pt x="15278" y="10204"/>
                  <a:pt x="15354" y="10244"/>
                </a:cubicBezTo>
                <a:cubicBezTo>
                  <a:pt x="15430" y="10284"/>
                  <a:pt x="15491" y="10309"/>
                  <a:pt x="15528" y="10393"/>
                </a:cubicBezTo>
                <a:cubicBezTo>
                  <a:pt x="15563" y="10472"/>
                  <a:pt x="15622" y="10484"/>
                  <a:pt x="15627" y="10567"/>
                </a:cubicBezTo>
                <a:cubicBezTo>
                  <a:pt x="15632" y="10657"/>
                  <a:pt x="15619" y="10693"/>
                  <a:pt x="15577" y="10765"/>
                </a:cubicBezTo>
                <a:cubicBezTo>
                  <a:pt x="15532" y="10842"/>
                  <a:pt x="15501" y="10838"/>
                  <a:pt x="15429" y="10864"/>
                </a:cubicBezTo>
                <a:cubicBezTo>
                  <a:pt x="15363" y="10887"/>
                  <a:pt x="15278" y="10908"/>
                  <a:pt x="15205" y="10889"/>
                </a:cubicBezTo>
                <a:cubicBezTo>
                  <a:pt x="15153" y="10875"/>
                  <a:pt x="15053" y="10856"/>
                  <a:pt x="15032" y="10790"/>
                </a:cubicBezTo>
                <a:cubicBezTo>
                  <a:pt x="15010" y="10720"/>
                  <a:pt x="15042" y="10706"/>
                  <a:pt x="15081" y="10666"/>
                </a:cubicBezTo>
              </a:path>
              <a:path w="5160" h="2878">
                <a:moveTo>
                  <a:pt x="15825" y="10344"/>
                </a:moveTo>
                <a:cubicBezTo>
                  <a:pt x="15825" y="10509"/>
                  <a:pt x="15825" y="10675"/>
                  <a:pt x="15825" y="10840"/>
                </a:cubicBezTo>
              </a:path>
              <a:path w="5160" h="2878">
                <a:moveTo>
                  <a:pt x="15825" y="10071"/>
                </a:moveTo>
                <a:cubicBezTo>
                  <a:pt x="15833" y="10071"/>
                  <a:pt x="15842" y="10071"/>
                  <a:pt x="15850" y="10071"/>
                </a:cubicBezTo>
              </a:path>
              <a:path w="5160" h="2878">
                <a:moveTo>
                  <a:pt x="16073" y="10567"/>
                </a:moveTo>
                <a:cubicBezTo>
                  <a:pt x="16073" y="10666"/>
                  <a:pt x="16073" y="10682"/>
                  <a:pt x="16073" y="10740"/>
                </a:cubicBezTo>
                <a:cubicBezTo>
                  <a:pt x="16038" y="10681"/>
                  <a:pt x="16049" y="10615"/>
                  <a:pt x="16049" y="10542"/>
                </a:cubicBezTo>
                <a:cubicBezTo>
                  <a:pt x="16049" y="10479"/>
                  <a:pt x="16053" y="10423"/>
                  <a:pt x="16073" y="10368"/>
                </a:cubicBezTo>
                <a:cubicBezTo>
                  <a:pt x="16099" y="10296"/>
                  <a:pt x="16169" y="10252"/>
                  <a:pt x="16247" y="10269"/>
                </a:cubicBezTo>
                <a:cubicBezTo>
                  <a:pt x="16331" y="10287"/>
                  <a:pt x="16379" y="10353"/>
                  <a:pt x="16421" y="10418"/>
                </a:cubicBezTo>
                <a:cubicBezTo>
                  <a:pt x="16467" y="10489"/>
                  <a:pt x="16490" y="10557"/>
                  <a:pt x="16495" y="10641"/>
                </a:cubicBezTo>
                <a:cubicBezTo>
                  <a:pt x="16499" y="10716"/>
                  <a:pt x="16502" y="10767"/>
                  <a:pt x="16520" y="10840"/>
                </a:cubicBezTo>
              </a:path>
              <a:path w="5160" h="2878">
                <a:moveTo>
                  <a:pt x="16718" y="10344"/>
                </a:moveTo>
                <a:cubicBezTo>
                  <a:pt x="16784" y="10435"/>
                  <a:pt x="16791" y="10399"/>
                  <a:pt x="16892" y="10393"/>
                </a:cubicBezTo>
                <a:cubicBezTo>
                  <a:pt x="16947" y="10390"/>
                  <a:pt x="16987" y="10375"/>
                  <a:pt x="17041" y="10368"/>
                </a:cubicBezTo>
              </a:path>
              <a:path w="5160" h="2878">
                <a:moveTo>
                  <a:pt x="16718" y="10592"/>
                </a:moveTo>
                <a:cubicBezTo>
                  <a:pt x="16822" y="10632"/>
                  <a:pt x="16814" y="10622"/>
                  <a:pt x="16917" y="10616"/>
                </a:cubicBezTo>
                <a:cubicBezTo>
                  <a:pt x="16991" y="10612"/>
                  <a:pt x="17025" y="10578"/>
                  <a:pt x="17090" y="10616"/>
                </a:cubicBezTo>
                <a:cubicBezTo>
                  <a:pt x="17061" y="10646"/>
                  <a:pt x="17053" y="10657"/>
                  <a:pt x="17016" y="10666"/>
                </a:cubicBezTo>
              </a:path>
              <a:path w="5160" h="2878">
                <a:moveTo>
                  <a:pt x="17810" y="9748"/>
                </a:moveTo>
                <a:cubicBezTo>
                  <a:pt x="17851" y="9707"/>
                  <a:pt x="17889" y="9683"/>
                  <a:pt x="17934" y="9649"/>
                </a:cubicBezTo>
                <a:cubicBezTo>
                  <a:pt x="18005" y="9595"/>
                  <a:pt x="17980" y="9580"/>
                  <a:pt x="18083" y="9575"/>
                </a:cubicBezTo>
                <a:cubicBezTo>
                  <a:pt x="18160" y="9571"/>
                  <a:pt x="18204" y="9545"/>
                  <a:pt x="18281" y="9575"/>
                </a:cubicBezTo>
                <a:cubicBezTo>
                  <a:pt x="18330" y="9594"/>
                  <a:pt x="18324" y="9693"/>
                  <a:pt x="18306" y="9723"/>
                </a:cubicBezTo>
                <a:cubicBezTo>
                  <a:pt x="18273" y="9780"/>
                  <a:pt x="18199" y="9825"/>
                  <a:pt x="18157" y="9872"/>
                </a:cubicBezTo>
                <a:cubicBezTo>
                  <a:pt x="18108" y="9927"/>
                  <a:pt x="18023" y="9939"/>
                  <a:pt x="17983" y="9996"/>
                </a:cubicBezTo>
                <a:cubicBezTo>
                  <a:pt x="17975" y="10013"/>
                  <a:pt x="17967" y="10029"/>
                  <a:pt x="17959" y="10046"/>
                </a:cubicBezTo>
                <a:cubicBezTo>
                  <a:pt x="18016" y="9988"/>
                  <a:pt x="18050" y="9996"/>
                  <a:pt x="18132" y="9996"/>
                </a:cubicBezTo>
                <a:cubicBezTo>
                  <a:pt x="18222" y="9996"/>
                  <a:pt x="18269" y="10009"/>
                  <a:pt x="18331" y="10071"/>
                </a:cubicBezTo>
                <a:cubicBezTo>
                  <a:pt x="18409" y="10149"/>
                  <a:pt x="18397" y="10160"/>
                  <a:pt x="18380" y="10244"/>
                </a:cubicBezTo>
                <a:cubicBezTo>
                  <a:pt x="18361" y="10337"/>
                  <a:pt x="18344" y="10368"/>
                  <a:pt x="18256" y="10418"/>
                </a:cubicBezTo>
                <a:cubicBezTo>
                  <a:pt x="18166" y="10468"/>
                  <a:pt x="18107" y="10477"/>
                  <a:pt x="18008" y="10517"/>
                </a:cubicBezTo>
                <a:cubicBezTo>
                  <a:pt x="17968" y="10533"/>
                  <a:pt x="17933" y="10559"/>
                  <a:pt x="17884" y="10567"/>
                </a:cubicBezTo>
              </a:path>
              <a:path w="5160" h="2878">
                <a:moveTo>
                  <a:pt x="17438" y="10567"/>
                </a:moveTo>
                <a:cubicBezTo>
                  <a:pt x="17510" y="10578"/>
                  <a:pt x="17554" y="10592"/>
                  <a:pt x="17636" y="10592"/>
                </a:cubicBezTo>
                <a:cubicBezTo>
                  <a:pt x="17748" y="10592"/>
                  <a:pt x="17849" y="10595"/>
                  <a:pt x="17959" y="10567"/>
                </a:cubicBezTo>
                <a:cubicBezTo>
                  <a:pt x="18091" y="10533"/>
                  <a:pt x="18222" y="10541"/>
                  <a:pt x="18355" y="10517"/>
                </a:cubicBezTo>
                <a:cubicBezTo>
                  <a:pt x="18469" y="10496"/>
                  <a:pt x="18586" y="10482"/>
                  <a:pt x="18703" y="10468"/>
                </a:cubicBezTo>
                <a:cubicBezTo>
                  <a:pt x="18732" y="10465"/>
                  <a:pt x="18923" y="10442"/>
                  <a:pt x="18926" y="10443"/>
                </a:cubicBezTo>
                <a:cubicBezTo>
                  <a:pt x="18926" y="10451"/>
                  <a:pt x="18926" y="10460"/>
                  <a:pt x="18926" y="10468"/>
                </a:cubicBezTo>
              </a:path>
              <a:path w="5160" h="2878">
                <a:moveTo>
                  <a:pt x="17487" y="11038"/>
                </a:moveTo>
                <a:cubicBezTo>
                  <a:pt x="17507" y="11003"/>
                  <a:pt x="17575" y="10877"/>
                  <a:pt x="17611" y="10864"/>
                </a:cubicBezTo>
                <a:cubicBezTo>
                  <a:pt x="17720" y="10825"/>
                  <a:pt x="17765" y="10897"/>
                  <a:pt x="17785" y="10988"/>
                </a:cubicBezTo>
                <a:cubicBezTo>
                  <a:pt x="17801" y="11061"/>
                  <a:pt x="17783" y="11170"/>
                  <a:pt x="17760" y="11237"/>
                </a:cubicBezTo>
                <a:cubicBezTo>
                  <a:pt x="17730" y="11326"/>
                  <a:pt x="17674" y="11421"/>
                  <a:pt x="17636" y="11509"/>
                </a:cubicBezTo>
                <a:cubicBezTo>
                  <a:pt x="17588" y="11621"/>
                  <a:pt x="17491" y="11796"/>
                  <a:pt x="17363" y="11832"/>
                </a:cubicBezTo>
                <a:cubicBezTo>
                  <a:pt x="17314" y="11832"/>
                  <a:pt x="17297" y="11832"/>
                  <a:pt x="17264" y="11832"/>
                </a:cubicBezTo>
                <a:cubicBezTo>
                  <a:pt x="17234" y="11742"/>
                  <a:pt x="17229" y="11676"/>
                  <a:pt x="17264" y="11584"/>
                </a:cubicBezTo>
                <a:cubicBezTo>
                  <a:pt x="17303" y="11482"/>
                  <a:pt x="17374" y="11463"/>
                  <a:pt x="17438" y="11534"/>
                </a:cubicBezTo>
                <a:cubicBezTo>
                  <a:pt x="17485" y="11586"/>
                  <a:pt x="17508" y="11687"/>
                  <a:pt x="17512" y="11757"/>
                </a:cubicBezTo>
                <a:cubicBezTo>
                  <a:pt x="17516" y="11830"/>
                  <a:pt x="17473" y="11888"/>
                  <a:pt x="17462" y="11956"/>
                </a:cubicBezTo>
                <a:cubicBezTo>
                  <a:pt x="17462" y="12000"/>
                  <a:pt x="17459" y="12020"/>
                  <a:pt x="17487" y="11981"/>
                </a:cubicBezTo>
              </a:path>
              <a:path w="5160" h="2878">
                <a:moveTo>
                  <a:pt x="17835" y="11286"/>
                </a:moveTo>
                <a:cubicBezTo>
                  <a:pt x="17849" y="11432"/>
                  <a:pt x="17859" y="11563"/>
                  <a:pt x="17859" y="11708"/>
                </a:cubicBezTo>
                <a:cubicBezTo>
                  <a:pt x="17859" y="11842"/>
                  <a:pt x="17881" y="11606"/>
                  <a:pt x="17884" y="11584"/>
                </a:cubicBezTo>
                <a:cubicBezTo>
                  <a:pt x="17898" y="11478"/>
                  <a:pt x="17884" y="11367"/>
                  <a:pt x="17909" y="11261"/>
                </a:cubicBezTo>
                <a:cubicBezTo>
                  <a:pt x="17930" y="11170"/>
                  <a:pt x="17956" y="11077"/>
                  <a:pt x="17983" y="10988"/>
                </a:cubicBezTo>
                <a:cubicBezTo>
                  <a:pt x="18015" y="10884"/>
                  <a:pt x="18105" y="10824"/>
                  <a:pt x="18182" y="10765"/>
                </a:cubicBezTo>
                <a:cubicBezTo>
                  <a:pt x="18236" y="10723"/>
                  <a:pt x="18315" y="10695"/>
                  <a:pt x="18380" y="10691"/>
                </a:cubicBezTo>
                <a:cubicBezTo>
                  <a:pt x="18463" y="10686"/>
                  <a:pt x="18502" y="10652"/>
                  <a:pt x="18579" y="10691"/>
                </a:cubicBezTo>
              </a:path>
              <a:path w="5160" h="2878">
                <a:moveTo>
                  <a:pt x="18207" y="11013"/>
                </a:moveTo>
                <a:cubicBezTo>
                  <a:pt x="18257" y="10992"/>
                  <a:pt x="18416" y="10908"/>
                  <a:pt x="18479" y="10914"/>
                </a:cubicBezTo>
                <a:cubicBezTo>
                  <a:pt x="18599" y="10924"/>
                  <a:pt x="18601" y="11050"/>
                  <a:pt x="18554" y="11137"/>
                </a:cubicBezTo>
                <a:cubicBezTo>
                  <a:pt x="18518" y="11203"/>
                  <a:pt x="18458" y="11239"/>
                  <a:pt x="18405" y="11286"/>
                </a:cubicBezTo>
                <a:cubicBezTo>
                  <a:pt x="18379" y="11309"/>
                  <a:pt x="18355" y="11336"/>
                  <a:pt x="18331" y="11361"/>
                </a:cubicBezTo>
                <a:cubicBezTo>
                  <a:pt x="18384" y="11334"/>
                  <a:pt x="18454" y="11296"/>
                  <a:pt x="18504" y="11286"/>
                </a:cubicBezTo>
                <a:cubicBezTo>
                  <a:pt x="18567" y="11273"/>
                  <a:pt x="18657" y="11324"/>
                  <a:pt x="18703" y="11361"/>
                </a:cubicBezTo>
                <a:cubicBezTo>
                  <a:pt x="18778" y="11422"/>
                  <a:pt x="18710" y="11559"/>
                  <a:pt x="18653" y="11609"/>
                </a:cubicBezTo>
                <a:cubicBezTo>
                  <a:pt x="18581" y="11672"/>
                  <a:pt x="18538" y="11753"/>
                  <a:pt x="18455" y="11807"/>
                </a:cubicBezTo>
                <a:cubicBezTo>
                  <a:pt x="18377" y="11858"/>
                  <a:pt x="18351" y="11923"/>
                  <a:pt x="18256" y="11956"/>
                </a:cubicBezTo>
                <a:cubicBezTo>
                  <a:pt x="18164" y="11988"/>
                  <a:pt x="18182" y="11882"/>
                  <a:pt x="18182" y="11832"/>
                </a:cubicBezTo>
              </a:path>
              <a:path w="5160" h="2878">
                <a:moveTo>
                  <a:pt x="18901" y="11336"/>
                </a:moveTo>
                <a:cubicBezTo>
                  <a:pt x="18920" y="11420"/>
                  <a:pt x="18942" y="11500"/>
                  <a:pt x="18951" y="11584"/>
                </a:cubicBezTo>
                <a:cubicBezTo>
                  <a:pt x="18919" y="11487"/>
                  <a:pt x="18923" y="11404"/>
                  <a:pt x="18901" y="11311"/>
                </a:cubicBezTo>
                <a:cubicBezTo>
                  <a:pt x="18882" y="11233"/>
                  <a:pt x="18856" y="11149"/>
                  <a:pt x="18876" y="11063"/>
                </a:cubicBezTo>
                <a:cubicBezTo>
                  <a:pt x="18891" y="10998"/>
                  <a:pt x="18934" y="10894"/>
                  <a:pt x="18976" y="10840"/>
                </a:cubicBezTo>
                <a:cubicBezTo>
                  <a:pt x="19055" y="10738"/>
                  <a:pt x="19163" y="10657"/>
                  <a:pt x="19273" y="10592"/>
                </a:cubicBezTo>
                <a:cubicBezTo>
                  <a:pt x="19349" y="10547"/>
                  <a:pt x="19434" y="10486"/>
                  <a:pt x="19521" y="10468"/>
                </a:cubicBezTo>
                <a:cubicBezTo>
                  <a:pt x="19571" y="10468"/>
                  <a:pt x="19588" y="10468"/>
                  <a:pt x="19621" y="10468"/>
                </a:cubicBezTo>
              </a:path>
              <a:path w="5160" h="2878">
                <a:moveTo>
                  <a:pt x="19149" y="10914"/>
                </a:moveTo>
                <a:cubicBezTo>
                  <a:pt x="19230" y="10891"/>
                  <a:pt x="19317" y="10833"/>
                  <a:pt x="19397" y="10815"/>
                </a:cubicBezTo>
                <a:cubicBezTo>
                  <a:pt x="19454" y="10802"/>
                  <a:pt x="19496" y="10821"/>
                  <a:pt x="19546" y="10840"/>
                </a:cubicBezTo>
                <a:cubicBezTo>
                  <a:pt x="19534" y="10987"/>
                  <a:pt x="19521" y="11038"/>
                  <a:pt x="19422" y="11137"/>
                </a:cubicBezTo>
                <a:cubicBezTo>
                  <a:pt x="19381" y="11178"/>
                  <a:pt x="19340" y="11220"/>
                  <a:pt x="19298" y="11261"/>
                </a:cubicBezTo>
                <a:cubicBezTo>
                  <a:pt x="19387" y="11261"/>
                  <a:pt x="19502" y="11231"/>
                  <a:pt x="19571" y="11286"/>
                </a:cubicBezTo>
                <a:cubicBezTo>
                  <a:pt x="19610" y="11318"/>
                  <a:pt x="19651" y="11382"/>
                  <a:pt x="19621" y="11435"/>
                </a:cubicBezTo>
                <a:cubicBezTo>
                  <a:pt x="19545" y="11571"/>
                  <a:pt x="19490" y="11602"/>
                  <a:pt x="19372" y="11683"/>
                </a:cubicBezTo>
                <a:cubicBezTo>
                  <a:pt x="19294" y="11736"/>
                  <a:pt x="19266" y="11788"/>
                  <a:pt x="19174" y="11757"/>
                </a:cubicBezTo>
              </a:path>
              <a:path w="5160" h="2878">
                <a:moveTo>
                  <a:pt x="18951" y="9922"/>
                </a:moveTo>
                <a:cubicBezTo>
                  <a:pt x="18951" y="10038"/>
                  <a:pt x="18951" y="10153"/>
                  <a:pt x="18951" y="10269"/>
                </a:cubicBezTo>
                <a:cubicBezTo>
                  <a:pt x="18951" y="10404"/>
                  <a:pt x="18935" y="10173"/>
                  <a:pt x="18926" y="10145"/>
                </a:cubicBezTo>
                <a:cubicBezTo>
                  <a:pt x="18896" y="10057"/>
                  <a:pt x="18897" y="9963"/>
                  <a:pt x="18876" y="9872"/>
                </a:cubicBezTo>
                <a:cubicBezTo>
                  <a:pt x="18850" y="9756"/>
                  <a:pt x="18861" y="9690"/>
                  <a:pt x="18876" y="9575"/>
                </a:cubicBezTo>
                <a:cubicBezTo>
                  <a:pt x="18884" y="9511"/>
                  <a:pt x="18891" y="9433"/>
                  <a:pt x="18926" y="9376"/>
                </a:cubicBezTo>
                <a:cubicBezTo>
                  <a:pt x="18969" y="9306"/>
                  <a:pt x="19030" y="9248"/>
                  <a:pt x="19100" y="9203"/>
                </a:cubicBezTo>
                <a:cubicBezTo>
                  <a:pt x="19173" y="9156"/>
                  <a:pt x="19229" y="9180"/>
                  <a:pt x="19298" y="9153"/>
                </a:cubicBezTo>
                <a:cubicBezTo>
                  <a:pt x="19355" y="9131"/>
                  <a:pt x="19372" y="9128"/>
                  <a:pt x="19447" y="9128"/>
                </a:cubicBezTo>
              </a:path>
              <a:path w="5160" h="2878">
                <a:moveTo>
                  <a:pt x="19174" y="9525"/>
                </a:moveTo>
                <a:cubicBezTo>
                  <a:pt x="19278" y="9487"/>
                  <a:pt x="19362" y="9444"/>
                  <a:pt x="19472" y="9500"/>
                </a:cubicBezTo>
                <a:cubicBezTo>
                  <a:pt x="19521" y="9525"/>
                  <a:pt x="19507" y="9664"/>
                  <a:pt x="19472" y="9699"/>
                </a:cubicBezTo>
                <a:cubicBezTo>
                  <a:pt x="19437" y="9734"/>
                  <a:pt x="19385" y="9759"/>
                  <a:pt x="19348" y="9798"/>
                </a:cubicBezTo>
                <a:cubicBezTo>
                  <a:pt x="19405" y="9844"/>
                  <a:pt x="19468" y="9869"/>
                  <a:pt x="19521" y="9922"/>
                </a:cubicBezTo>
                <a:cubicBezTo>
                  <a:pt x="19632" y="10034"/>
                  <a:pt x="19427" y="10105"/>
                  <a:pt x="19372" y="10145"/>
                </a:cubicBezTo>
                <a:cubicBezTo>
                  <a:pt x="19299" y="10197"/>
                  <a:pt x="19282" y="10272"/>
                  <a:pt x="19199" y="10319"/>
                </a:cubicBezTo>
                <a:cubicBezTo>
                  <a:pt x="19182" y="10327"/>
                  <a:pt x="19166" y="10336"/>
                  <a:pt x="19149" y="10344"/>
                </a:cubicBezTo>
              </a:path>
              <a:path w="5160" h="2878">
                <a:moveTo>
                  <a:pt x="19918" y="10319"/>
                </a:moveTo>
                <a:cubicBezTo>
                  <a:pt x="19990" y="10312"/>
                  <a:pt x="20045" y="10294"/>
                  <a:pt x="20117" y="10294"/>
                </a:cubicBezTo>
              </a:path>
              <a:path w="5160" h="2878">
                <a:moveTo>
                  <a:pt x="20017" y="10393"/>
                </a:moveTo>
                <a:cubicBezTo>
                  <a:pt x="20082" y="10384"/>
                  <a:pt x="20122" y="10352"/>
                  <a:pt x="20191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4268880" y="4581360"/>
            <a:ext cx="749160" cy="579600"/>
          </a:xfrm>
          <a:custGeom>
            <a:avLst/>
            <a:gdLst/>
            <a:ahLst/>
            <a:rect l="l" t="t" r="r" b="b"/>
            <a:pathLst>
              <a:path w="2084" h="1613">
                <a:moveTo>
                  <a:pt x="12204" y="12973"/>
                </a:moveTo>
                <a:cubicBezTo>
                  <a:pt x="12174" y="13022"/>
                  <a:pt x="12170" y="13072"/>
                  <a:pt x="12129" y="13122"/>
                </a:cubicBezTo>
                <a:cubicBezTo>
                  <a:pt x="12039" y="13232"/>
                  <a:pt x="11981" y="13359"/>
                  <a:pt x="11931" y="13494"/>
                </a:cubicBezTo>
                <a:cubicBezTo>
                  <a:pt x="11893" y="13598"/>
                  <a:pt x="11842" y="13728"/>
                  <a:pt x="11857" y="13841"/>
                </a:cubicBezTo>
                <a:cubicBezTo>
                  <a:pt x="11868" y="13928"/>
                  <a:pt x="11888" y="14050"/>
                  <a:pt x="11956" y="14114"/>
                </a:cubicBezTo>
                <a:cubicBezTo>
                  <a:pt x="12028" y="14183"/>
                  <a:pt x="12175" y="14265"/>
                  <a:pt x="12278" y="14263"/>
                </a:cubicBezTo>
                <a:cubicBezTo>
                  <a:pt x="12436" y="14260"/>
                  <a:pt x="12554" y="14238"/>
                  <a:pt x="12675" y="14139"/>
                </a:cubicBezTo>
                <a:cubicBezTo>
                  <a:pt x="12738" y="14087"/>
                  <a:pt x="12852" y="13982"/>
                  <a:pt x="12849" y="13891"/>
                </a:cubicBezTo>
                <a:cubicBezTo>
                  <a:pt x="12846" y="13805"/>
                  <a:pt x="12776" y="13723"/>
                  <a:pt x="12700" y="13717"/>
                </a:cubicBezTo>
                <a:cubicBezTo>
                  <a:pt x="12602" y="13710"/>
                  <a:pt x="12541" y="13696"/>
                  <a:pt x="12502" y="13791"/>
                </a:cubicBezTo>
                <a:cubicBezTo>
                  <a:pt x="12462" y="13890"/>
                  <a:pt x="12452" y="13957"/>
                  <a:pt x="12452" y="14064"/>
                </a:cubicBezTo>
                <a:cubicBezTo>
                  <a:pt x="12452" y="14159"/>
                  <a:pt x="12503" y="14278"/>
                  <a:pt x="12526" y="14337"/>
                </a:cubicBezTo>
              </a:path>
              <a:path w="2084" h="1613">
                <a:moveTo>
                  <a:pt x="13072" y="13295"/>
                </a:moveTo>
                <a:cubicBezTo>
                  <a:pt x="13016" y="13436"/>
                  <a:pt x="12953" y="13516"/>
                  <a:pt x="12948" y="13667"/>
                </a:cubicBezTo>
                <a:cubicBezTo>
                  <a:pt x="12944" y="13778"/>
                  <a:pt x="12949" y="13888"/>
                  <a:pt x="12998" y="13990"/>
                </a:cubicBezTo>
                <a:cubicBezTo>
                  <a:pt x="13043" y="14083"/>
                  <a:pt x="13138" y="14182"/>
                  <a:pt x="13221" y="14238"/>
                </a:cubicBezTo>
                <a:cubicBezTo>
                  <a:pt x="13318" y="14303"/>
                  <a:pt x="13438" y="14313"/>
                  <a:pt x="13519" y="14213"/>
                </a:cubicBezTo>
                <a:cubicBezTo>
                  <a:pt x="13618" y="14092"/>
                  <a:pt x="13622" y="13989"/>
                  <a:pt x="13643" y="13841"/>
                </a:cubicBezTo>
                <a:cubicBezTo>
                  <a:pt x="13671" y="13642"/>
                  <a:pt x="13633" y="13545"/>
                  <a:pt x="13543" y="13370"/>
                </a:cubicBezTo>
                <a:cubicBezTo>
                  <a:pt x="13496" y="13278"/>
                  <a:pt x="13443" y="13191"/>
                  <a:pt x="13345" y="13146"/>
                </a:cubicBezTo>
                <a:cubicBezTo>
                  <a:pt x="13249" y="13103"/>
                  <a:pt x="13256" y="13135"/>
                  <a:pt x="13221" y="13196"/>
                </a:cubicBezTo>
              </a:path>
              <a:path w="2084" h="1613">
                <a:moveTo>
                  <a:pt x="13717" y="12849"/>
                </a:moveTo>
                <a:cubicBezTo>
                  <a:pt x="13637" y="12895"/>
                  <a:pt x="13613" y="12982"/>
                  <a:pt x="13717" y="13047"/>
                </a:cubicBezTo>
                <a:cubicBezTo>
                  <a:pt x="13799" y="13099"/>
                  <a:pt x="13848" y="13098"/>
                  <a:pt x="13915" y="13047"/>
                </a:cubicBezTo>
                <a:cubicBezTo>
                  <a:pt x="13974" y="13003"/>
                  <a:pt x="13926" y="12897"/>
                  <a:pt x="13891" y="12849"/>
                </a:cubicBezTo>
                <a:cubicBezTo>
                  <a:pt x="13844" y="12785"/>
                  <a:pt x="13761" y="12759"/>
                  <a:pt x="13692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3813120" y="1419120"/>
            <a:ext cx="1527120" cy="108000"/>
          </a:xfrm>
          <a:custGeom>
            <a:avLst/>
            <a:gdLst/>
            <a:ahLst/>
            <a:rect l="l" t="t" r="r" b="b"/>
            <a:pathLst>
              <a:path w="4242" h="299">
                <a:moveTo>
                  <a:pt x="10592" y="4093"/>
                </a:moveTo>
                <a:cubicBezTo>
                  <a:pt x="10735" y="4093"/>
                  <a:pt x="10874" y="4079"/>
                  <a:pt x="11013" y="4068"/>
                </a:cubicBezTo>
                <a:cubicBezTo>
                  <a:pt x="11187" y="4054"/>
                  <a:pt x="11361" y="4061"/>
                  <a:pt x="11534" y="4043"/>
                </a:cubicBezTo>
                <a:cubicBezTo>
                  <a:pt x="11790" y="4016"/>
                  <a:pt x="12045" y="3998"/>
                  <a:pt x="12303" y="3994"/>
                </a:cubicBezTo>
                <a:cubicBezTo>
                  <a:pt x="12536" y="3991"/>
                  <a:pt x="12764" y="3969"/>
                  <a:pt x="12998" y="3969"/>
                </a:cubicBezTo>
                <a:cubicBezTo>
                  <a:pt x="13247" y="3969"/>
                  <a:pt x="13492" y="3944"/>
                  <a:pt x="13742" y="3944"/>
                </a:cubicBezTo>
                <a:cubicBezTo>
                  <a:pt x="14017" y="3944"/>
                  <a:pt x="14287" y="3952"/>
                  <a:pt x="14560" y="3969"/>
                </a:cubicBezTo>
                <a:cubicBezTo>
                  <a:pt x="14676" y="3969"/>
                  <a:pt x="14709" y="3969"/>
                  <a:pt x="14784" y="3969"/>
                </a:cubicBezTo>
                <a:cubicBezTo>
                  <a:pt x="14627" y="3969"/>
                  <a:pt x="14569" y="3951"/>
                  <a:pt x="14412" y="3944"/>
                </a:cubicBezTo>
                <a:cubicBezTo>
                  <a:pt x="14173" y="3934"/>
                  <a:pt x="13927" y="3949"/>
                  <a:pt x="13692" y="3994"/>
                </a:cubicBezTo>
                <a:cubicBezTo>
                  <a:pt x="13422" y="4046"/>
                  <a:pt x="13154" y="4145"/>
                  <a:pt x="12898" y="42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5268960" y="479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5" y="13320"/>
                </a:moveTo>
                <a:lnTo>
                  <a:pt x="14635" y="1332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5232240" y="5126040"/>
            <a:ext cx="90720" cy="392040"/>
          </a:xfrm>
          <a:custGeom>
            <a:avLst/>
            <a:gdLst/>
            <a:ahLst/>
            <a:rect l="l" t="t" r="r" b="b"/>
            <a:pathLst>
              <a:path w="249" h="1092">
                <a:moveTo>
                  <a:pt x="14684" y="14238"/>
                </a:moveTo>
                <a:cubicBezTo>
                  <a:pt x="14729" y="14481"/>
                  <a:pt x="14821" y="14755"/>
                  <a:pt x="14784" y="15007"/>
                </a:cubicBezTo>
                <a:cubicBezTo>
                  <a:pt x="14768" y="15117"/>
                  <a:pt x="14716" y="15171"/>
                  <a:pt x="14660" y="15255"/>
                </a:cubicBezTo>
                <a:cubicBezTo>
                  <a:pt x="14635" y="15304"/>
                  <a:pt x="14626" y="15321"/>
                  <a:pt x="14585" y="15329"/>
                </a:cubicBezTo>
                <a:cubicBezTo>
                  <a:pt x="14523" y="15252"/>
                  <a:pt x="14543" y="15248"/>
                  <a:pt x="14536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5429160" y="4626000"/>
            <a:ext cx="330120" cy="54000"/>
          </a:xfrm>
          <a:custGeom>
            <a:avLst/>
            <a:gdLst/>
            <a:ahLst/>
            <a:rect l="l" t="t" r="r" b="b"/>
            <a:pathLst>
              <a:path w="919" h="150">
                <a:moveTo>
                  <a:pt x="15081" y="12998"/>
                </a:moveTo>
                <a:cubicBezTo>
                  <a:pt x="15219" y="12912"/>
                  <a:pt x="15332" y="12830"/>
                  <a:pt x="15503" y="12849"/>
                </a:cubicBezTo>
                <a:cubicBezTo>
                  <a:pt x="15630" y="12863"/>
                  <a:pt x="15776" y="12896"/>
                  <a:pt x="15900" y="12923"/>
                </a:cubicBezTo>
                <a:cubicBezTo>
                  <a:pt x="15960" y="12943"/>
                  <a:pt x="15975" y="12962"/>
                  <a:pt x="15999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599080" y="4626000"/>
            <a:ext cx="9720" cy="295200"/>
          </a:xfrm>
          <a:custGeom>
            <a:avLst/>
            <a:gdLst/>
            <a:ahLst/>
            <a:rect l="l" t="t" r="r" b="b"/>
            <a:pathLst>
              <a:path w="25" h="819">
                <a:moveTo>
                  <a:pt x="15553" y="12849"/>
                </a:moveTo>
                <a:cubicBezTo>
                  <a:pt x="15553" y="13067"/>
                  <a:pt x="15596" y="13337"/>
                  <a:pt x="15577" y="13543"/>
                </a:cubicBezTo>
                <a:cubicBezTo>
                  <a:pt x="15573" y="13585"/>
                  <a:pt x="15553" y="13619"/>
                  <a:pt x="15553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Ink 19"/>
          <p:cNvSpPr/>
          <p:nvPr/>
        </p:nvSpPr>
        <p:spPr>
          <a:xfrm>
            <a:off x="5697360" y="4660920"/>
            <a:ext cx="17640" cy="2779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15825" y="12948"/>
                </a:moveTo>
                <a:cubicBezTo>
                  <a:pt x="15846" y="13093"/>
                  <a:pt x="15850" y="13223"/>
                  <a:pt x="15850" y="13370"/>
                </a:cubicBezTo>
                <a:cubicBezTo>
                  <a:pt x="15850" y="13483"/>
                  <a:pt x="15868" y="13582"/>
                  <a:pt x="15875" y="13692"/>
                </a:cubicBezTo>
                <a:cubicBezTo>
                  <a:pt x="15875" y="13700"/>
                  <a:pt x="15875" y="13709"/>
                  <a:pt x="15875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Ink 20"/>
          <p:cNvSpPr/>
          <p:nvPr/>
        </p:nvSpPr>
        <p:spPr>
          <a:xfrm>
            <a:off x="5786280" y="4599000"/>
            <a:ext cx="115920" cy="660240"/>
          </a:xfrm>
          <a:custGeom>
            <a:avLst/>
            <a:gdLst/>
            <a:ahLst/>
            <a:rect l="l" t="t" r="r" b="b"/>
            <a:pathLst>
              <a:path w="324" h="1837">
                <a:moveTo>
                  <a:pt x="16371" y="12774"/>
                </a:moveTo>
                <a:cubicBezTo>
                  <a:pt x="16396" y="12920"/>
                  <a:pt x="16411" y="13072"/>
                  <a:pt x="16396" y="13221"/>
                </a:cubicBezTo>
                <a:cubicBezTo>
                  <a:pt x="16380" y="13384"/>
                  <a:pt x="16366" y="13585"/>
                  <a:pt x="16321" y="13742"/>
                </a:cubicBezTo>
                <a:cubicBezTo>
                  <a:pt x="16276" y="13900"/>
                  <a:pt x="16193" y="14048"/>
                  <a:pt x="16173" y="14213"/>
                </a:cubicBezTo>
                <a:cubicBezTo>
                  <a:pt x="16158" y="14338"/>
                  <a:pt x="16154" y="14468"/>
                  <a:pt x="16098" y="14585"/>
                </a:cubicBezTo>
                <a:cubicBezTo>
                  <a:pt x="16075" y="14608"/>
                  <a:pt x="16067" y="14619"/>
                  <a:pt x="16073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Ink 21"/>
          <p:cNvSpPr/>
          <p:nvPr/>
        </p:nvSpPr>
        <p:spPr>
          <a:xfrm>
            <a:off x="5875200" y="4973760"/>
            <a:ext cx="223920" cy="349200"/>
          </a:xfrm>
          <a:custGeom>
            <a:avLst/>
            <a:gdLst/>
            <a:ahLst/>
            <a:rect l="l" t="t" r="r" b="b"/>
            <a:pathLst>
              <a:path w="622" h="969">
                <a:moveTo>
                  <a:pt x="16421" y="13891"/>
                </a:moveTo>
                <a:cubicBezTo>
                  <a:pt x="16560" y="13817"/>
                  <a:pt x="16611" y="13791"/>
                  <a:pt x="16768" y="13841"/>
                </a:cubicBezTo>
                <a:cubicBezTo>
                  <a:pt x="16814" y="13856"/>
                  <a:pt x="16855" y="13886"/>
                  <a:pt x="16892" y="13915"/>
                </a:cubicBezTo>
                <a:cubicBezTo>
                  <a:pt x="16842" y="13965"/>
                  <a:pt x="16798" y="13999"/>
                  <a:pt x="16743" y="14039"/>
                </a:cubicBezTo>
                <a:cubicBezTo>
                  <a:pt x="16692" y="14076"/>
                  <a:pt x="16646" y="14104"/>
                  <a:pt x="16594" y="14139"/>
                </a:cubicBezTo>
                <a:cubicBezTo>
                  <a:pt x="16672" y="14161"/>
                  <a:pt x="16733" y="14140"/>
                  <a:pt x="16818" y="14188"/>
                </a:cubicBezTo>
                <a:cubicBezTo>
                  <a:pt x="16879" y="14222"/>
                  <a:pt x="16930" y="14288"/>
                  <a:pt x="16942" y="14362"/>
                </a:cubicBezTo>
                <a:cubicBezTo>
                  <a:pt x="16959" y="14465"/>
                  <a:pt x="16916" y="14572"/>
                  <a:pt x="16867" y="14660"/>
                </a:cubicBezTo>
                <a:cubicBezTo>
                  <a:pt x="16846" y="14699"/>
                  <a:pt x="16777" y="14725"/>
                  <a:pt x="16743" y="14759"/>
                </a:cubicBezTo>
                <a:cubicBezTo>
                  <a:pt x="16695" y="14807"/>
                  <a:pt x="16642" y="14785"/>
                  <a:pt x="16594" y="14759"/>
                </a:cubicBezTo>
                <a:cubicBezTo>
                  <a:pt x="16528" y="14723"/>
                  <a:pt x="16477" y="14641"/>
                  <a:pt x="16421" y="14585"/>
                </a:cubicBezTo>
                <a:cubicBezTo>
                  <a:pt x="16388" y="14552"/>
                  <a:pt x="16354" y="14519"/>
                  <a:pt x="16321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Solve for the missing value in a right triangle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0" name="Ink 3"/>
          <p:cNvSpPr/>
          <p:nvPr/>
        </p:nvSpPr>
        <p:spPr>
          <a:xfrm>
            <a:off x="652320" y="2187720"/>
            <a:ext cx="169920" cy="28548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1811" y="6300"/>
                </a:moveTo>
                <a:cubicBezTo>
                  <a:pt x="1842" y="6408"/>
                  <a:pt x="1891" y="6538"/>
                  <a:pt x="1910" y="6648"/>
                </a:cubicBezTo>
                <a:cubicBezTo>
                  <a:pt x="1917" y="6688"/>
                  <a:pt x="1910" y="6948"/>
                  <a:pt x="1910" y="6821"/>
                </a:cubicBezTo>
                <a:cubicBezTo>
                  <a:pt x="1910" y="6772"/>
                  <a:pt x="1910" y="6755"/>
                  <a:pt x="1910" y="6722"/>
                </a:cubicBezTo>
              </a:path>
              <a:path w="472" h="795">
                <a:moveTo>
                  <a:pt x="1984" y="6077"/>
                </a:moveTo>
                <a:cubicBezTo>
                  <a:pt x="1984" y="6224"/>
                  <a:pt x="1968" y="6381"/>
                  <a:pt x="2009" y="6524"/>
                </a:cubicBezTo>
                <a:cubicBezTo>
                  <a:pt x="2020" y="6563"/>
                  <a:pt x="2076" y="6649"/>
                  <a:pt x="2108" y="6672"/>
                </a:cubicBezTo>
                <a:cubicBezTo>
                  <a:pt x="2125" y="6680"/>
                  <a:pt x="2141" y="6689"/>
                  <a:pt x="2158" y="6697"/>
                </a:cubicBezTo>
                <a:cubicBezTo>
                  <a:pt x="2195" y="6660"/>
                  <a:pt x="2275" y="6606"/>
                  <a:pt x="2282" y="6548"/>
                </a:cubicBezTo>
                <a:cubicBezTo>
                  <a:pt x="2282" y="6454"/>
                  <a:pt x="2303" y="6433"/>
                  <a:pt x="2257" y="6400"/>
                </a:cubicBezTo>
                <a:cubicBezTo>
                  <a:pt x="2201" y="6408"/>
                  <a:pt x="2150" y="6435"/>
                  <a:pt x="2133" y="6499"/>
                </a:cubicBezTo>
                <a:cubicBezTo>
                  <a:pt x="2118" y="6554"/>
                  <a:pt x="2140" y="6600"/>
                  <a:pt x="2158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Ink 4"/>
          <p:cNvSpPr/>
          <p:nvPr/>
        </p:nvSpPr>
        <p:spPr>
          <a:xfrm>
            <a:off x="723960" y="2741760"/>
            <a:ext cx="258840" cy="312480"/>
          </a:xfrm>
          <a:custGeom>
            <a:avLst/>
            <a:gdLst/>
            <a:ahLst/>
            <a:rect l="l" t="t" r="r" b="b"/>
            <a:pathLst>
              <a:path w="721" h="869">
                <a:moveTo>
                  <a:pt x="2108" y="7938"/>
                </a:moveTo>
                <a:cubicBezTo>
                  <a:pt x="2068" y="8031"/>
                  <a:pt x="2022" y="8137"/>
                  <a:pt x="2009" y="8235"/>
                </a:cubicBezTo>
                <a:cubicBezTo>
                  <a:pt x="2002" y="8288"/>
                  <a:pt x="2028" y="8451"/>
                  <a:pt x="2084" y="8483"/>
                </a:cubicBezTo>
                <a:cubicBezTo>
                  <a:pt x="2137" y="8513"/>
                  <a:pt x="2236" y="8423"/>
                  <a:pt x="2257" y="8384"/>
                </a:cubicBezTo>
                <a:cubicBezTo>
                  <a:pt x="2300" y="8305"/>
                  <a:pt x="2287" y="8206"/>
                  <a:pt x="2257" y="8136"/>
                </a:cubicBezTo>
                <a:cubicBezTo>
                  <a:pt x="2161" y="8150"/>
                  <a:pt x="2194" y="8165"/>
                  <a:pt x="2158" y="8235"/>
                </a:cubicBezTo>
                <a:cubicBezTo>
                  <a:pt x="2135" y="8281"/>
                  <a:pt x="2102" y="8385"/>
                  <a:pt x="2183" y="8409"/>
                </a:cubicBezTo>
                <a:cubicBezTo>
                  <a:pt x="2224" y="8409"/>
                  <a:pt x="2232" y="8409"/>
                  <a:pt x="2257" y="8409"/>
                </a:cubicBezTo>
              </a:path>
              <a:path w="721" h="869">
                <a:moveTo>
                  <a:pt x="2381" y="8012"/>
                </a:moveTo>
                <a:cubicBezTo>
                  <a:pt x="2360" y="8116"/>
                  <a:pt x="2331" y="8177"/>
                  <a:pt x="2406" y="8260"/>
                </a:cubicBezTo>
                <a:cubicBezTo>
                  <a:pt x="2448" y="8307"/>
                  <a:pt x="2476" y="8332"/>
                  <a:pt x="2530" y="8285"/>
                </a:cubicBezTo>
                <a:cubicBezTo>
                  <a:pt x="2594" y="8229"/>
                  <a:pt x="2671" y="8113"/>
                  <a:pt x="2580" y="8037"/>
                </a:cubicBezTo>
                <a:cubicBezTo>
                  <a:pt x="2530" y="7995"/>
                  <a:pt x="2431" y="8018"/>
                  <a:pt x="2406" y="7938"/>
                </a:cubicBezTo>
                <a:cubicBezTo>
                  <a:pt x="2406" y="7893"/>
                  <a:pt x="2403" y="7880"/>
                  <a:pt x="2431" y="7863"/>
                </a:cubicBezTo>
              </a:path>
              <a:path w="721" h="869">
                <a:moveTo>
                  <a:pt x="2580" y="7665"/>
                </a:moveTo>
                <a:cubicBezTo>
                  <a:pt x="2556" y="7713"/>
                  <a:pt x="2547" y="7727"/>
                  <a:pt x="2555" y="7764"/>
                </a:cubicBezTo>
                <a:cubicBezTo>
                  <a:pt x="2627" y="7755"/>
                  <a:pt x="2672" y="7735"/>
                  <a:pt x="2729" y="7689"/>
                </a:cubicBezTo>
                <a:cubicBezTo>
                  <a:pt x="2682" y="7625"/>
                  <a:pt x="2683" y="7625"/>
                  <a:pt x="2604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Ink 5"/>
          <p:cNvSpPr/>
          <p:nvPr/>
        </p:nvSpPr>
        <p:spPr>
          <a:xfrm>
            <a:off x="1017720" y="2776680"/>
            <a:ext cx="563400" cy="679320"/>
          </a:xfrm>
          <a:custGeom>
            <a:avLst/>
            <a:gdLst/>
            <a:ahLst/>
            <a:rect l="l" t="t" r="r" b="b"/>
            <a:pathLst>
              <a:path w="1563" h="1886">
                <a:moveTo>
                  <a:pt x="4192" y="7714"/>
                </a:moveTo>
                <a:cubicBezTo>
                  <a:pt x="4119" y="7739"/>
                  <a:pt x="4041" y="7740"/>
                  <a:pt x="3969" y="7764"/>
                </a:cubicBezTo>
                <a:cubicBezTo>
                  <a:pt x="3932" y="7777"/>
                  <a:pt x="3808" y="7789"/>
                  <a:pt x="3795" y="7838"/>
                </a:cubicBezTo>
                <a:cubicBezTo>
                  <a:pt x="3758" y="7979"/>
                  <a:pt x="3863" y="8253"/>
                  <a:pt x="3820" y="8359"/>
                </a:cubicBezTo>
                <a:cubicBezTo>
                  <a:pt x="3812" y="8359"/>
                  <a:pt x="3803" y="8359"/>
                  <a:pt x="3795" y="8359"/>
                </a:cubicBezTo>
              </a:path>
              <a:path w="1563" h="1886">
                <a:moveTo>
                  <a:pt x="2828" y="9103"/>
                </a:moveTo>
                <a:cubicBezTo>
                  <a:pt x="2882" y="9172"/>
                  <a:pt x="2928" y="9246"/>
                  <a:pt x="3001" y="9302"/>
                </a:cubicBezTo>
                <a:cubicBezTo>
                  <a:pt x="3062" y="9348"/>
                  <a:pt x="3138" y="9381"/>
                  <a:pt x="3200" y="9426"/>
                </a:cubicBezTo>
                <a:cubicBezTo>
                  <a:pt x="3268" y="9475"/>
                  <a:pt x="3219" y="9465"/>
                  <a:pt x="3324" y="9475"/>
                </a:cubicBezTo>
              </a:path>
              <a:path w="1563" h="1886">
                <a:moveTo>
                  <a:pt x="3175" y="9004"/>
                </a:moveTo>
                <a:cubicBezTo>
                  <a:pt x="3167" y="9116"/>
                  <a:pt x="3150" y="9199"/>
                  <a:pt x="3101" y="9302"/>
                </a:cubicBezTo>
                <a:cubicBezTo>
                  <a:pt x="3065" y="9378"/>
                  <a:pt x="3033" y="9462"/>
                  <a:pt x="2977" y="9525"/>
                </a:cubicBezTo>
                <a:cubicBezTo>
                  <a:pt x="2954" y="9551"/>
                  <a:pt x="2927" y="9575"/>
                  <a:pt x="2902" y="9599"/>
                </a:cubicBezTo>
                <a:cubicBezTo>
                  <a:pt x="2877" y="9575"/>
                  <a:pt x="2869" y="9567"/>
                  <a:pt x="2853" y="9550"/>
                </a:cubicBezTo>
              </a:path>
              <a:path w="1563" h="1886">
                <a:moveTo>
                  <a:pt x="3324" y="9128"/>
                </a:moveTo>
                <a:cubicBezTo>
                  <a:pt x="3404" y="9092"/>
                  <a:pt x="3460" y="9079"/>
                  <a:pt x="3547" y="9079"/>
                </a:cubicBezTo>
                <a:cubicBezTo>
                  <a:pt x="3555" y="9079"/>
                  <a:pt x="3564" y="9079"/>
                  <a:pt x="3572" y="9079"/>
                </a:cubicBezTo>
              </a:path>
              <a:path w="1563" h="1886">
                <a:moveTo>
                  <a:pt x="3324" y="9252"/>
                </a:moveTo>
                <a:cubicBezTo>
                  <a:pt x="3424" y="9266"/>
                  <a:pt x="3499" y="9277"/>
                  <a:pt x="3597" y="9277"/>
                </a:cubicBezTo>
              </a:path>
              <a:path w="1563" h="1886">
                <a:moveTo>
                  <a:pt x="3919" y="8706"/>
                </a:moveTo>
                <a:cubicBezTo>
                  <a:pt x="3847" y="8779"/>
                  <a:pt x="3825" y="8800"/>
                  <a:pt x="3820" y="8905"/>
                </a:cubicBezTo>
                <a:cubicBezTo>
                  <a:pt x="3816" y="8991"/>
                  <a:pt x="3896" y="9019"/>
                  <a:pt x="3969" y="9029"/>
                </a:cubicBezTo>
                <a:cubicBezTo>
                  <a:pt x="4036" y="9038"/>
                  <a:pt x="4141" y="9041"/>
                  <a:pt x="4192" y="9004"/>
                </a:cubicBezTo>
                <a:cubicBezTo>
                  <a:pt x="4241" y="8968"/>
                  <a:pt x="4263" y="8938"/>
                  <a:pt x="4266" y="8880"/>
                </a:cubicBezTo>
                <a:cubicBezTo>
                  <a:pt x="4268" y="8841"/>
                  <a:pt x="4239" y="8769"/>
                  <a:pt x="4192" y="8756"/>
                </a:cubicBezTo>
                <a:cubicBezTo>
                  <a:pt x="4129" y="8738"/>
                  <a:pt x="4043" y="8751"/>
                  <a:pt x="3994" y="8781"/>
                </a:cubicBezTo>
              </a:path>
              <a:path w="1563" h="1886">
                <a:moveTo>
                  <a:pt x="4068" y="9054"/>
                </a:moveTo>
                <a:cubicBezTo>
                  <a:pt x="4016" y="9096"/>
                  <a:pt x="3988" y="9129"/>
                  <a:pt x="3944" y="9178"/>
                </a:cubicBezTo>
                <a:cubicBezTo>
                  <a:pt x="3918" y="9206"/>
                  <a:pt x="3864" y="9269"/>
                  <a:pt x="3870" y="9302"/>
                </a:cubicBezTo>
                <a:cubicBezTo>
                  <a:pt x="3879" y="9350"/>
                  <a:pt x="3978" y="9460"/>
                  <a:pt x="4018" y="9475"/>
                </a:cubicBezTo>
                <a:cubicBezTo>
                  <a:pt x="4085" y="9500"/>
                  <a:pt x="4205" y="9477"/>
                  <a:pt x="4266" y="9451"/>
                </a:cubicBezTo>
                <a:cubicBezTo>
                  <a:pt x="4315" y="9430"/>
                  <a:pt x="4377" y="9358"/>
                  <a:pt x="4390" y="9302"/>
                </a:cubicBezTo>
                <a:cubicBezTo>
                  <a:pt x="4403" y="9245"/>
                  <a:pt x="4395" y="9172"/>
                  <a:pt x="4366" y="9128"/>
                </a:cubicBezTo>
                <a:cubicBezTo>
                  <a:pt x="4324" y="9064"/>
                  <a:pt x="4260" y="8959"/>
                  <a:pt x="4167" y="8979"/>
                </a:cubicBezTo>
                <a:cubicBezTo>
                  <a:pt x="4159" y="8987"/>
                  <a:pt x="4150" y="8996"/>
                  <a:pt x="4142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Ink 6"/>
          <p:cNvSpPr/>
          <p:nvPr/>
        </p:nvSpPr>
        <p:spPr>
          <a:xfrm>
            <a:off x="2660760" y="2224080"/>
            <a:ext cx="536400" cy="776160"/>
          </a:xfrm>
          <a:custGeom>
            <a:avLst/>
            <a:gdLst/>
            <a:ahLst/>
            <a:rect l="l" t="t" r="r" b="b"/>
            <a:pathLst>
              <a:path w="1489" h="2159">
                <a:moveTo>
                  <a:pt x="7689" y="7590"/>
                </a:moveTo>
                <a:cubicBezTo>
                  <a:pt x="7699" y="7660"/>
                  <a:pt x="7728" y="7713"/>
                  <a:pt x="7739" y="7789"/>
                </a:cubicBezTo>
                <a:cubicBezTo>
                  <a:pt x="7754" y="7891"/>
                  <a:pt x="7737" y="7992"/>
                  <a:pt x="7714" y="8086"/>
                </a:cubicBezTo>
                <a:cubicBezTo>
                  <a:pt x="7676" y="8241"/>
                  <a:pt x="7680" y="8186"/>
                  <a:pt x="7615" y="8285"/>
                </a:cubicBezTo>
                <a:cubicBezTo>
                  <a:pt x="7595" y="8325"/>
                  <a:pt x="7586" y="8351"/>
                  <a:pt x="7590" y="8310"/>
                </a:cubicBezTo>
              </a:path>
              <a:path w="1489" h="2159">
                <a:moveTo>
                  <a:pt x="7888" y="7714"/>
                </a:moveTo>
                <a:cubicBezTo>
                  <a:pt x="7883" y="7793"/>
                  <a:pt x="7855" y="7896"/>
                  <a:pt x="7888" y="7962"/>
                </a:cubicBezTo>
                <a:cubicBezTo>
                  <a:pt x="7930" y="8044"/>
                  <a:pt x="8008" y="7942"/>
                  <a:pt x="8037" y="7913"/>
                </a:cubicBezTo>
                <a:cubicBezTo>
                  <a:pt x="8045" y="7905"/>
                  <a:pt x="8054" y="7896"/>
                  <a:pt x="8062" y="7888"/>
                </a:cubicBezTo>
              </a:path>
              <a:path w="1489" h="2159">
                <a:moveTo>
                  <a:pt x="8086" y="7590"/>
                </a:moveTo>
                <a:cubicBezTo>
                  <a:pt x="8086" y="7758"/>
                  <a:pt x="8084" y="7934"/>
                  <a:pt x="8111" y="8086"/>
                </a:cubicBezTo>
                <a:cubicBezTo>
                  <a:pt x="8116" y="8117"/>
                  <a:pt x="8137" y="8292"/>
                  <a:pt x="8111" y="8161"/>
                </a:cubicBezTo>
                <a:cubicBezTo>
                  <a:pt x="8111" y="8153"/>
                  <a:pt x="8111" y="8144"/>
                  <a:pt x="8111" y="8136"/>
                </a:cubicBezTo>
              </a:path>
              <a:path w="1489" h="2159">
                <a:moveTo>
                  <a:pt x="8260" y="7640"/>
                </a:moveTo>
                <a:cubicBezTo>
                  <a:pt x="8354" y="7628"/>
                  <a:pt x="8437" y="7633"/>
                  <a:pt x="8508" y="7590"/>
                </a:cubicBezTo>
              </a:path>
              <a:path w="1489" h="2159">
                <a:moveTo>
                  <a:pt x="8260" y="7665"/>
                </a:moveTo>
                <a:cubicBezTo>
                  <a:pt x="8202" y="7756"/>
                  <a:pt x="8165" y="7776"/>
                  <a:pt x="8235" y="7863"/>
                </a:cubicBezTo>
                <a:cubicBezTo>
                  <a:pt x="8289" y="7820"/>
                  <a:pt x="8325" y="7790"/>
                  <a:pt x="8384" y="7838"/>
                </a:cubicBezTo>
                <a:cubicBezTo>
                  <a:pt x="8435" y="7879"/>
                  <a:pt x="8434" y="7899"/>
                  <a:pt x="8434" y="7962"/>
                </a:cubicBezTo>
                <a:cubicBezTo>
                  <a:pt x="8434" y="8023"/>
                  <a:pt x="8413" y="8076"/>
                  <a:pt x="8359" y="8111"/>
                </a:cubicBezTo>
                <a:cubicBezTo>
                  <a:pt x="8294" y="8153"/>
                  <a:pt x="8198" y="8209"/>
                  <a:pt x="8161" y="8111"/>
                </a:cubicBezTo>
                <a:cubicBezTo>
                  <a:pt x="8142" y="8061"/>
                  <a:pt x="8170" y="8005"/>
                  <a:pt x="8186" y="7962"/>
                </a:cubicBezTo>
              </a:path>
              <a:path w="1489" h="2159">
                <a:moveTo>
                  <a:pt x="8781" y="7466"/>
                </a:moveTo>
                <a:cubicBezTo>
                  <a:pt x="8757" y="7553"/>
                  <a:pt x="8735" y="7591"/>
                  <a:pt x="8756" y="7665"/>
                </a:cubicBezTo>
                <a:cubicBezTo>
                  <a:pt x="8813" y="7617"/>
                  <a:pt x="8866" y="7584"/>
                  <a:pt x="8880" y="7516"/>
                </a:cubicBezTo>
                <a:cubicBezTo>
                  <a:pt x="8888" y="7478"/>
                  <a:pt x="8849" y="7404"/>
                  <a:pt x="8806" y="7392"/>
                </a:cubicBezTo>
                <a:cubicBezTo>
                  <a:pt x="8715" y="7366"/>
                  <a:pt x="8717" y="7374"/>
                  <a:pt x="8706" y="7268"/>
                </a:cubicBezTo>
              </a:path>
              <a:path w="1489" h="2159">
                <a:moveTo>
                  <a:pt x="7417" y="6375"/>
                </a:moveTo>
                <a:cubicBezTo>
                  <a:pt x="7491" y="6455"/>
                  <a:pt x="7549" y="6523"/>
                  <a:pt x="7615" y="6598"/>
                </a:cubicBezTo>
                <a:cubicBezTo>
                  <a:pt x="7673" y="6664"/>
                  <a:pt x="7756" y="6715"/>
                  <a:pt x="7838" y="6747"/>
                </a:cubicBezTo>
                <a:cubicBezTo>
                  <a:pt x="7900" y="6771"/>
                  <a:pt x="8020" y="6796"/>
                  <a:pt x="8086" y="6772"/>
                </a:cubicBezTo>
                <a:cubicBezTo>
                  <a:pt x="8109" y="6749"/>
                  <a:pt x="8117" y="6745"/>
                  <a:pt x="8111" y="6722"/>
                </a:cubicBezTo>
              </a:path>
              <a:path w="1489" h="2159">
                <a:moveTo>
                  <a:pt x="7888" y="6176"/>
                </a:moveTo>
                <a:cubicBezTo>
                  <a:pt x="7827" y="6284"/>
                  <a:pt x="7780" y="6444"/>
                  <a:pt x="7714" y="6548"/>
                </a:cubicBezTo>
                <a:cubicBezTo>
                  <a:pt x="7669" y="6619"/>
                  <a:pt x="7615" y="6705"/>
                  <a:pt x="7565" y="6772"/>
                </a:cubicBezTo>
                <a:cubicBezTo>
                  <a:pt x="7522" y="6830"/>
                  <a:pt x="7465" y="6892"/>
                  <a:pt x="7417" y="6945"/>
                </a:cubicBezTo>
                <a:cubicBezTo>
                  <a:pt x="7409" y="6953"/>
                  <a:pt x="7400" y="6962"/>
                  <a:pt x="7392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Ink 7"/>
          <p:cNvSpPr/>
          <p:nvPr/>
        </p:nvSpPr>
        <p:spPr>
          <a:xfrm>
            <a:off x="3705120" y="2803680"/>
            <a:ext cx="304920" cy="304560"/>
          </a:xfrm>
          <a:custGeom>
            <a:avLst/>
            <a:gdLst/>
            <a:ahLst/>
            <a:rect l="l" t="t" r="r" b="b"/>
            <a:pathLst>
              <a:path w="844" h="844">
                <a:moveTo>
                  <a:pt x="10889" y="7913"/>
                </a:moveTo>
                <a:cubicBezTo>
                  <a:pt x="10902" y="7862"/>
                  <a:pt x="10912" y="7884"/>
                  <a:pt x="10889" y="7838"/>
                </a:cubicBezTo>
              </a:path>
              <a:path w="844" h="844">
                <a:moveTo>
                  <a:pt x="11137" y="7888"/>
                </a:moveTo>
                <a:cubicBezTo>
                  <a:pt x="11033" y="7888"/>
                  <a:pt x="10963" y="7856"/>
                  <a:pt x="10864" y="7838"/>
                </a:cubicBezTo>
                <a:cubicBezTo>
                  <a:pt x="10799" y="7826"/>
                  <a:pt x="10751" y="7829"/>
                  <a:pt x="10691" y="7813"/>
                </a:cubicBezTo>
                <a:cubicBezTo>
                  <a:pt x="10591" y="7787"/>
                  <a:pt x="10563" y="7808"/>
                  <a:pt x="10468" y="7813"/>
                </a:cubicBezTo>
                <a:cubicBezTo>
                  <a:pt x="10451" y="7813"/>
                  <a:pt x="10435" y="7813"/>
                  <a:pt x="10418" y="7813"/>
                </a:cubicBezTo>
                <a:cubicBezTo>
                  <a:pt x="10418" y="7895"/>
                  <a:pt x="10426" y="7947"/>
                  <a:pt x="10418" y="8012"/>
                </a:cubicBezTo>
                <a:cubicBezTo>
                  <a:pt x="10407" y="8106"/>
                  <a:pt x="10397" y="8197"/>
                  <a:pt x="10368" y="8285"/>
                </a:cubicBezTo>
                <a:cubicBezTo>
                  <a:pt x="10333" y="8393"/>
                  <a:pt x="10341" y="8476"/>
                  <a:pt x="10319" y="8582"/>
                </a:cubicBezTo>
                <a:cubicBezTo>
                  <a:pt x="10311" y="8599"/>
                  <a:pt x="10302" y="8615"/>
                  <a:pt x="10294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Ink 8"/>
          <p:cNvSpPr/>
          <p:nvPr/>
        </p:nvSpPr>
        <p:spPr>
          <a:xfrm>
            <a:off x="4830840" y="369720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13618" y="10319"/>
                </a:moveTo>
                <a:cubicBezTo>
                  <a:pt x="13647" y="10421"/>
                  <a:pt x="13667" y="10439"/>
                  <a:pt x="13717" y="10517"/>
                </a:cubicBezTo>
                <a:cubicBezTo>
                  <a:pt x="13764" y="10590"/>
                  <a:pt x="13767" y="10664"/>
                  <a:pt x="13791" y="10740"/>
                </a:cubicBezTo>
                <a:cubicBezTo>
                  <a:pt x="13815" y="10816"/>
                  <a:pt x="13853" y="10852"/>
                  <a:pt x="13866" y="10939"/>
                </a:cubicBezTo>
                <a:cubicBezTo>
                  <a:pt x="13866" y="10983"/>
                  <a:pt x="13863" y="10997"/>
                  <a:pt x="13891" y="11013"/>
                </a:cubicBezTo>
              </a:path>
              <a:path w="572" h="820">
                <a:moveTo>
                  <a:pt x="13990" y="10269"/>
                </a:moveTo>
                <a:cubicBezTo>
                  <a:pt x="13942" y="10317"/>
                  <a:pt x="13912" y="10368"/>
                  <a:pt x="13866" y="10418"/>
                </a:cubicBezTo>
                <a:cubicBezTo>
                  <a:pt x="13807" y="10483"/>
                  <a:pt x="13772" y="10548"/>
                  <a:pt x="13717" y="10616"/>
                </a:cubicBezTo>
                <a:cubicBezTo>
                  <a:pt x="13659" y="10687"/>
                  <a:pt x="13646" y="10769"/>
                  <a:pt x="13593" y="10840"/>
                </a:cubicBezTo>
                <a:cubicBezTo>
                  <a:pt x="13548" y="10900"/>
                  <a:pt x="13485" y="10951"/>
                  <a:pt x="13444" y="11013"/>
                </a:cubicBezTo>
                <a:cubicBezTo>
                  <a:pt x="13424" y="11054"/>
                  <a:pt x="13415" y="11060"/>
                  <a:pt x="13419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Ink 9"/>
          <p:cNvSpPr/>
          <p:nvPr/>
        </p:nvSpPr>
        <p:spPr>
          <a:xfrm>
            <a:off x="6759720" y="4929120"/>
            <a:ext cx="696600" cy="330120"/>
          </a:xfrm>
          <a:custGeom>
            <a:avLst/>
            <a:gdLst/>
            <a:ahLst/>
            <a:rect l="l" t="t" r="r" b="b"/>
            <a:pathLst>
              <a:path w="1936" h="919">
                <a:moveTo>
                  <a:pt x="18802" y="14312"/>
                </a:moveTo>
                <a:cubicBezTo>
                  <a:pt x="18779" y="14350"/>
                  <a:pt x="18777" y="14364"/>
                  <a:pt x="18777" y="14412"/>
                </a:cubicBezTo>
              </a:path>
              <a:path w="1936" h="919">
                <a:moveTo>
                  <a:pt x="19025" y="13940"/>
                </a:moveTo>
                <a:cubicBezTo>
                  <a:pt x="19092" y="13891"/>
                  <a:pt x="19179" y="13849"/>
                  <a:pt x="19273" y="13866"/>
                </a:cubicBezTo>
                <a:cubicBezTo>
                  <a:pt x="19351" y="13880"/>
                  <a:pt x="19385" y="13896"/>
                  <a:pt x="19422" y="13965"/>
                </a:cubicBezTo>
                <a:cubicBezTo>
                  <a:pt x="19457" y="14031"/>
                  <a:pt x="19459" y="14097"/>
                  <a:pt x="19422" y="14163"/>
                </a:cubicBezTo>
                <a:cubicBezTo>
                  <a:pt x="19354" y="14283"/>
                  <a:pt x="19305" y="14386"/>
                  <a:pt x="19224" y="14486"/>
                </a:cubicBezTo>
                <a:cubicBezTo>
                  <a:pt x="19194" y="14523"/>
                  <a:pt x="19180" y="14572"/>
                  <a:pt x="19149" y="14610"/>
                </a:cubicBezTo>
                <a:cubicBezTo>
                  <a:pt x="19083" y="14544"/>
                  <a:pt x="19083" y="14463"/>
                  <a:pt x="19124" y="14362"/>
                </a:cubicBezTo>
                <a:cubicBezTo>
                  <a:pt x="19169" y="14251"/>
                  <a:pt x="19226" y="14167"/>
                  <a:pt x="19348" y="14238"/>
                </a:cubicBezTo>
                <a:cubicBezTo>
                  <a:pt x="19392" y="14264"/>
                  <a:pt x="19417" y="14324"/>
                  <a:pt x="19447" y="14362"/>
                </a:cubicBezTo>
              </a:path>
              <a:path w="1936" h="919">
                <a:moveTo>
                  <a:pt x="19720" y="13841"/>
                </a:moveTo>
                <a:cubicBezTo>
                  <a:pt x="19777" y="13765"/>
                  <a:pt x="19827" y="13738"/>
                  <a:pt x="19918" y="13717"/>
                </a:cubicBezTo>
                <a:cubicBezTo>
                  <a:pt x="19926" y="13717"/>
                  <a:pt x="19935" y="13717"/>
                  <a:pt x="19943" y="13717"/>
                </a:cubicBezTo>
              </a:path>
              <a:path w="1936" h="919">
                <a:moveTo>
                  <a:pt x="19819" y="13767"/>
                </a:moveTo>
                <a:cubicBezTo>
                  <a:pt x="19770" y="13823"/>
                  <a:pt x="19741" y="13884"/>
                  <a:pt x="19695" y="13940"/>
                </a:cubicBezTo>
                <a:cubicBezTo>
                  <a:pt x="19669" y="13972"/>
                  <a:pt x="19583" y="14047"/>
                  <a:pt x="19571" y="14089"/>
                </a:cubicBezTo>
                <a:cubicBezTo>
                  <a:pt x="19541" y="14196"/>
                  <a:pt x="19633" y="14146"/>
                  <a:pt x="19670" y="14139"/>
                </a:cubicBezTo>
                <a:cubicBezTo>
                  <a:pt x="19739" y="14126"/>
                  <a:pt x="19792" y="14114"/>
                  <a:pt x="19869" y="14114"/>
                </a:cubicBezTo>
                <a:cubicBezTo>
                  <a:pt x="19962" y="14114"/>
                  <a:pt x="19995" y="14168"/>
                  <a:pt x="19968" y="14263"/>
                </a:cubicBezTo>
                <a:cubicBezTo>
                  <a:pt x="19940" y="14364"/>
                  <a:pt x="19880" y="14431"/>
                  <a:pt x="19819" y="14511"/>
                </a:cubicBezTo>
                <a:cubicBezTo>
                  <a:pt x="19781" y="14567"/>
                  <a:pt x="19764" y="14570"/>
                  <a:pt x="19769" y="14610"/>
                </a:cubicBezTo>
              </a:path>
              <a:path w="1936" h="919">
                <a:moveTo>
                  <a:pt x="20290" y="13791"/>
                </a:moveTo>
                <a:cubicBezTo>
                  <a:pt x="20229" y="13840"/>
                  <a:pt x="20190" y="13880"/>
                  <a:pt x="20141" y="13940"/>
                </a:cubicBezTo>
                <a:cubicBezTo>
                  <a:pt x="20084" y="14009"/>
                  <a:pt x="20022" y="14070"/>
                  <a:pt x="19968" y="14139"/>
                </a:cubicBezTo>
                <a:cubicBezTo>
                  <a:pt x="19939" y="14167"/>
                  <a:pt x="19931" y="14180"/>
                  <a:pt x="19943" y="14213"/>
                </a:cubicBezTo>
                <a:cubicBezTo>
                  <a:pt x="20004" y="14263"/>
                  <a:pt x="20039" y="14263"/>
                  <a:pt x="20117" y="14263"/>
                </a:cubicBezTo>
                <a:cubicBezTo>
                  <a:pt x="20195" y="14263"/>
                  <a:pt x="20222" y="14279"/>
                  <a:pt x="20290" y="14312"/>
                </a:cubicBezTo>
                <a:cubicBezTo>
                  <a:pt x="20253" y="14413"/>
                  <a:pt x="20245" y="14427"/>
                  <a:pt x="20166" y="14486"/>
                </a:cubicBezTo>
                <a:cubicBezTo>
                  <a:pt x="20099" y="14536"/>
                  <a:pt x="20146" y="14526"/>
                  <a:pt x="20042" y="14536"/>
                </a:cubicBezTo>
                <a:cubicBezTo>
                  <a:pt x="19988" y="14481"/>
                  <a:pt x="20023" y="14381"/>
                  <a:pt x="20067" y="14288"/>
                </a:cubicBezTo>
                <a:cubicBezTo>
                  <a:pt x="20120" y="14174"/>
                  <a:pt x="20182" y="14056"/>
                  <a:pt x="20265" y="13965"/>
                </a:cubicBezTo>
                <a:cubicBezTo>
                  <a:pt x="20331" y="13893"/>
                  <a:pt x="20360" y="13805"/>
                  <a:pt x="20439" y="13742"/>
                </a:cubicBezTo>
                <a:cubicBezTo>
                  <a:pt x="20483" y="13720"/>
                  <a:pt x="20494" y="13717"/>
                  <a:pt x="20513" y="13692"/>
                </a:cubicBezTo>
                <a:cubicBezTo>
                  <a:pt x="20479" y="13780"/>
                  <a:pt x="20439" y="13824"/>
                  <a:pt x="20389" y="13891"/>
                </a:cubicBezTo>
                <a:cubicBezTo>
                  <a:pt x="20349" y="13945"/>
                  <a:pt x="20310" y="14048"/>
                  <a:pt x="20389" y="14089"/>
                </a:cubicBezTo>
                <a:cubicBezTo>
                  <a:pt x="20455" y="14124"/>
                  <a:pt x="20525" y="14117"/>
                  <a:pt x="20588" y="14139"/>
                </a:cubicBezTo>
                <a:cubicBezTo>
                  <a:pt x="20638" y="14163"/>
                  <a:pt x="20655" y="14171"/>
                  <a:pt x="20662" y="14213"/>
                </a:cubicBezTo>
                <a:cubicBezTo>
                  <a:pt x="20638" y="14280"/>
                  <a:pt x="20617" y="14366"/>
                  <a:pt x="20538" y="14387"/>
                </a:cubicBezTo>
                <a:cubicBezTo>
                  <a:pt x="20476" y="14404"/>
                  <a:pt x="20404" y="14343"/>
                  <a:pt x="20389" y="14288"/>
                </a:cubicBezTo>
                <a:cubicBezTo>
                  <a:pt x="20358" y="14171"/>
                  <a:pt x="20453" y="14086"/>
                  <a:pt x="20489" y="13990"/>
                </a:cubicBezTo>
                <a:cubicBezTo>
                  <a:pt x="20530" y="13882"/>
                  <a:pt x="20568" y="13793"/>
                  <a:pt x="20662" y="13717"/>
                </a:cubicBezTo>
                <a:cubicBezTo>
                  <a:pt x="20679" y="13709"/>
                  <a:pt x="20695" y="13700"/>
                  <a:pt x="20712" y="136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Ink 10"/>
          <p:cNvSpPr/>
          <p:nvPr/>
        </p:nvSpPr>
        <p:spPr>
          <a:xfrm>
            <a:off x="411120" y="3537000"/>
            <a:ext cx="1839960" cy="803160"/>
          </a:xfrm>
          <a:custGeom>
            <a:avLst/>
            <a:gdLst/>
            <a:ahLst/>
            <a:rect l="l" t="t" r="r" b="b"/>
            <a:pathLst>
              <a:path w="5111" h="2233">
                <a:moveTo>
                  <a:pt x="1563" y="10269"/>
                </a:moveTo>
                <a:cubicBezTo>
                  <a:pt x="1563" y="10319"/>
                  <a:pt x="1563" y="10335"/>
                  <a:pt x="1563" y="10368"/>
                </a:cubicBezTo>
                <a:cubicBezTo>
                  <a:pt x="1531" y="10316"/>
                  <a:pt x="1538" y="10249"/>
                  <a:pt x="1513" y="10195"/>
                </a:cubicBezTo>
                <a:cubicBezTo>
                  <a:pt x="1489" y="10144"/>
                  <a:pt x="1436" y="10123"/>
                  <a:pt x="1389" y="10120"/>
                </a:cubicBezTo>
                <a:cubicBezTo>
                  <a:pt x="1334" y="10117"/>
                  <a:pt x="1284" y="10162"/>
                  <a:pt x="1240" y="10195"/>
                </a:cubicBezTo>
                <a:cubicBezTo>
                  <a:pt x="1179" y="10241"/>
                  <a:pt x="1187" y="10332"/>
                  <a:pt x="1166" y="10393"/>
                </a:cubicBezTo>
                <a:cubicBezTo>
                  <a:pt x="1140" y="10470"/>
                  <a:pt x="1141" y="10534"/>
                  <a:pt x="1141" y="10616"/>
                </a:cubicBezTo>
                <a:cubicBezTo>
                  <a:pt x="1141" y="10699"/>
                  <a:pt x="1173" y="10772"/>
                  <a:pt x="1240" y="10815"/>
                </a:cubicBezTo>
                <a:cubicBezTo>
                  <a:pt x="1313" y="10862"/>
                  <a:pt x="1363" y="10834"/>
                  <a:pt x="1439" y="10815"/>
                </a:cubicBezTo>
              </a:path>
              <a:path w="5111" h="2233">
                <a:moveTo>
                  <a:pt x="1712" y="10443"/>
                </a:moveTo>
                <a:cubicBezTo>
                  <a:pt x="1712" y="10556"/>
                  <a:pt x="1695" y="10685"/>
                  <a:pt x="1736" y="10790"/>
                </a:cubicBezTo>
                <a:cubicBezTo>
                  <a:pt x="1764" y="10861"/>
                  <a:pt x="1804" y="10872"/>
                  <a:pt x="1860" y="10914"/>
                </a:cubicBezTo>
                <a:cubicBezTo>
                  <a:pt x="1913" y="10954"/>
                  <a:pt x="1988" y="10948"/>
                  <a:pt x="2034" y="10889"/>
                </a:cubicBezTo>
                <a:cubicBezTo>
                  <a:pt x="2091" y="10817"/>
                  <a:pt x="2084" y="10756"/>
                  <a:pt x="2084" y="10666"/>
                </a:cubicBezTo>
                <a:cubicBezTo>
                  <a:pt x="2084" y="10580"/>
                  <a:pt x="2085" y="10516"/>
                  <a:pt x="2034" y="10443"/>
                </a:cubicBezTo>
                <a:cubicBezTo>
                  <a:pt x="2009" y="10407"/>
                  <a:pt x="1969" y="10343"/>
                  <a:pt x="1935" y="10319"/>
                </a:cubicBezTo>
                <a:cubicBezTo>
                  <a:pt x="1852" y="10260"/>
                  <a:pt x="1776" y="10304"/>
                  <a:pt x="1761" y="10393"/>
                </a:cubicBezTo>
                <a:cubicBezTo>
                  <a:pt x="1748" y="10470"/>
                  <a:pt x="1775" y="10504"/>
                  <a:pt x="1811" y="10567"/>
                </a:cubicBezTo>
              </a:path>
              <a:path w="5111" h="2233">
                <a:moveTo>
                  <a:pt x="2604" y="10319"/>
                </a:moveTo>
                <a:cubicBezTo>
                  <a:pt x="2558" y="10272"/>
                  <a:pt x="2547" y="10248"/>
                  <a:pt x="2480" y="10244"/>
                </a:cubicBezTo>
                <a:cubicBezTo>
                  <a:pt x="2436" y="10241"/>
                  <a:pt x="2325" y="10268"/>
                  <a:pt x="2307" y="10319"/>
                </a:cubicBezTo>
                <a:cubicBezTo>
                  <a:pt x="2307" y="10368"/>
                  <a:pt x="2307" y="10385"/>
                  <a:pt x="2307" y="10418"/>
                </a:cubicBezTo>
                <a:cubicBezTo>
                  <a:pt x="2364" y="10426"/>
                  <a:pt x="2427" y="10436"/>
                  <a:pt x="2480" y="10468"/>
                </a:cubicBezTo>
                <a:cubicBezTo>
                  <a:pt x="2525" y="10495"/>
                  <a:pt x="2571" y="10489"/>
                  <a:pt x="2604" y="10542"/>
                </a:cubicBezTo>
                <a:cubicBezTo>
                  <a:pt x="2647" y="10609"/>
                  <a:pt x="2654" y="10635"/>
                  <a:pt x="2654" y="10716"/>
                </a:cubicBezTo>
                <a:cubicBezTo>
                  <a:pt x="2654" y="10792"/>
                  <a:pt x="2657" y="10811"/>
                  <a:pt x="2604" y="10864"/>
                </a:cubicBezTo>
                <a:cubicBezTo>
                  <a:pt x="2567" y="10901"/>
                  <a:pt x="2457" y="10901"/>
                  <a:pt x="2406" y="10889"/>
                </a:cubicBezTo>
                <a:cubicBezTo>
                  <a:pt x="2354" y="10877"/>
                  <a:pt x="2318" y="10826"/>
                  <a:pt x="2282" y="10790"/>
                </a:cubicBezTo>
              </a:path>
              <a:path w="5111" h="2233">
                <a:moveTo>
                  <a:pt x="3125" y="10195"/>
                </a:moveTo>
                <a:cubicBezTo>
                  <a:pt x="3088" y="10302"/>
                  <a:pt x="3103" y="10370"/>
                  <a:pt x="3076" y="10468"/>
                </a:cubicBezTo>
                <a:cubicBezTo>
                  <a:pt x="3048" y="10568"/>
                  <a:pt x="3060" y="10621"/>
                  <a:pt x="3076" y="10716"/>
                </a:cubicBezTo>
                <a:cubicBezTo>
                  <a:pt x="3087" y="10783"/>
                  <a:pt x="3063" y="10841"/>
                  <a:pt x="3150" y="10864"/>
                </a:cubicBezTo>
                <a:cubicBezTo>
                  <a:pt x="3220" y="10882"/>
                  <a:pt x="3237" y="10876"/>
                  <a:pt x="3299" y="10864"/>
                </a:cubicBezTo>
                <a:cubicBezTo>
                  <a:pt x="3384" y="10847"/>
                  <a:pt x="3371" y="10835"/>
                  <a:pt x="3423" y="10765"/>
                </a:cubicBezTo>
                <a:cubicBezTo>
                  <a:pt x="3470" y="10703"/>
                  <a:pt x="3435" y="10674"/>
                  <a:pt x="3423" y="10616"/>
                </a:cubicBezTo>
                <a:cubicBezTo>
                  <a:pt x="3423" y="10600"/>
                  <a:pt x="3423" y="10583"/>
                  <a:pt x="3423" y="10567"/>
                </a:cubicBezTo>
                <a:cubicBezTo>
                  <a:pt x="3357" y="10576"/>
                  <a:pt x="3347" y="10593"/>
                  <a:pt x="3299" y="10641"/>
                </a:cubicBezTo>
                <a:cubicBezTo>
                  <a:pt x="3274" y="10665"/>
                  <a:pt x="3246" y="10807"/>
                  <a:pt x="3249" y="10840"/>
                </a:cubicBezTo>
                <a:cubicBezTo>
                  <a:pt x="3271" y="10883"/>
                  <a:pt x="3275" y="10895"/>
                  <a:pt x="3299" y="10914"/>
                </a:cubicBezTo>
              </a:path>
              <a:path w="5111" h="2233">
                <a:moveTo>
                  <a:pt x="3646" y="10319"/>
                </a:moveTo>
                <a:cubicBezTo>
                  <a:pt x="3638" y="10414"/>
                  <a:pt x="3611" y="10502"/>
                  <a:pt x="3597" y="10592"/>
                </a:cubicBezTo>
                <a:cubicBezTo>
                  <a:pt x="3586" y="10667"/>
                  <a:pt x="3591" y="10748"/>
                  <a:pt x="3621" y="10815"/>
                </a:cubicBezTo>
                <a:cubicBezTo>
                  <a:pt x="3651" y="10882"/>
                  <a:pt x="3676" y="10910"/>
                  <a:pt x="3746" y="10914"/>
                </a:cubicBezTo>
                <a:cubicBezTo>
                  <a:pt x="3826" y="10919"/>
                  <a:pt x="3902" y="10854"/>
                  <a:pt x="3944" y="10790"/>
                </a:cubicBezTo>
                <a:cubicBezTo>
                  <a:pt x="3995" y="10714"/>
                  <a:pt x="3975" y="10646"/>
                  <a:pt x="3969" y="10567"/>
                </a:cubicBezTo>
                <a:cubicBezTo>
                  <a:pt x="3959" y="10444"/>
                  <a:pt x="3924" y="10437"/>
                  <a:pt x="3870" y="10344"/>
                </a:cubicBezTo>
                <a:cubicBezTo>
                  <a:pt x="3832" y="10279"/>
                  <a:pt x="3823" y="10249"/>
                  <a:pt x="3746" y="10244"/>
                </a:cubicBezTo>
                <a:cubicBezTo>
                  <a:pt x="3704" y="10244"/>
                  <a:pt x="3696" y="10244"/>
                  <a:pt x="3671" y="10244"/>
                </a:cubicBezTo>
              </a:path>
              <a:path w="5111" h="2233">
                <a:moveTo>
                  <a:pt x="4043" y="9847"/>
                </a:moveTo>
                <a:cubicBezTo>
                  <a:pt x="4003" y="9888"/>
                  <a:pt x="3970" y="9933"/>
                  <a:pt x="3994" y="9996"/>
                </a:cubicBezTo>
                <a:cubicBezTo>
                  <a:pt x="4015" y="10053"/>
                  <a:pt x="4113" y="10019"/>
                  <a:pt x="4142" y="9996"/>
                </a:cubicBezTo>
                <a:cubicBezTo>
                  <a:pt x="4185" y="9961"/>
                  <a:pt x="4183" y="9903"/>
                  <a:pt x="4167" y="9872"/>
                </a:cubicBezTo>
                <a:cubicBezTo>
                  <a:pt x="4132" y="9803"/>
                  <a:pt x="4116" y="9823"/>
                  <a:pt x="4043" y="9823"/>
                </a:cubicBezTo>
              </a:path>
              <a:path w="5111" h="2233">
                <a:moveTo>
                  <a:pt x="4291" y="10468"/>
                </a:moveTo>
                <a:cubicBezTo>
                  <a:pt x="4374" y="10468"/>
                  <a:pt x="4456" y="10468"/>
                  <a:pt x="4539" y="10468"/>
                </a:cubicBezTo>
              </a:path>
              <a:path w="5111" h="2233">
                <a:moveTo>
                  <a:pt x="4291" y="10616"/>
                </a:moveTo>
                <a:cubicBezTo>
                  <a:pt x="4381" y="10635"/>
                  <a:pt x="4448" y="10641"/>
                  <a:pt x="4539" y="10641"/>
                </a:cubicBezTo>
              </a:path>
              <a:path w="5111" h="2233">
                <a:moveTo>
                  <a:pt x="5283" y="10021"/>
                </a:moveTo>
                <a:cubicBezTo>
                  <a:pt x="5294" y="10099"/>
                  <a:pt x="5314" y="10195"/>
                  <a:pt x="5358" y="10269"/>
                </a:cubicBezTo>
                <a:cubicBezTo>
                  <a:pt x="5419" y="10373"/>
                  <a:pt x="5474" y="10459"/>
                  <a:pt x="5556" y="10542"/>
                </a:cubicBezTo>
                <a:cubicBezTo>
                  <a:pt x="5617" y="10604"/>
                  <a:pt x="5688" y="10640"/>
                  <a:pt x="5755" y="10691"/>
                </a:cubicBezTo>
                <a:cubicBezTo>
                  <a:pt x="5803" y="10727"/>
                  <a:pt x="5819" y="10733"/>
                  <a:pt x="5879" y="10740"/>
                </a:cubicBezTo>
              </a:path>
              <a:path w="5111" h="2233">
                <a:moveTo>
                  <a:pt x="5755" y="10071"/>
                </a:moveTo>
                <a:cubicBezTo>
                  <a:pt x="5685" y="10029"/>
                  <a:pt x="5622" y="10078"/>
                  <a:pt x="5581" y="10145"/>
                </a:cubicBezTo>
                <a:cubicBezTo>
                  <a:pt x="5532" y="10223"/>
                  <a:pt x="5530" y="10312"/>
                  <a:pt x="5507" y="10393"/>
                </a:cubicBezTo>
                <a:cubicBezTo>
                  <a:pt x="5489" y="10458"/>
                  <a:pt x="5459" y="10532"/>
                  <a:pt x="5432" y="10592"/>
                </a:cubicBezTo>
                <a:cubicBezTo>
                  <a:pt x="5408" y="10646"/>
                  <a:pt x="5386" y="10695"/>
                  <a:pt x="5358" y="10740"/>
                </a:cubicBezTo>
              </a:path>
              <a:path w="5111" h="2233">
                <a:moveTo>
                  <a:pt x="4986" y="10864"/>
                </a:moveTo>
                <a:cubicBezTo>
                  <a:pt x="5087" y="10850"/>
                  <a:pt x="5166" y="10840"/>
                  <a:pt x="5283" y="10840"/>
                </a:cubicBezTo>
                <a:cubicBezTo>
                  <a:pt x="5421" y="10840"/>
                  <a:pt x="5545" y="10848"/>
                  <a:pt x="5680" y="10864"/>
                </a:cubicBezTo>
                <a:cubicBezTo>
                  <a:pt x="5778" y="10875"/>
                  <a:pt x="6236" y="10869"/>
                  <a:pt x="6226" y="10840"/>
                </a:cubicBezTo>
              </a:path>
              <a:path w="5111" h="2233">
                <a:moveTo>
                  <a:pt x="5259" y="11162"/>
                </a:moveTo>
                <a:cubicBezTo>
                  <a:pt x="5259" y="11388"/>
                  <a:pt x="5254" y="11612"/>
                  <a:pt x="5283" y="11832"/>
                </a:cubicBezTo>
                <a:cubicBezTo>
                  <a:pt x="5286" y="11854"/>
                  <a:pt x="5283" y="12065"/>
                  <a:pt x="5283" y="11931"/>
                </a:cubicBezTo>
              </a:path>
              <a:path w="5111" h="2233">
                <a:moveTo>
                  <a:pt x="5631" y="11187"/>
                </a:moveTo>
                <a:cubicBezTo>
                  <a:pt x="5620" y="11293"/>
                  <a:pt x="5575" y="11382"/>
                  <a:pt x="5556" y="11485"/>
                </a:cubicBezTo>
                <a:cubicBezTo>
                  <a:pt x="5533" y="11609"/>
                  <a:pt x="5562" y="11725"/>
                  <a:pt x="5606" y="11807"/>
                </a:cubicBezTo>
                <a:cubicBezTo>
                  <a:pt x="5637" y="11865"/>
                  <a:pt x="5652" y="11960"/>
                  <a:pt x="5705" y="12005"/>
                </a:cubicBezTo>
                <a:cubicBezTo>
                  <a:pt x="5756" y="12048"/>
                  <a:pt x="5889" y="12082"/>
                  <a:pt x="5953" y="12055"/>
                </a:cubicBezTo>
                <a:cubicBezTo>
                  <a:pt x="6002" y="12035"/>
                  <a:pt x="6084" y="11959"/>
                  <a:pt x="6077" y="11906"/>
                </a:cubicBezTo>
                <a:cubicBezTo>
                  <a:pt x="6069" y="11848"/>
                  <a:pt x="6043" y="11777"/>
                  <a:pt x="6003" y="11733"/>
                </a:cubicBezTo>
                <a:cubicBezTo>
                  <a:pt x="5948" y="11673"/>
                  <a:pt x="5878" y="11713"/>
                  <a:pt x="5829" y="11757"/>
                </a:cubicBezTo>
                <a:cubicBezTo>
                  <a:pt x="5768" y="11812"/>
                  <a:pt x="5785" y="11851"/>
                  <a:pt x="5779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Ink 11"/>
          <p:cNvSpPr/>
          <p:nvPr/>
        </p:nvSpPr>
        <p:spPr>
          <a:xfrm>
            <a:off x="3232080" y="3286080"/>
            <a:ext cx="1938240" cy="519120"/>
          </a:xfrm>
          <a:custGeom>
            <a:avLst/>
            <a:gdLst/>
            <a:ahLst/>
            <a:rect l="l" t="t" r="r" b="b"/>
            <a:pathLst>
              <a:path w="5384" h="1440">
                <a:moveTo>
                  <a:pt x="9426" y="9823"/>
                </a:moveTo>
                <a:cubicBezTo>
                  <a:pt x="9463" y="9858"/>
                  <a:pt x="9392" y="9801"/>
                  <a:pt x="9327" y="9798"/>
                </a:cubicBezTo>
                <a:cubicBezTo>
                  <a:pt x="9267" y="9795"/>
                  <a:pt x="9207" y="9822"/>
                  <a:pt x="9153" y="9847"/>
                </a:cubicBezTo>
                <a:cubicBezTo>
                  <a:pt x="9090" y="9876"/>
                  <a:pt x="9038" y="9913"/>
                  <a:pt x="8979" y="9947"/>
                </a:cubicBezTo>
                <a:cubicBezTo>
                  <a:pt x="9030" y="9996"/>
                  <a:pt x="9039" y="10004"/>
                  <a:pt x="9103" y="10021"/>
                </a:cubicBezTo>
                <a:cubicBezTo>
                  <a:pt x="9186" y="10044"/>
                  <a:pt x="9249" y="10058"/>
                  <a:pt x="9327" y="10096"/>
                </a:cubicBezTo>
                <a:cubicBezTo>
                  <a:pt x="9388" y="10126"/>
                  <a:pt x="9435" y="10179"/>
                  <a:pt x="9451" y="10244"/>
                </a:cubicBezTo>
                <a:cubicBezTo>
                  <a:pt x="9468" y="10313"/>
                  <a:pt x="9465" y="10430"/>
                  <a:pt x="9426" y="10492"/>
                </a:cubicBezTo>
                <a:cubicBezTo>
                  <a:pt x="9383" y="10561"/>
                  <a:pt x="9272" y="10564"/>
                  <a:pt x="9203" y="10567"/>
                </a:cubicBezTo>
                <a:cubicBezTo>
                  <a:pt x="9099" y="10571"/>
                  <a:pt x="9079" y="10579"/>
                  <a:pt x="9029" y="10492"/>
                </a:cubicBezTo>
              </a:path>
              <a:path w="5384" h="1440">
                <a:moveTo>
                  <a:pt x="9748" y="10071"/>
                </a:moveTo>
                <a:cubicBezTo>
                  <a:pt x="9779" y="10213"/>
                  <a:pt x="9751" y="10196"/>
                  <a:pt x="9723" y="10319"/>
                </a:cubicBezTo>
                <a:cubicBezTo>
                  <a:pt x="9711" y="10372"/>
                  <a:pt x="9686" y="10394"/>
                  <a:pt x="9674" y="10443"/>
                </a:cubicBezTo>
              </a:path>
              <a:path w="5384" h="1440">
                <a:moveTo>
                  <a:pt x="9773" y="9500"/>
                </a:moveTo>
                <a:cubicBezTo>
                  <a:pt x="9781" y="9500"/>
                  <a:pt x="9790" y="9500"/>
                  <a:pt x="9798" y="9500"/>
                </a:cubicBezTo>
              </a:path>
              <a:path w="5384" h="1440">
                <a:moveTo>
                  <a:pt x="9971" y="10096"/>
                </a:moveTo>
                <a:cubicBezTo>
                  <a:pt x="9971" y="10178"/>
                  <a:pt x="9985" y="10335"/>
                  <a:pt x="9947" y="10418"/>
                </a:cubicBezTo>
                <a:cubicBezTo>
                  <a:pt x="9939" y="10426"/>
                  <a:pt x="9930" y="10435"/>
                  <a:pt x="9922" y="10443"/>
                </a:cubicBezTo>
                <a:cubicBezTo>
                  <a:pt x="9922" y="10373"/>
                  <a:pt x="9933" y="10331"/>
                  <a:pt x="9947" y="10269"/>
                </a:cubicBezTo>
                <a:cubicBezTo>
                  <a:pt x="9961" y="10203"/>
                  <a:pt x="9968" y="10102"/>
                  <a:pt x="9996" y="10046"/>
                </a:cubicBezTo>
                <a:cubicBezTo>
                  <a:pt x="10021" y="9995"/>
                  <a:pt x="10028" y="9945"/>
                  <a:pt x="10071" y="9897"/>
                </a:cubicBezTo>
                <a:cubicBezTo>
                  <a:pt x="10134" y="9827"/>
                  <a:pt x="10188" y="9847"/>
                  <a:pt x="10269" y="9872"/>
                </a:cubicBezTo>
                <a:cubicBezTo>
                  <a:pt x="10380" y="9906"/>
                  <a:pt x="10371" y="9947"/>
                  <a:pt x="10418" y="10046"/>
                </a:cubicBezTo>
                <a:cubicBezTo>
                  <a:pt x="10440" y="10093"/>
                  <a:pt x="10505" y="10149"/>
                  <a:pt x="10517" y="10195"/>
                </a:cubicBezTo>
                <a:cubicBezTo>
                  <a:pt x="10533" y="10255"/>
                  <a:pt x="10535" y="10290"/>
                  <a:pt x="10592" y="10319"/>
                </a:cubicBezTo>
              </a:path>
              <a:path w="5384" h="1440">
                <a:moveTo>
                  <a:pt x="10889" y="9599"/>
                </a:moveTo>
                <a:cubicBezTo>
                  <a:pt x="10881" y="9661"/>
                  <a:pt x="10850" y="9720"/>
                  <a:pt x="10840" y="9773"/>
                </a:cubicBezTo>
                <a:cubicBezTo>
                  <a:pt x="10826" y="9843"/>
                  <a:pt x="10916" y="9862"/>
                  <a:pt x="10964" y="9872"/>
                </a:cubicBezTo>
                <a:cubicBezTo>
                  <a:pt x="11011" y="9882"/>
                  <a:pt x="11119" y="9907"/>
                  <a:pt x="11162" y="9897"/>
                </a:cubicBezTo>
                <a:cubicBezTo>
                  <a:pt x="11179" y="9889"/>
                  <a:pt x="11195" y="9880"/>
                  <a:pt x="11212" y="9872"/>
                </a:cubicBezTo>
              </a:path>
              <a:path w="5384" h="1440">
                <a:moveTo>
                  <a:pt x="11311" y="9451"/>
                </a:moveTo>
                <a:cubicBezTo>
                  <a:pt x="11267" y="9537"/>
                  <a:pt x="11222" y="9643"/>
                  <a:pt x="11237" y="9748"/>
                </a:cubicBezTo>
                <a:cubicBezTo>
                  <a:pt x="11252" y="9850"/>
                  <a:pt x="11261" y="9940"/>
                  <a:pt x="11261" y="10046"/>
                </a:cubicBezTo>
                <a:cubicBezTo>
                  <a:pt x="11261" y="10112"/>
                  <a:pt x="11239" y="10184"/>
                  <a:pt x="11212" y="10244"/>
                </a:cubicBezTo>
                <a:cubicBezTo>
                  <a:pt x="11190" y="10294"/>
                  <a:pt x="11188" y="10326"/>
                  <a:pt x="11162" y="10368"/>
                </a:cubicBezTo>
              </a:path>
              <a:path w="5384" h="1440">
                <a:moveTo>
                  <a:pt x="11559" y="9550"/>
                </a:moveTo>
                <a:cubicBezTo>
                  <a:pt x="11614" y="9517"/>
                  <a:pt x="11665" y="9525"/>
                  <a:pt x="11733" y="9525"/>
                </a:cubicBezTo>
                <a:cubicBezTo>
                  <a:pt x="11790" y="9525"/>
                  <a:pt x="11861" y="9506"/>
                  <a:pt x="11881" y="9475"/>
                </a:cubicBezTo>
              </a:path>
              <a:path w="5384" h="1440">
                <a:moveTo>
                  <a:pt x="11485" y="9649"/>
                </a:moveTo>
                <a:cubicBezTo>
                  <a:pt x="11494" y="9713"/>
                  <a:pt x="11509" y="9752"/>
                  <a:pt x="11509" y="9823"/>
                </a:cubicBezTo>
                <a:cubicBezTo>
                  <a:pt x="11509" y="9839"/>
                  <a:pt x="11509" y="9856"/>
                  <a:pt x="11509" y="9872"/>
                </a:cubicBezTo>
                <a:cubicBezTo>
                  <a:pt x="11534" y="9835"/>
                  <a:pt x="11556" y="9738"/>
                  <a:pt x="11609" y="9723"/>
                </a:cubicBezTo>
                <a:cubicBezTo>
                  <a:pt x="11662" y="9708"/>
                  <a:pt x="11746" y="9681"/>
                  <a:pt x="11807" y="9699"/>
                </a:cubicBezTo>
                <a:cubicBezTo>
                  <a:pt x="11867" y="9717"/>
                  <a:pt x="11914" y="9748"/>
                  <a:pt x="11931" y="9823"/>
                </a:cubicBezTo>
                <a:cubicBezTo>
                  <a:pt x="11947" y="9893"/>
                  <a:pt x="11954" y="9952"/>
                  <a:pt x="11931" y="10021"/>
                </a:cubicBezTo>
                <a:cubicBezTo>
                  <a:pt x="11897" y="10121"/>
                  <a:pt x="11806" y="10196"/>
                  <a:pt x="11733" y="10269"/>
                </a:cubicBezTo>
                <a:cubicBezTo>
                  <a:pt x="11686" y="10316"/>
                  <a:pt x="11618" y="10376"/>
                  <a:pt x="11559" y="10393"/>
                </a:cubicBezTo>
                <a:cubicBezTo>
                  <a:pt x="11460" y="10422"/>
                  <a:pt x="11500" y="10341"/>
                  <a:pt x="11509" y="10294"/>
                </a:cubicBezTo>
              </a:path>
              <a:path w="5384" h="1440">
                <a:moveTo>
                  <a:pt x="12055" y="9203"/>
                </a:moveTo>
                <a:cubicBezTo>
                  <a:pt x="12048" y="9258"/>
                  <a:pt x="12027" y="9330"/>
                  <a:pt x="12005" y="9376"/>
                </a:cubicBezTo>
                <a:cubicBezTo>
                  <a:pt x="11985" y="9418"/>
                  <a:pt x="11915" y="9493"/>
                  <a:pt x="12005" y="9525"/>
                </a:cubicBezTo>
                <a:cubicBezTo>
                  <a:pt x="12068" y="9548"/>
                  <a:pt x="12140" y="9484"/>
                  <a:pt x="12154" y="9426"/>
                </a:cubicBezTo>
                <a:cubicBezTo>
                  <a:pt x="12174" y="9342"/>
                  <a:pt x="12097" y="9327"/>
                  <a:pt x="12055" y="9302"/>
                </a:cubicBezTo>
                <a:cubicBezTo>
                  <a:pt x="12021" y="9268"/>
                  <a:pt x="12000" y="9260"/>
                  <a:pt x="11956" y="9277"/>
                </a:cubicBezTo>
              </a:path>
              <a:path w="5384" h="1440">
                <a:moveTo>
                  <a:pt x="12452" y="9723"/>
                </a:moveTo>
                <a:cubicBezTo>
                  <a:pt x="12543" y="9723"/>
                  <a:pt x="12634" y="9723"/>
                  <a:pt x="12725" y="9723"/>
                </a:cubicBezTo>
              </a:path>
              <a:path w="5384" h="1440">
                <a:moveTo>
                  <a:pt x="12452" y="9947"/>
                </a:moveTo>
                <a:cubicBezTo>
                  <a:pt x="12514" y="9926"/>
                  <a:pt x="12594" y="9908"/>
                  <a:pt x="12650" y="9897"/>
                </a:cubicBezTo>
                <a:cubicBezTo>
                  <a:pt x="12708" y="9885"/>
                  <a:pt x="12725" y="9902"/>
                  <a:pt x="12774" y="9872"/>
                </a:cubicBezTo>
              </a:path>
              <a:path w="5384" h="1440">
                <a:moveTo>
                  <a:pt x="13146" y="9351"/>
                </a:moveTo>
                <a:cubicBezTo>
                  <a:pt x="13138" y="9384"/>
                  <a:pt x="13130" y="9418"/>
                  <a:pt x="13122" y="9451"/>
                </a:cubicBezTo>
                <a:cubicBezTo>
                  <a:pt x="13153" y="9411"/>
                  <a:pt x="13194" y="9369"/>
                  <a:pt x="13221" y="9327"/>
                </a:cubicBezTo>
                <a:cubicBezTo>
                  <a:pt x="13293" y="9216"/>
                  <a:pt x="13267" y="9208"/>
                  <a:pt x="13395" y="9153"/>
                </a:cubicBezTo>
                <a:cubicBezTo>
                  <a:pt x="13453" y="9128"/>
                  <a:pt x="13518" y="9137"/>
                  <a:pt x="13568" y="9178"/>
                </a:cubicBezTo>
                <a:cubicBezTo>
                  <a:pt x="13613" y="9214"/>
                  <a:pt x="13616" y="9322"/>
                  <a:pt x="13618" y="9376"/>
                </a:cubicBezTo>
                <a:cubicBezTo>
                  <a:pt x="13622" y="9468"/>
                  <a:pt x="13603" y="9536"/>
                  <a:pt x="13593" y="9624"/>
                </a:cubicBezTo>
                <a:cubicBezTo>
                  <a:pt x="13579" y="9745"/>
                  <a:pt x="13519" y="9830"/>
                  <a:pt x="13469" y="9922"/>
                </a:cubicBezTo>
                <a:cubicBezTo>
                  <a:pt x="13436" y="9982"/>
                  <a:pt x="13434" y="10055"/>
                  <a:pt x="13370" y="10096"/>
                </a:cubicBezTo>
                <a:cubicBezTo>
                  <a:pt x="13328" y="10122"/>
                  <a:pt x="13289" y="10145"/>
                  <a:pt x="13246" y="10170"/>
                </a:cubicBezTo>
                <a:cubicBezTo>
                  <a:pt x="13200" y="10090"/>
                  <a:pt x="13190" y="10086"/>
                  <a:pt x="13221" y="9996"/>
                </a:cubicBezTo>
                <a:cubicBezTo>
                  <a:pt x="13241" y="9939"/>
                  <a:pt x="13265" y="9882"/>
                  <a:pt x="13320" y="9847"/>
                </a:cubicBezTo>
                <a:cubicBezTo>
                  <a:pt x="13409" y="9791"/>
                  <a:pt x="13415" y="9838"/>
                  <a:pt x="13469" y="9897"/>
                </a:cubicBezTo>
                <a:cubicBezTo>
                  <a:pt x="13514" y="9947"/>
                  <a:pt x="13494" y="10030"/>
                  <a:pt x="13494" y="10096"/>
                </a:cubicBezTo>
                <a:cubicBezTo>
                  <a:pt x="13494" y="10112"/>
                  <a:pt x="13494" y="10129"/>
                  <a:pt x="13494" y="10145"/>
                </a:cubicBezTo>
              </a:path>
              <a:path w="5384" h="1440">
                <a:moveTo>
                  <a:pt x="13990" y="9227"/>
                </a:moveTo>
                <a:cubicBezTo>
                  <a:pt x="13928" y="9306"/>
                  <a:pt x="13921" y="9363"/>
                  <a:pt x="13891" y="9451"/>
                </a:cubicBezTo>
                <a:cubicBezTo>
                  <a:pt x="13865" y="9528"/>
                  <a:pt x="13866" y="9590"/>
                  <a:pt x="13866" y="9674"/>
                </a:cubicBezTo>
                <a:cubicBezTo>
                  <a:pt x="13866" y="9761"/>
                  <a:pt x="13866" y="9912"/>
                  <a:pt x="13965" y="9947"/>
                </a:cubicBezTo>
                <a:cubicBezTo>
                  <a:pt x="14029" y="9970"/>
                  <a:pt x="14107" y="9892"/>
                  <a:pt x="14139" y="9847"/>
                </a:cubicBezTo>
                <a:cubicBezTo>
                  <a:pt x="14180" y="9788"/>
                  <a:pt x="14205" y="9693"/>
                  <a:pt x="14213" y="9624"/>
                </a:cubicBezTo>
                <a:cubicBezTo>
                  <a:pt x="14226" y="9510"/>
                  <a:pt x="14206" y="9407"/>
                  <a:pt x="14188" y="9302"/>
                </a:cubicBezTo>
                <a:cubicBezTo>
                  <a:pt x="14175" y="9222"/>
                  <a:pt x="14181" y="9177"/>
                  <a:pt x="14089" y="9153"/>
                </a:cubicBezTo>
                <a:cubicBezTo>
                  <a:pt x="14039" y="9153"/>
                  <a:pt x="14023" y="9153"/>
                  <a:pt x="13990" y="9153"/>
                </a:cubicBezTo>
              </a:path>
              <a:path w="5384" h="1440">
                <a:moveTo>
                  <a:pt x="13221" y="10145"/>
                </a:moveTo>
                <a:cubicBezTo>
                  <a:pt x="13317" y="10145"/>
                  <a:pt x="13386" y="10124"/>
                  <a:pt x="13469" y="10120"/>
                </a:cubicBezTo>
                <a:cubicBezTo>
                  <a:pt x="13571" y="10115"/>
                  <a:pt x="13690" y="10115"/>
                  <a:pt x="13791" y="10096"/>
                </a:cubicBezTo>
                <a:cubicBezTo>
                  <a:pt x="13880" y="10079"/>
                  <a:pt x="13977" y="10057"/>
                  <a:pt x="14064" y="10046"/>
                </a:cubicBezTo>
                <a:cubicBezTo>
                  <a:pt x="14149" y="10035"/>
                  <a:pt x="14293" y="10029"/>
                  <a:pt x="14362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Ink 12"/>
          <p:cNvSpPr/>
          <p:nvPr/>
        </p:nvSpPr>
        <p:spPr>
          <a:xfrm>
            <a:off x="6554880" y="3670200"/>
            <a:ext cx="1268280" cy="428760"/>
          </a:xfrm>
          <a:custGeom>
            <a:avLst/>
            <a:gdLst/>
            <a:ahLst/>
            <a:rect l="l" t="t" r="r" b="b"/>
            <a:pathLst>
              <a:path w="3523" h="1191">
                <a:moveTo>
                  <a:pt x="18579" y="10765"/>
                </a:moveTo>
                <a:cubicBezTo>
                  <a:pt x="18579" y="10782"/>
                  <a:pt x="18579" y="10798"/>
                  <a:pt x="18579" y="10815"/>
                </a:cubicBezTo>
                <a:cubicBezTo>
                  <a:pt x="18569" y="10746"/>
                  <a:pt x="18547" y="10692"/>
                  <a:pt x="18455" y="10716"/>
                </a:cubicBezTo>
                <a:cubicBezTo>
                  <a:pt x="18411" y="10727"/>
                  <a:pt x="18377" y="10810"/>
                  <a:pt x="18355" y="10840"/>
                </a:cubicBezTo>
                <a:cubicBezTo>
                  <a:pt x="18311" y="10899"/>
                  <a:pt x="18272" y="10952"/>
                  <a:pt x="18231" y="11013"/>
                </a:cubicBezTo>
                <a:cubicBezTo>
                  <a:pt x="18204" y="11052"/>
                  <a:pt x="18187" y="11159"/>
                  <a:pt x="18207" y="11212"/>
                </a:cubicBezTo>
                <a:cubicBezTo>
                  <a:pt x="18222" y="11253"/>
                  <a:pt x="18300" y="11304"/>
                  <a:pt x="18331" y="11336"/>
                </a:cubicBezTo>
                <a:cubicBezTo>
                  <a:pt x="18380" y="11386"/>
                  <a:pt x="18430" y="11404"/>
                  <a:pt x="18504" y="11385"/>
                </a:cubicBezTo>
                <a:cubicBezTo>
                  <a:pt x="18578" y="11366"/>
                  <a:pt x="18585" y="11363"/>
                  <a:pt x="18628" y="11311"/>
                </a:cubicBezTo>
              </a:path>
              <a:path w="3523" h="1191">
                <a:moveTo>
                  <a:pt x="18876" y="10840"/>
                </a:moveTo>
                <a:cubicBezTo>
                  <a:pt x="18830" y="10933"/>
                  <a:pt x="18733" y="11072"/>
                  <a:pt x="18752" y="11187"/>
                </a:cubicBezTo>
                <a:cubicBezTo>
                  <a:pt x="18758" y="11224"/>
                  <a:pt x="18805" y="11322"/>
                  <a:pt x="18852" y="11336"/>
                </a:cubicBezTo>
                <a:cubicBezTo>
                  <a:pt x="18925" y="11357"/>
                  <a:pt x="18989" y="11317"/>
                  <a:pt x="19050" y="11286"/>
                </a:cubicBezTo>
                <a:cubicBezTo>
                  <a:pt x="19146" y="11238"/>
                  <a:pt x="19145" y="11173"/>
                  <a:pt x="19174" y="11088"/>
                </a:cubicBezTo>
                <a:cubicBezTo>
                  <a:pt x="19198" y="11016"/>
                  <a:pt x="19218" y="10961"/>
                  <a:pt x="19174" y="10889"/>
                </a:cubicBezTo>
                <a:cubicBezTo>
                  <a:pt x="19133" y="10822"/>
                  <a:pt x="19068" y="10840"/>
                  <a:pt x="19000" y="10840"/>
                </a:cubicBezTo>
                <a:cubicBezTo>
                  <a:pt x="18952" y="10840"/>
                  <a:pt x="18921" y="10855"/>
                  <a:pt x="18876" y="10864"/>
                </a:cubicBezTo>
              </a:path>
              <a:path w="3523" h="1191">
                <a:moveTo>
                  <a:pt x="19546" y="10616"/>
                </a:moveTo>
                <a:cubicBezTo>
                  <a:pt x="19477" y="10676"/>
                  <a:pt x="19375" y="10712"/>
                  <a:pt x="19323" y="10790"/>
                </a:cubicBezTo>
                <a:cubicBezTo>
                  <a:pt x="19315" y="10807"/>
                  <a:pt x="19306" y="10823"/>
                  <a:pt x="19298" y="10840"/>
                </a:cubicBezTo>
                <a:cubicBezTo>
                  <a:pt x="19363" y="10891"/>
                  <a:pt x="19461" y="10911"/>
                  <a:pt x="19521" y="10964"/>
                </a:cubicBezTo>
                <a:cubicBezTo>
                  <a:pt x="19559" y="10998"/>
                  <a:pt x="19593" y="11065"/>
                  <a:pt x="19596" y="11112"/>
                </a:cubicBezTo>
                <a:cubicBezTo>
                  <a:pt x="19600" y="11173"/>
                  <a:pt x="19573" y="11227"/>
                  <a:pt x="19521" y="11261"/>
                </a:cubicBezTo>
                <a:cubicBezTo>
                  <a:pt x="19482" y="11286"/>
                  <a:pt x="19371" y="11353"/>
                  <a:pt x="19348" y="11311"/>
                </a:cubicBezTo>
                <a:cubicBezTo>
                  <a:pt x="19348" y="11303"/>
                  <a:pt x="19348" y="11294"/>
                  <a:pt x="19348" y="11286"/>
                </a:cubicBezTo>
              </a:path>
              <a:path w="3523" h="1191">
                <a:moveTo>
                  <a:pt x="19720" y="10592"/>
                </a:moveTo>
                <a:cubicBezTo>
                  <a:pt x="19767" y="10619"/>
                  <a:pt x="19859" y="10634"/>
                  <a:pt x="19918" y="10616"/>
                </a:cubicBezTo>
                <a:cubicBezTo>
                  <a:pt x="19967" y="10601"/>
                  <a:pt x="20043" y="10577"/>
                  <a:pt x="20092" y="10567"/>
                </a:cubicBezTo>
                <a:cubicBezTo>
                  <a:pt x="20108" y="10567"/>
                  <a:pt x="20125" y="10567"/>
                  <a:pt x="20141" y="10567"/>
                </a:cubicBezTo>
                <a:cubicBezTo>
                  <a:pt x="20162" y="10609"/>
                  <a:pt x="20144" y="10656"/>
                  <a:pt x="20117" y="10716"/>
                </a:cubicBezTo>
                <a:cubicBezTo>
                  <a:pt x="20082" y="10795"/>
                  <a:pt x="20071" y="10902"/>
                  <a:pt x="20067" y="10988"/>
                </a:cubicBezTo>
                <a:cubicBezTo>
                  <a:pt x="20065" y="11025"/>
                  <a:pt x="20006" y="11158"/>
                  <a:pt x="20042" y="11187"/>
                </a:cubicBezTo>
                <a:cubicBezTo>
                  <a:pt x="20067" y="11162"/>
                  <a:pt x="20075" y="11154"/>
                  <a:pt x="20092" y="11137"/>
                </a:cubicBezTo>
              </a:path>
              <a:path w="3523" h="1191">
                <a:moveTo>
                  <a:pt x="20365" y="10492"/>
                </a:moveTo>
                <a:cubicBezTo>
                  <a:pt x="20438" y="10487"/>
                  <a:pt x="20569" y="10493"/>
                  <a:pt x="20638" y="10468"/>
                </a:cubicBezTo>
                <a:cubicBezTo>
                  <a:pt x="20684" y="10451"/>
                  <a:pt x="20711" y="10405"/>
                  <a:pt x="20737" y="10368"/>
                </a:cubicBezTo>
              </a:path>
              <a:path w="3523" h="1191">
                <a:moveTo>
                  <a:pt x="20340" y="10517"/>
                </a:moveTo>
                <a:cubicBezTo>
                  <a:pt x="20307" y="10582"/>
                  <a:pt x="20265" y="10628"/>
                  <a:pt x="20315" y="10691"/>
                </a:cubicBezTo>
                <a:cubicBezTo>
                  <a:pt x="20359" y="10746"/>
                  <a:pt x="20410" y="10694"/>
                  <a:pt x="20464" y="10691"/>
                </a:cubicBezTo>
                <a:cubicBezTo>
                  <a:pt x="20538" y="10687"/>
                  <a:pt x="20587" y="10751"/>
                  <a:pt x="20613" y="10815"/>
                </a:cubicBezTo>
                <a:cubicBezTo>
                  <a:pt x="20650" y="10904"/>
                  <a:pt x="20636" y="10958"/>
                  <a:pt x="20588" y="11038"/>
                </a:cubicBezTo>
                <a:cubicBezTo>
                  <a:pt x="20571" y="11067"/>
                  <a:pt x="20517" y="11119"/>
                  <a:pt x="20489" y="11137"/>
                </a:cubicBezTo>
                <a:cubicBezTo>
                  <a:pt x="20420" y="11182"/>
                  <a:pt x="20354" y="11165"/>
                  <a:pt x="20315" y="11112"/>
                </a:cubicBezTo>
              </a:path>
              <a:path w="3523" h="1191">
                <a:moveTo>
                  <a:pt x="21010" y="10220"/>
                </a:moveTo>
                <a:cubicBezTo>
                  <a:pt x="20990" y="10297"/>
                  <a:pt x="20930" y="10434"/>
                  <a:pt x="20960" y="10492"/>
                </a:cubicBezTo>
                <a:cubicBezTo>
                  <a:pt x="21060" y="10480"/>
                  <a:pt x="21055" y="10474"/>
                  <a:pt x="21084" y="10393"/>
                </a:cubicBezTo>
                <a:cubicBezTo>
                  <a:pt x="21112" y="10314"/>
                  <a:pt x="21119" y="10286"/>
                  <a:pt x="21059" y="10220"/>
                </a:cubicBezTo>
                <a:cubicBezTo>
                  <a:pt x="21027" y="10185"/>
                  <a:pt x="21004" y="10195"/>
                  <a:pt x="20960" y="10195"/>
                </a:cubicBezTo>
              </a:path>
              <a:path w="3523" h="1191">
                <a:moveTo>
                  <a:pt x="21431" y="10567"/>
                </a:moveTo>
                <a:cubicBezTo>
                  <a:pt x="21491" y="10531"/>
                  <a:pt x="21556" y="10542"/>
                  <a:pt x="21630" y="10542"/>
                </a:cubicBezTo>
                <a:cubicBezTo>
                  <a:pt x="21679" y="10542"/>
                  <a:pt x="21696" y="10542"/>
                  <a:pt x="21729" y="10542"/>
                </a:cubicBezTo>
              </a:path>
              <a:path w="3523" h="1191">
                <a:moveTo>
                  <a:pt x="21481" y="10740"/>
                </a:moveTo>
                <a:cubicBezTo>
                  <a:pt x="21558" y="10720"/>
                  <a:pt x="21627" y="10701"/>
                  <a:pt x="21704" y="106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Ink 13"/>
          <p:cNvSpPr/>
          <p:nvPr/>
        </p:nvSpPr>
        <p:spPr>
          <a:xfrm>
            <a:off x="8062920" y="3589200"/>
            <a:ext cx="384120" cy="554040"/>
          </a:xfrm>
          <a:custGeom>
            <a:avLst/>
            <a:gdLst/>
            <a:ahLst/>
            <a:rect l="l" t="t" r="r" b="b"/>
            <a:pathLst>
              <a:path w="1067" h="1539">
                <a:moveTo>
                  <a:pt x="22523" y="10145"/>
                </a:moveTo>
                <a:cubicBezTo>
                  <a:pt x="22542" y="10111"/>
                  <a:pt x="22584" y="10010"/>
                  <a:pt x="22622" y="9996"/>
                </a:cubicBezTo>
                <a:cubicBezTo>
                  <a:pt x="22677" y="9976"/>
                  <a:pt x="22713" y="10038"/>
                  <a:pt x="22746" y="10071"/>
                </a:cubicBezTo>
                <a:cubicBezTo>
                  <a:pt x="22807" y="10132"/>
                  <a:pt x="22770" y="10248"/>
                  <a:pt x="22746" y="10319"/>
                </a:cubicBezTo>
                <a:cubicBezTo>
                  <a:pt x="22712" y="10419"/>
                  <a:pt x="22671" y="10499"/>
                  <a:pt x="22622" y="10592"/>
                </a:cubicBezTo>
                <a:cubicBezTo>
                  <a:pt x="22578" y="10674"/>
                  <a:pt x="22572" y="10710"/>
                  <a:pt x="22473" y="10716"/>
                </a:cubicBezTo>
                <a:cubicBezTo>
                  <a:pt x="22428" y="10716"/>
                  <a:pt x="22415" y="10720"/>
                  <a:pt x="22399" y="10691"/>
                </a:cubicBezTo>
                <a:cubicBezTo>
                  <a:pt x="22404" y="10652"/>
                  <a:pt x="22420" y="10582"/>
                  <a:pt x="22473" y="10567"/>
                </a:cubicBezTo>
                <a:cubicBezTo>
                  <a:pt x="22558" y="10543"/>
                  <a:pt x="22584" y="10616"/>
                  <a:pt x="22622" y="10666"/>
                </a:cubicBezTo>
                <a:cubicBezTo>
                  <a:pt x="22665" y="10723"/>
                  <a:pt x="22690" y="10724"/>
                  <a:pt x="22746" y="10691"/>
                </a:cubicBezTo>
              </a:path>
              <a:path w="1067" h="1539">
                <a:moveTo>
                  <a:pt x="23068" y="10120"/>
                </a:moveTo>
                <a:cubicBezTo>
                  <a:pt x="23164" y="10089"/>
                  <a:pt x="23280" y="10073"/>
                  <a:pt x="23366" y="10021"/>
                </a:cubicBezTo>
                <a:cubicBezTo>
                  <a:pt x="23389" y="9998"/>
                  <a:pt x="23397" y="9994"/>
                  <a:pt x="23391" y="9971"/>
                </a:cubicBezTo>
              </a:path>
              <a:path w="1067" h="1539">
                <a:moveTo>
                  <a:pt x="22994" y="10145"/>
                </a:moveTo>
                <a:cubicBezTo>
                  <a:pt x="22978" y="10176"/>
                  <a:pt x="22894" y="10298"/>
                  <a:pt x="22969" y="10319"/>
                </a:cubicBezTo>
                <a:cubicBezTo>
                  <a:pt x="23051" y="10342"/>
                  <a:pt x="23137" y="10333"/>
                  <a:pt x="23217" y="10368"/>
                </a:cubicBezTo>
                <a:cubicBezTo>
                  <a:pt x="23301" y="10405"/>
                  <a:pt x="23331" y="10458"/>
                  <a:pt x="23366" y="10517"/>
                </a:cubicBezTo>
                <a:cubicBezTo>
                  <a:pt x="23396" y="10568"/>
                  <a:pt x="23362" y="10646"/>
                  <a:pt x="23292" y="10666"/>
                </a:cubicBezTo>
                <a:cubicBezTo>
                  <a:pt x="23216" y="10688"/>
                  <a:pt x="23125" y="10691"/>
                  <a:pt x="23044" y="10691"/>
                </a:cubicBezTo>
              </a:path>
              <a:path w="1067" h="1539">
                <a:moveTo>
                  <a:pt x="22448" y="10889"/>
                </a:moveTo>
                <a:cubicBezTo>
                  <a:pt x="22574" y="10889"/>
                  <a:pt x="22672" y="10874"/>
                  <a:pt x="22796" y="10864"/>
                </a:cubicBezTo>
                <a:cubicBezTo>
                  <a:pt x="22907" y="10855"/>
                  <a:pt x="23008" y="10853"/>
                  <a:pt x="23118" y="10840"/>
                </a:cubicBezTo>
                <a:cubicBezTo>
                  <a:pt x="23153" y="10836"/>
                  <a:pt x="23338" y="10840"/>
                  <a:pt x="23292" y="10840"/>
                </a:cubicBezTo>
              </a:path>
              <a:path w="1067" h="1539">
                <a:moveTo>
                  <a:pt x="23019" y="11013"/>
                </a:moveTo>
                <a:cubicBezTo>
                  <a:pt x="23103" y="11097"/>
                  <a:pt x="23136" y="11143"/>
                  <a:pt x="23192" y="11237"/>
                </a:cubicBezTo>
                <a:cubicBezTo>
                  <a:pt x="23236" y="11311"/>
                  <a:pt x="23314" y="11385"/>
                  <a:pt x="23366" y="11460"/>
                </a:cubicBezTo>
                <a:cubicBezTo>
                  <a:pt x="23398" y="11506"/>
                  <a:pt x="23415" y="11502"/>
                  <a:pt x="23465" y="11509"/>
                </a:cubicBezTo>
              </a:path>
              <a:path w="1067" h="1539">
                <a:moveTo>
                  <a:pt x="23366" y="11112"/>
                </a:moveTo>
                <a:cubicBezTo>
                  <a:pt x="23279" y="11256"/>
                  <a:pt x="23223" y="11367"/>
                  <a:pt x="23118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Ink 14"/>
          <p:cNvSpPr/>
          <p:nvPr/>
        </p:nvSpPr>
        <p:spPr>
          <a:xfrm>
            <a:off x="3419640" y="4249800"/>
            <a:ext cx="1063440" cy="420480"/>
          </a:xfrm>
          <a:custGeom>
            <a:avLst/>
            <a:gdLst/>
            <a:ahLst/>
            <a:rect l="l" t="t" r="r" b="b"/>
            <a:pathLst>
              <a:path w="2953" h="1167">
                <a:moveTo>
                  <a:pt x="9500" y="12700"/>
                </a:moveTo>
                <a:cubicBezTo>
                  <a:pt x="9520" y="12761"/>
                  <a:pt x="9559" y="12777"/>
                  <a:pt x="9624" y="12725"/>
                </a:cubicBezTo>
                <a:cubicBezTo>
                  <a:pt x="9632" y="12717"/>
                  <a:pt x="9641" y="12708"/>
                  <a:pt x="9649" y="12700"/>
                </a:cubicBezTo>
                <a:cubicBezTo>
                  <a:pt x="9592" y="12677"/>
                  <a:pt x="9536" y="12693"/>
                  <a:pt x="9550" y="12750"/>
                </a:cubicBezTo>
              </a:path>
              <a:path w="2953" h="1167">
                <a:moveTo>
                  <a:pt x="9674" y="11807"/>
                </a:moveTo>
                <a:cubicBezTo>
                  <a:pt x="9738" y="11846"/>
                  <a:pt x="9820" y="11852"/>
                  <a:pt x="9897" y="11881"/>
                </a:cubicBezTo>
                <a:cubicBezTo>
                  <a:pt x="9925" y="11891"/>
                  <a:pt x="10071" y="11912"/>
                  <a:pt x="10071" y="11956"/>
                </a:cubicBezTo>
                <a:cubicBezTo>
                  <a:pt x="10071" y="11991"/>
                  <a:pt x="10058" y="12137"/>
                  <a:pt x="10046" y="12179"/>
                </a:cubicBezTo>
                <a:cubicBezTo>
                  <a:pt x="10029" y="12236"/>
                  <a:pt x="10021" y="12283"/>
                  <a:pt x="10021" y="12353"/>
                </a:cubicBezTo>
                <a:cubicBezTo>
                  <a:pt x="10021" y="12456"/>
                  <a:pt x="10000" y="12545"/>
                  <a:pt x="9996" y="12650"/>
                </a:cubicBezTo>
                <a:cubicBezTo>
                  <a:pt x="9993" y="12722"/>
                  <a:pt x="9971" y="12841"/>
                  <a:pt x="10021" y="12824"/>
                </a:cubicBezTo>
              </a:path>
              <a:path w="2953" h="1167">
                <a:moveTo>
                  <a:pt x="10368" y="12055"/>
                </a:moveTo>
                <a:cubicBezTo>
                  <a:pt x="10348" y="12130"/>
                  <a:pt x="10332" y="12185"/>
                  <a:pt x="10319" y="12254"/>
                </a:cubicBezTo>
                <a:cubicBezTo>
                  <a:pt x="10298" y="12366"/>
                  <a:pt x="10269" y="12439"/>
                  <a:pt x="10269" y="12551"/>
                </a:cubicBezTo>
                <a:cubicBezTo>
                  <a:pt x="10269" y="12625"/>
                  <a:pt x="10248" y="12723"/>
                  <a:pt x="10319" y="12774"/>
                </a:cubicBezTo>
                <a:cubicBezTo>
                  <a:pt x="10381" y="12819"/>
                  <a:pt x="10389" y="12869"/>
                  <a:pt x="10468" y="12874"/>
                </a:cubicBezTo>
                <a:cubicBezTo>
                  <a:pt x="10542" y="12878"/>
                  <a:pt x="10587" y="12839"/>
                  <a:pt x="10616" y="12774"/>
                </a:cubicBezTo>
                <a:cubicBezTo>
                  <a:pt x="10641" y="12718"/>
                  <a:pt x="10679" y="12586"/>
                  <a:pt x="10666" y="12526"/>
                </a:cubicBezTo>
                <a:cubicBezTo>
                  <a:pt x="10639" y="12401"/>
                  <a:pt x="10626" y="12331"/>
                  <a:pt x="10567" y="12204"/>
                </a:cubicBezTo>
                <a:cubicBezTo>
                  <a:pt x="10534" y="12133"/>
                  <a:pt x="10484" y="12137"/>
                  <a:pt x="10443" y="12080"/>
                </a:cubicBezTo>
                <a:cubicBezTo>
                  <a:pt x="10421" y="12036"/>
                  <a:pt x="10418" y="12015"/>
                  <a:pt x="10393" y="12055"/>
                </a:cubicBezTo>
              </a:path>
              <a:path w="2953" h="1167">
                <a:moveTo>
                  <a:pt x="10740" y="11956"/>
                </a:moveTo>
                <a:cubicBezTo>
                  <a:pt x="10795" y="11964"/>
                  <a:pt x="10857" y="11966"/>
                  <a:pt x="10914" y="11981"/>
                </a:cubicBezTo>
                <a:cubicBezTo>
                  <a:pt x="11010" y="12007"/>
                  <a:pt x="11108" y="12026"/>
                  <a:pt x="11212" y="12030"/>
                </a:cubicBezTo>
                <a:cubicBezTo>
                  <a:pt x="11308" y="12034"/>
                  <a:pt x="11320" y="12040"/>
                  <a:pt x="11311" y="12105"/>
                </a:cubicBezTo>
                <a:cubicBezTo>
                  <a:pt x="11301" y="12171"/>
                  <a:pt x="11280" y="12234"/>
                  <a:pt x="11261" y="12303"/>
                </a:cubicBezTo>
                <a:cubicBezTo>
                  <a:pt x="11240" y="12382"/>
                  <a:pt x="11215" y="12468"/>
                  <a:pt x="11212" y="12551"/>
                </a:cubicBezTo>
                <a:cubicBezTo>
                  <a:pt x="11209" y="12640"/>
                  <a:pt x="11195" y="12873"/>
                  <a:pt x="11237" y="12874"/>
                </a:cubicBezTo>
              </a:path>
              <a:path w="2953" h="1167">
                <a:moveTo>
                  <a:pt x="11658" y="11906"/>
                </a:moveTo>
                <a:cubicBezTo>
                  <a:pt x="11658" y="11998"/>
                  <a:pt x="11679" y="12065"/>
                  <a:pt x="11683" y="12154"/>
                </a:cubicBezTo>
                <a:cubicBezTo>
                  <a:pt x="11687" y="12239"/>
                  <a:pt x="11725" y="12322"/>
                  <a:pt x="11733" y="12402"/>
                </a:cubicBezTo>
                <a:cubicBezTo>
                  <a:pt x="11745" y="12516"/>
                  <a:pt x="11746" y="12641"/>
                  <a:pt x="11757" y="12750"/>
                </a:cubicBezTo>
                <a:cubicBezTo>
                  <a:pt x="11766" y="12835"/>
                  <a:pt x="11740" y="12903"/>
                  <a:pt x="11782" y="12973"/>
                </a:cubicBezTo>
              </a:path>
              <a:path w="2953" h="1167">
                <a:moveTo>
                  <a:pt x="12105" y="12700"/>
                </a:moveTo>
                <a:cubicBezTo>
                  <a:pt x="12170" y="12675"/>
                  <a:pt x="12233" y="12655"/>
                  <a:pt x="12303" y="12650"/>
                </a:cubicBezTo>
                <a:cubicBezTo>
                  <a:pt x="12311" y="12650"/>
                  <a:pt x="12320" y="12650"/>
                  <a:pt x="12328" y="12650"/>
                </a:cubicBezTo>
              </a:path>
              <a:path w="2953" h="1167">
                <a:moveTo>
                  <a:pt x="12154" y="12824"/>
                </a:moveTo>
                <a:cubicBezTo>
                  <a:pt x="12277" y="12891"/>
                  <a:pt x="12306" y="12875"/>
                  <a:pt x="12452" y="12849"/>
                </a:cubicBezTo>
              </a:path>
              <a:path w="2953" h="1167">
                <a:moveTo>
                  <a:pt x="11832" y="12229"/>
                </a:moveTo>
                <a:cubicBezTo>
                  <a:pt x="11863" y="12283"/>
                  <a:pt x="11902" y="12323"/>
                  <a:pt x="11931" y="12378"/>
                </a:cubicBezTo>
                <a:cubicBezTo>
                  <a:pt x="11974" y="12457"/>
                  <a:pt x="11962" y="12504"/>
                  <a:pt x="12030" y="12576"/>
                </a:cubicBezTo>
                <a:cubicBezTo>
                  <a:pt x="12088" y="12638"/>
                  <a:pt x="12132" y="12728"/>
                  <a:pt x="12204" y="12774"/>
                </a:cubicBezTo>
                <a:cubicBezTo>
                  <a:pt x="12248" y="12796"/>
                  <a:pt x="12259" y="12799"/>
                  <a:pt x="12278" y="12824"/>
                </a:cubicBezTo>
              </a:path>
              <a:path w="2953" h="1167">
                <a:moveTo>
                  <a:pt x="12129" y="12129"/>
                </a:moveTo>
                <a:cubicBezTo>
                  <a:pt x="12069" y="12214"/>
                  <a:pt x="12027" y="12287"/>
                  <a:pt x="11981" y="12378"/>
                </a:cubicBezTo>
                <a:cubicBezTo>
                  <a:pt x="11948" y="12445"/>
                  <a:pt x="11937" y="12517"/>
                  <a:pt x="11906" y="12576"/>
                </a:cubicBezTo>
                <a:cubicBezTo>
                  <a:pt x="11880" y="12625"/>
                  <a:pt x="11828" y="12678"/>
                  <a:pt x="11807" y="12725"/>
                </a:cubicBezTo>
                <a:cubicBezTo>
                  <a:pt x="11807" y="12733"/>
                  <a:pt x="11807" y="12742"/>
                  <a:pt x="11807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Ink 15"/>
          <p:cNvSpPr/>
          <p:nvPr/>
        </p:nvSpPr>
        <p:spPr>
          <a:xfrm>
            <a:off x="4848120" y="4303800"/>
            <a:ext cx="947880" cy="795240"/>
          </a:xfrm>
          <a:custGeom>
            <a:avLst/>
            <a:gdLst/>
            <a:ahLst/>
            <a:rect l="l" t="t" r="r" b="b"/>
            <a:pathLst>
              <a:path w="2630" h="2208">
                <a:moveTo>
                  <a:pt x="13494" y="12154"/>
                </a:moveTo>
                <a:cubicBezTo>
                  <a:pt x="13536" y="12101"/>
                  <a:pt x="13568" y="12054"/>
                  <a:pt x="13618" y="12005"/>
                </a:cubicBezTo>
                <a:cubicBezTo>
                  <a:pt x="13669" y="11955"/>
                  <a:pt x="13745" y="11937"/>
                  <a:pt x="13816" y="11956"/>
                </a:cubicBezTo>
                <a:cubicBezTo>
                  <a:pt x="13880" y="11973"/>
                  <a:pt x="13912" y="12027"/>
                  <a:pt x="13940" y="12080"/>
                </a:cubicBezTo>
                <a:cubicBezTo>
                  <a:pt x="14001" y="12197"/>
                  <a:pt x="14001" y="12256"/>
                  <a:pt x="13990" y="12378"/>
                </a:cubicBezTo>
                <a:cubicBezTo>
                  <a:pt x="13980" y="12484"/>
                  <a:pt x="13945" y="12541"/>
                  <a:pt x="13891" y="12626"/>
                </a:cubicBezTo>
                <a:cubicBezTo>
                  <a:pt x="13840" y="12706"/>
                  <a:pt x="13817" y="12741"/>
                  <a:pt x="13742" y="12799"/>
                </a:cubicBezTo>
                <a:cubicBezTo>
                  <a:pt x="13691" y="12839"/>
                  <a:pt x="13649" y="12847"/>
                  <a:pt x="13593" y="12824"/>
                </a:cubicBezTo>
                <a:cubicBezTo>
                  <a:pt x="13528" y="12797"/>
                  <a:pt x="13473" y="12755"/>
                  <a:pt x="13494" y="12675"/>
                </a:cubicBezTo>
                <a:cubicBezTo>
                  <a:pt x="13511" y="12612"/>
                  <a:pt x="13521" y="12580"/>
                  <a:pt x="13593" y="12576"/>
                </a:cubicBezTo>
                <a:cubicBezTo>
                  <a:pt x="13689" y="12570"/>
                  <a:pt x="13704" y="12625"/>
                  <a:pt x="13742" y="12700"/>
                </a:cubicBezTo>
                <a:cubicBezTo>
                  <a:pt x="13771" y="12757"/>
                  <a:pt x="13827" y="12810"/>
                  <a:pt x="13841" y="12874"/>
                </a:cubicBezTo>
                <a:cubicBezTo>
                  <a:pt x="13855" y="12936"/>
                  <a:pt x="13832" y="12952"/>
                  <a:pt x="13891" y="12923"/>
                </a:cubicBezTo>
              </a:path>
              <a:path w="2630" h="2208">
                <a:moveTo>
                  <a:pt x="14213" y="12030"/>
                </a:moveTo>
                <a:cubicBezTo>
                  <a:pt x="14213" y="12107"/>
                  <a:pt x="14211" y="12184"/>
                  <a:pt x="14188" y="12254"/>
                </a:cubicBezTo>
                <a:cubicBezTo>
                  <a:pt x="14147" y="12379"/>
                  <a:pt x="14139" y="12448"/>
                  <a:pt x="14139" y="12576"/>
                </a:cubicBezTo>
                <a:cubicBezTo>
                  <a:pt x="14139" y="12672"/>
                  <a:pt x="14173" y="12710"/>
                  <a:pt x="14238" y="12774"/>
                </a:cubicBezTo>
                <a:cubicBezTo>
                  <a:pt x="14280" y="12815"/>
                  <a:pt x="14320" y="12864"/>
                  <a:pt x="14387" y="12849"/>
                </a:cubicBezTo>
                <a:cubicBezTo>
                  <a:pt x="14468" y="12831"/>
                  <a:pt x="14560" y="12753"/>
                  <a:pt x="14585" y="12675"/>
                </a:cubicBezTo>
                <a:cubicBezTo>
                  <a:pt x="14610" y="12596"/>
                  <a:pt x="14610" y="12512"/>
                  <a:pt x="14610" y="12427"/>
                </a:cubicBezTo>
                <a:cubicBezTo>
                  <a:pt x="14610" y="12345"/>
                  <a:pt x="14606" y="12276"/>
                  <a:pt x="14560" y="12204"/>
                </a:cubicBezTo>
                <a:cubicBezTo>
                  <a:pt x="14535" y="12164"/>
                  <a:pt x="14457" y="12121"/>
                  <a:pt x="14412" y="12129"/>
                </a:cubicBezTo>
                <a:cubicBezTo>
                  <a:pt x="14387" y="12137"/>
                  <a:pt x="14362" y="12146"/>
                  <a:pt x="14337" y="12154"/>
                </a:cubicBezTo>
              </a:path>
              <a:path w="2630" h="2208">
                <a:moveTo>
                  <a:pt x="13469" y="12799"/>
                </a:moveTo>
                <a:cubicBezTo>
                  <a:pt x="13514" y="12890"/>
                  <a:pt x="13688" y="12870"/>
                  <a:pt x="13816" y="12874"/>
                </a:cubicBezTo>
                <a:cubicBezTo>
                  <a:pt x="13932" y="12877"/>
                  <a:pt x="14044" y="12849"/>
                  <a:pt x="14163" y="12849"/>
                </a:cubicBezTo>
                <a:cubicBezTo>
                  <a:pt x="14246" y="12849"/>
                  <a:pt x="14354" y="12840"/>
                  <a:pt x="14436" y="12824"/>
                </a:cubicBezTo>
                <a:cubicBezTo>
                  <a:pt x="14523" y="12807"/>
                  <a:pt x="14594" y="12799"/>
                  <a:pt x="14684" y="12799"/>
                </a:cubicBezTo>
                <a:cubicBezTo>
                  <a:pt x="14692" y="12799"/>
                  <a:pt x="14701" y="12799"/>
                  <a:pt x="14709" y="12799"/>
                </a:cubicBezTo>
              </a:path>
              <a:path w="2630" h="2208">
                <a:moveTo>
                  <a:pt x="14089" y="13196"/>
                </a:moveTo>
                <a:cubicBezTo>
                  <a:pt x="14127" y="13317"/>
                  <a:pt x="14179" y="13409"/>
                  <a:pt x="14238" y="13519"/>
                </a:cubicBezTo>
                <a:cubicBezTo>
                  <a:pt x="14300" y="13634"/>
                  <a:pt x="14366" y="13710"/>
                  <a:pt x="14436" y="13816"/>
                </a:cubicBezTo>
                <a:cubicBezTo>
                  <a:pt x="14494" y="13905"/>
                  <a:pt x="14576" y="14023"/>
                  <a:pt x="14660" y="14089"/>
                </a:cubicBezTo>
                <a:cubicBezTo>
                  <a:pt x="14676" y="14097"/>
                  <a:pt x="14693" y="14106"/>
                  <a:pt x="14709" y="14114"/>
                </a:cubicBezTo>
              </a:path>
              <a:path w="2630" h="2208">
                <a:moveTo>
                  <a:pt x="14660" y="13271"/>
                </a:moveTo>
                <a:cubicBezTo>
                  <a:pt x="14561" y="13368"/>
                  <a:pt x="14481" y="13473"/>
                  <a:pt x="14412" y="13593"/>
                </a:cubicBezTo>
                <a:cubicBezTo>
                  <a:pt x="14334" y="13728"/>
                  <a:pt x="14292" y="13844"/>
                  <a:pt x="14263" y="13990"/>
                </a:cubicBezTo>
                <a:cubicBezTo>
                  <a:pt x="14240" y="14081"/>
                  <a:pt x="14234" y="14107"/>
                  <a:pt x="14213" y="14163"/>
                </a:cubicBezTo>
              </a:path>
              <a:path w="2630" h="2208">
                <a:moveTo>
                  <a:pt x="15081" y="12923"/>
                </a:moveTo>
                <a:cubicBezTo>
                  <a:pt x="15089" y="12923"/>
                  <a:pt x="15098" y="12923"/>
                  <a:pt x="15106" y="12923"/>
                </a:cubicBezTo>
              </a:path>
              <a:path w="2630" h="2208">
                <a:moveTo>
                  <a:pt x="15404" y="12254"/>
                </a:moveTo>
                <a:cubicBezTo>
                  <a:pt x="15452" y="12343"/>
                  <a:pt x="15472" y="12372"/>
                  <a:pt x="15528" y="12452"/>
                </a:cubicBezTo>
                <a:cubicBezTo>
                  <a:pt x="15586" y="12534"/>
                  <a:pt x="15634" y="12577"/>
                  <a:pt x="15701" y="12650"/>
                </a:cubicBezTo>
                <a:cubicBezTo>
                  <a:pt x="15781" y="12737"/>
                  <a:pt x="15873" y="12813"/>
                  <a:pt x="15949" y="12898"/>
                </a:cubicBezTo>
                <a:cubicBezTo>
                  <a:pt x="15988" y="12937"/>
                  <a:pt x="15990" y="12954"/>
                  <a:pt x="16024" y="12948"/>
                </a:cubicBezTo>
              </a:path>
              <a:path w="2630" h="2208">
                <a:moveTo>
                  <a:pt x="15900" y="12229"/>
                </a:moveTo>
                <a:cubicBezTo>
                  <a:pt x="15833" y="12267"/>
                  <a:pt x="15826" y="12300"/>
                  <a:pt x="15776" y="12353"/>
                </a:cubicBezTo>
                <a:cubicBezTo>
                  <a:pt x="15709" y="12425"/>
                  <a:pt x="15632" y="12495"/>
                  <a:pt x="15577" y="12576"/>
                </a:cubicBezTo>
                <a:cubicBezTo>
                  <a:pt x="15521" y="12659"/>
                  <a:pt x="15451" y="12727"/>
                  <a:pt x="15379" y="12799"/>
                </a:cubicBezTo>
              </a:path>
              <a:path w="2630" h="2208">
                <a:moveTo>
                  <a:pt x="13891" y="13593"/>
                </a:moveTo>
                <a:cubicBezTo>
                  <a:pt x="14003" y="13576"/>
                  <a:pt x="14129" y="13569"/>
                  <a:pt x="14238" y="13543"/>
                </a:cubicBezTo>
                <a:cubicBezTo>
                  <a:pt x="14355" y="13516"/>
                  <a:pt x="14470" y="13511"/>
                  <a:pt x="14585" y="13469"/>
                </a:cubicBezTo>
                <a:cubicBezTo>
                  <a:pt x="14671" y="13438"/>
                  <a:pt x="14962" y="13326"/>
                  <a:pt x="15007" y="13246"/>
                </a:cubicBezTo>
                <a:cubicBezTo>
                  <a:pt x="15007" y="13238"/>
                  <a:pt x="15007" y="13229"/>
                  <a:pt x="15007" y="13221"/>
                </a:cubicBezTo>
              </a:path>
              <a:path w="2630" h="2208">
                <a:moveTo>
                  <a:pt x="15156" y="12601"/>
                </a:moveTo>
                <a:cubicBezTo>
                  <a:pt x="15301" y="12506"/>
                  <a:pt x="15417" y="12457"/>
                  <a:pt x="15553" y="12378"/>
                </a:cubicBezTo>
                <a:cubicBezTo>
                  <a:pt x="15650" y="12321"/>
                  <a:pt x="15712" y="12267"/>
                  <a:pt x="15825" y="12229"/>
                </a:cubicBezTo>
                <a:cubicBezTo>
                  <a:pt x="15898" y="12205"/>
                  <a:pt x="15963" y="12174"/>
                  <a:pt x="16024" y="12129"/>
                </a:cubicBezTo>
                <a:cubicBezTo>
                  <a:pt x="16073" y="12093"/>
                  <a:pt x="16095" y="12074"/>
                  <a:pt x="16073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Ink 16"/>
          <p:cNvSpPr/>
          <p:nvPr/>
        </p:nvSpPr>
        <p:spPr>
          <a:xfrm>
            <a:off x="6572160" y="4286160"/>
            <a:ext cx="2259000" cy="662040"/>
          </a:xfrm>
          <a:custGeom>
            <a:avLst/>
            <a:gdLst/>
            <a:ahLst/>
            <a:rect l="l" t="t" r="r" b="b"/>
            <a:pathLst>
              <a:path w="6277" h="1837">
                <a:moveTo>
                  <a:pt x="18554" y="12948"/>
                </a:moveTo>
                <a:cubicBezTo>
                  <a:pt x="18526" y="12976"/>
                  <a:pt x="18517" y="12989"/>
                  <a:pt x="18529" y="13022"/>
                </a:cubicBezTo>
              </a:path>
              <a:path w="6277" h="1837">
                <a:moveTo>
                  <a:pt x="18777" y="12378"/>
                </a:moveTo>
                <a:cubicBezTo>
                  <a:pt x="18938" y="12249"/>
                  <a:pt x="18939" y="12229"/>
                  <a:pt x="19124" y="12229"/>
                </a:cubicBezTo>
                <a:cubicBezTo>
                  <a:pt x="19197" y="12229"/>
                  <a:pt x="19251" y="12298"/>
                  <a:pt x="19248" y="12378"/>
                </a:cubicBezTo>
                <a:cubicBezTo>
                  <a:pt x="19245" y="12452"/>
                  <a:pt x="19193" y="12555"/>
                  <a:pt x="19174" y="12626"/>
                </a:cubicBezTo>
                <a:cubicBezTo>
                  <a:pt x="19144" y="12739"/>
                  <a:pt x="19053" y="12801"/>
                  <a:pt x="19000" y="12898"/>
                </a:cubicBezTo>
                <a:cubicBezTo>
                  <a:pt x="18952" y="12986"/>
                  <a:pt x="18913" y="12981"/>
                  <a:pt x="18827" y="12948"/>
                </a:cubicBezTo>
                <a:cubicBezTo>
                  <a:pt x="18836" y="12829"/>
                  <a:pt x="18839" y="12773"/>
                  <a:pt x="18926" y="12700"/>
                </a:cubicBezTo>
                <a:cubicBezTo>
                  <a:pt x="18934" y="12692"/>
                  <a:pt x="18943" y="12683"/>
                  <a:pt x="18951" y="12675"/>
                </a:cubicBezTo>
                <a:cubicBezTo>
                  <a:pt x="18986" y="12710"/>
                  <a:pt x="19038" y="12748"/>
                  <a:pt x="19050" y="12799"/>
                </a:cubicBezTo>
                <a:cubicBezTo>
                  <a:pt x="19059" y="12836"/>
                  <a:pt x="19056" y="12943"/>
                  <a:pt x="19075" y="12973"/>
                </a:cubicBezTo>
                <a:cubicBezTo>
                  <a:pt x="19083" y="12973"/>
                  <a:pt x="19092" y="12973"/>
                  <a:pt x="19100" y="12973"/>
                </a:cubicBezTo>
              </a:path>
              <a:path w="6277" h="1837">
                <a:moveTo>
                  <a:pt x="19521" y="12154"/>
                </a:moveTo>
                <a:cubicBezTo>
                  <a:pt x="19596" y="12154"/>
                  <a:pt x="19660" y="12141"/>
                  <a:pt x="19720" y="12129"/>
                </a:cubicBezTo>
                <a:cubicBezTo>
                  <a:pt x="19778" y="12117"/>
                  <a:pt x="19780" y="12137"/>
                  <a:pt x="19794" y="12080"/>
                </a:cubicBezTo>
              </a:path>
              <a:path w="6277" h="1837">
                <a:moveTo>
                  <a:pt x="19546" y="12129"/>
                </a:moveTo>
                <a:cubicBezTo>
                  <a:pt x="19506" y="12209"/>
                  <a:pt x="19461" y="12308"/>
                  <a:pt x="19447" y="12402"/>
                </a:cubicBezTo>
                <a:cubicBezTo>
                  <a:pt x="19438" y="12464"/>
                  <a:pt x="19430" y="12515"/>
                  <a:pt x="19422" y="12576"/>
                </a:cubicBezTo>
                <a:cubicBezTo>
                  <a:pt x="19486" y="12567"/>
                  <a:pt x="19495" y="12512"/>
                  <a:pt x="19546" y="12502"/>
                </a:cubicBezTo>
                <a:cubicBezTo>
                  <a:pt x="19602" y="12490"/>
                  <a:pt x="19702" y="12491"/>
                  <a:pt x="19745" y="12526"/>
                </a:cubicBezTo>
                <a:cubicBezTo>
                  <a:pt x="19787" y="12560"/>
                  <a:pt x="19858" y="12617"/>
                  <a:pt x="19844" y="12675"/>
                </a:cubicBezTo>
                <a:cubicBezTo>
                  <a:pt x="19828" y="12744"/>
                  <a:pt x="19802" y="12787"/>
                  <a:pt x="19769" y="12849"/>
                </a:cubicBezTo>
                <a:cubicBezTo>
                  <a:pt x="19741" y="12903"/>
                  <a:pt x="19692" y="13005"/>
                  <a:pt x="19621" y="12998"/>
                </a:cubicBezTo>
                <a:cubicBezTo>
                  <a:pt x="19613" y="12990"/>
                  <a:pt x="19604" y="12981"/>
                  <a:pt x="19596" y="12973"/>
                </a:cubicBezTo>
              </a:path>
              <a:path w="6277" h="1837">
                <a:moveTo>
                  <a:pt x="20216" y="12030"/>
                </a:moveTo>
                <a:cubicBezTo>
                  <a:pt x="20116" y="12044"/>
                  <a:pt x="20125" y="12123"/>
                  <a:pt x="20042" y="12179"/>
                </a:cubicBezTo>
                <a:cubicBezTo>
                  <a:pt x="19988" y="12215"/>
                  <a:pt x="19965" y="12257"/>
                  <a:pt x="19918" y="12303"/>
                </a:cubicBezTo>
                <a:cubicBezTo>
                  <a:pt x="19958" y="12359"/>
                  <a:pt x="20002" y="12389"/>
                  <a:pt x="20067" y="12402"/>
                </a:cubicBezTo>
                <a:cubicBezTo>
                  <a:pt x="20132" y="12415"/>
                  <a:pt x="20176" y="12444"/>
                  <a:pt x="20241" y="12477"/>
                </a:cubicBezTo>
                <a:cubicBezTo>
                  <a:pt x="20313" y="12514"/>
                  <a:pt x="20340" y="12619"/>
                  <a:pt x="20315" y="12700"/>
                </a:cubicBezTo>
                <a:cubicBezTo>
                  <a:pt x="20296" y="12762"/>
                  <a:pt x="20235" y="12788"/>
                  <a:pt x="20191" y="12824"/>
                </a:cubicBezTo>
                <a:cubicBezTo>
                  <a:pt x="20165" y="12846"/>
                  <a:pt x="20068" y="12957"/>
                  <a:pt x="20017" y="12898"/>
                </a:cubicBezTo>
                <a:cubicBezTo>
                  <a:pt x="19968" y="12841"/>
                  <a:pt x="20001" y="12734"/>
                  <a:pt x="20017" y="12675"/>
                </a:cubicBezTo>
                <a:cubicBezTo>
                  <a:pt x="20039" y="12591"/>
                  <a:pt x="20079" y="12541"/>
                  <a:pt x="20092" y="12452"/>
                </a:cubicBezTo>
                <a:cubicBezTo>
                  <a:pt x="20100" y="12397"/>
                  <a:pt x="20121" y="12307"/>
                  <a:pt x="20141" y="12254"/>
                </a:cubicBezTo>
                <a:cubicBezTo>
                  <a:pt x="20153" y="12222"/>
                  <a:pt x="20260" y="12151"/>
                  <a:pt x="20290" y="12129"/>
                </a:cubicBezTo>
                <a:cubicBezTo>
                  <a:pt x="20315" y="12113"/>
                  <a:pt x="20340" y="12096"/>
                  <a:pt x="20365" y="12080"/>
                </a:cubicBezTo>
              </a:path>
              <a:path w="6277" h="1837">
                <a:moveTo>
                  <a:pt x="20687" y="12105"/>
                </a:moveTo>
                <a:cubicBezTo>
                  <a:pt x="20672" y="12222"/>
                  <a:pt x="20631" y="12181"/>
                  <a:pt x="20563" y="12254"/>
                </a:cubicBezTo>
                <a:cubicBezTo>
                  <a:pt x="20541" y="12278"/>
                  <a:pt x="20435" y="12359"/>
                  <a:pt x="20439" y="12402"/>
                </a:cubicBezTo>
                <a:cubicBezTo>
                  <a:pt x="20443" y="12451"/>
                  <a:pt x="20536" y="12494"/>
                  <a:pt x="20563" y="12502"/>
                </a:cubicBezTo>
                <a:cubicBezTo>
                  <a:pt x="20630" y="12523"/>
                  <a:pt x="20685" y="12554"/>
                  <a:pt x="20737" y="12601"/>
                </a:cubicBezTo>
                <a:cubicBezTo>
                  <a:pt x="20798" y="12656"/>
                  <a:pt x="20792" y="12705"/>
                  <a:pt x="20762" y="12774"/>
                </a:cubicBezTo>
                <a:cubicBezTo>
                  <a:pt x="20743" y="12818"/>
                  <a:pt x="20701" y="12895"/>
                  <a:pt x="20662" y="12923"/>
                </a:cubicBezTo>
                <a:cubicBezTo>
                  <a:pt x="20619" y="12954"/>
                  <a:pt x="20533" y="12966"/>
                  <a:pt x="20513" y="12898"/>
                </a:cubicBezTo>
                <a:cubicBezTo>
                  <a:pt x="20489" y="12816"/>
                  <a:pt x="20527" y="12728"/>
                  <a:pt x="20538" y="12650"/>
                </a:cubicBezTo>
                <a:cubicBezTo>
                  <a:pt x="20555" y="12530"/>
                  <a:pt x="20601" y="12449"/>
                  <a:pt x="20662" y="12353"/>
                </a:cubicBezTo>
                <a:cubicBezTo>
                  <a:pt x="20716" y="12267"/>
                  <a:pt x="20684" y="12232"/>
                  <a:pt x="20762" y="12154"/>
                </a:cubicBezTo>
                <a:cubicBezTo>
                  <a:pt x="20778" y="12138"/>
                  <a:pt x="20795" y="12121"/>
                  <a:pt x="20811" y="12105"/>
                </a:cubicBezTo>
              </a:path>
              <a:path w="6277" h="1837">
                <a:moveTo>
                  <a:pt x="21406" y="12278"/>
                </a:moveTo>
                <a:cubicBezTo>
                  <a:pt x="21507" y="12298"/>
                  <a:pt x="21590" y="12323"/>
                  <a:pt x="21679" y="12278"/>
                </a:cubicBezTo>
              </a:path>
              <a:path w="6277" h="1837">
                <a:moveTo>
                  <a:pt x="21506" y="12452"/>
                </a:moveTo>
                <a:cubicBezTo>
                  <a:pt x="21613" y="12433"/>
                  <a:pt x="21720" y="12412"/>
                  <a:pt x="21828" y="12402"/>
                </a:cubicBezTo>
              </a:path>
              <a:path w="6277" h="1837">
                <a:moveTo>
                  <a:pt x="22572" y="12204"/>
                </a:moveTo>
                <a:cubicBezTo>
                  <a:pt x="22562" y="12153"/>
                  <a:pt x="22542" y="12078"/>
                  <a:pt x="22622" y="12055"/>
                </a:cubicBezTo>
                <a:cubicBezTo>
                  <a:pt x="22682" y="12037"/>
                  <a:pt x="22774" y="12082"/>
                  <a:pt x="22796" y="12129"/>
                </a:cubicBezTo>
                <a:cubicBezTo>
                  <a:pt x="22834" y="12209"/>
                  <a:pt x="22832" y="12307"/>
                  <a:pt x="22796" y="12378"/>
                </a:cubicBezTo>
                <a:cubicBezTo>
                  <a:pt x="22757" y="12457"/>
                  <a:pt x="22732" y="12497"/>
                  <a:pt x="22671" y="12551"/>
                </a:cubicBezTo>
                <a:cubicBezTo>
                  <a:pt x="22605" y="12610"/>
                  <a:pt x="22627" y="12615"/>
                  <a:pt x="22547" y="12626"/>
                </a:cubicBezTo>
                <a:cubicBezTo>
                  <a:pt x="22511" y="12564"/>
                  <a:pt x="22522" y="12533"/>
                  <a:pt x="22572" y="12477"/>
                </a:cubicBezTo>
                <a:cubicBezTo>
                  <a:pt x="22624" y="12420"/>
                  <a:pt x="22689" y="12405"/>
                  <a:pt x="22771" y="12427"/>
                </a:cubicBezTo>
                <a:cubicBezTo>
                  <a:pt x="22830" y="12443"/>
                  <a:pt x="22806" y="12527"/>
                  <a:pt x="22870" y="12477"/>
                </a:cubicBezTo>
                <a:cubicBezTo>
                  <a:pt x="22878" y="12469"/>
                  <a:pt x="22887" y="12460"/>
                  <a:pt x="22895" y="12452"/>
                </a:cubicBezTo>
              </a:path>
              <a:path w="6277" h="1837">
                <a:moveTo>
                  <a:pt x="23168" y="11931"/>
                </a:moveTo>
                <a:cubicBezTo>
                  <a:pt x="23243" y="11923"/>
                  <a:pt x="23314" y="11906"/>
                  <a:pt x="23391" y="11906"/>
                </a:cubicBezTo>
              </a:path>
              <a:path w="6277" h="1837">
                <a:moveTo>
                  <a:pt x="23118" y="12030"/>
                </a:moveTo>
                <a:cubicBezTo>
                  <a:pt x="23080" y="12071"/>
                  <a:pt x="22902" y="12209"/>
                  <a:pt x="23044" y="12254"/>
                </a:cubicBezTo>
                <a:cubicBezTo>
                  <a:pt x="23139" y="12284"/>
                  <a:pt x="23150" y="12279"/>
                  <a:pt x="23217" y="12353"/>
                </a:cubicBezTo>
                <a:cubicBezTo>
                  <a:pt x="23290" y="12435"/>
                  <a:pt x="23309" y="12445"/>
                  <a:pt x="23267" y="12576"/>
                </a:cubicBezTo>
                <a:cubicBezTo>
                  <a:pt x="23257" y="12609"/>
                  <a:pt x="23164" y="12679"/>
                  <a:pt x="23143" y="12700"/>
                </a:cubicBezTo>
                <a:cubicBezTo>
                  <a:pt x="23107" y="12737"/>
                  <a:pt x="23068" y="12742"/>
                  <a:pt x="23019" y="12750"/>
                </a:cubicBezTo>
              </a:path>
              <a:path w="6277" h="1837">
                <a:moveTo>
                  <a:pt x="22374" y="12774"/>
                </a:moveTo>
                <a:cubicBezTo>
                  <a:pt x="22477" y="12774"/>
                  <a:pt x="22576" y="12758"/>
                  <a:pt x="22671" y="12750"/>
                </a:cubicBezTo>
                <a:cubicBezTo>
                  <a:pt x="22781" y="12740"/>
                  <a:pt x="22890" y="12738"/>
                  <a:pt x="22994" y="12725"/>
                </a:cubicBezTo>
                <a:cubicBezTo>
                  <a:pt x="23091" y="12713"/>
                  <a:pt x="23174" y="12743"/>
                  <a:pt x="23267" y="12750"/>
                </a:cubicBezTo>
                <a:cubicBezTo>
                  <a:pt x="23275" y="12750"/>
                  <a:pt x="23284" y="12750"/>
                  <a:pt x="23292" y="12750"/>
                </a:cubicBezTo>
              </a:path>
              <a:path w="6277" h="1837">
                <a:moveTo>
                  <a:pt x="22969" y="12973"/>
                </a:moveTo>
                <a:cubicBezTo>
                  <a:pt x="23016" y="13020"/>
                  <a:pt x="23038" y="13062"/>
                  <a:pt x="23068" y="13122"/>
                </a:cubicBezTo>
                <a:cubicBezTo>
                  <a:pt x="23107" y="13201"/>
                  <a:pt x="23168" y="13255"/>
                  <a:pt x="23192" y="13345"/>
                </a:cubicBezTo>
                <a:cubicBezTo>
                  <a:pt x="23214" y="13428"/>
                  <a:pt x="23213" y="13516"/>
                  <a:pt x="23292" y="13568"/>
                </a:cubicBezTo>
                <a:cubicBezTo>
                  <a:pt x="23332" y="13588"/>
                  <a:pt x="23348" y="13607"/>
                  <a:pt x="23341" y="13568"/>
                </a:cubicBezTo>
              </a:path>
              <a:path w="6277" h="1837">
                <a:moveTo>
                  <a:pt x="23391" y="12998"/>
                </a:moveTo>
                <a:cubicBezTo>
                  <a:pt x="23337" y="13118"/>
                  <a:pt x="23271" y="13186"/>
                  <a:pt x="23192" y="13295"/>
                </a:cubicBezTo>
                <a:cubicBezTo>
                  <a:pt x="23096" y="13427"/>
                  <a:pt x="23000" y="13567"/>
                  <a:pt x="22895" y="13692"/>
                </a:cubicBezTo>
                <a:cubicBezTo>
                  <a:pt x="22878" y="13709"/>
                  <a:pt x="22862" y="13725"/>
                  <a:pt x="22845" y="13742"/>
                </a:cubicBezTo>
              </a:path>
              <a:path w="6277" h="1837">
                <a:moveTo>
                  <a:pt x="23713" y="12526"/>
                </a:moveTo>
                <a:cubicBezTo>
                  <a:pt x="23693" y="12567"/>
                  <a:pt x="23684" y="12594"/>
                  <a:pt x="23688" y="12551"/>
                </a:cubicBezTo>
              </a:path>
              <a:path w="6277" h="1837">
                <a:moveTo>
                  <a:pt x="23986" y="12129"/>
                </a:moveTo>
                <a:cubicBezTo>
                  <a:pt x="24107" y="12199"/>
                  <a:pt x="24140" y="12222"/>
                  <a:pt x="24185" y="12353"/>
                </a:cubicBezTo>
                <a:cubicBezTo>
                  <a:pt x="24211" y="12430"/>
                  <a:pt x="24262" y="12507"/>
                  <a:pt x="24309" y="12576"/>
                </a:cubicBezTo>
                <a:cubicBezTo>
                  <a:pt x="24337" y="12605"/>
                  <a:pt x="24350" y="12613"/>
                  <a:pt x="24383" y="12601"/>
                </a:cubicBezTo>
              </a:path>
              <a:path w="6277" h="1837">
                <a:moveTo>
                  <a:pt x="24383" y="12030"/>
                </a:moveTo>
                <a:cubicBezTo>
                  <a:pt x="24254" y="12202"/>
                  <a:pt x="24124" y="12346"/>
                  <a:pt x="23986" y="12502"/>
                </a:cubicBezTo>
                <a:cubicBezTo>
                  <a:pt x="23924" y="12595"/>
                  <a:pt x="23886" y="12627"/>
                  <a:pt x="23788" y="12626"/>
                </a:cubicBezTo>
              </a:path>
              <a:path w="6277" h="1837">
                <a:moveTo>
                  <a:pt x="21109" y="12378"/>
                </a:moveTo>
                <a:cubicBezTo>
                  <a:pt x="21165" y="12470"/>
                  <a:pt x="21224" y="12560"/>
                  <a:pt x="21258" y="12650"/>
                </a:cubicBezTo>
                <a:cubicBezTo>
                  <a:pt x="21277" y="12701"/>
                  <a:pt x="21293" y="12730"/>
                  <a:pt x="21332" y="12750"/>
                </a:cubicBezTo>
              </a:path>
              <a:path w="6277" h="1837">
                <a:moveTo>
                  <a:pt x="21332" y="12030"/>
                </a:moveTo>
                <a:cubicBezTo>
                  <a:pt x="21269" y="12191"/>
                  <a:pt x="21182" y="12309"/>
                  <a:pt x="21109" y="12452"/>
                </a:cubicBezTo>
                <a:cubicBezTo>
                  <a:pt x="21060" y="12597"/>
                  <a:pt x="21046" y="12643"/>
                  <a:pt x="20985" y="12725"/>
                </a:cubicBezTo>
              </a:path>
              <a:path w="6277" h="1837">
                <a:moveTo>
                  <a:pt x="22845" y="13667"/>
                </a:moveTo>
                <a:cubicBezTo>
                  <a:pt x="22893" y="13620"/>
                  <a:pt x="22945" y="13589"/>
                  <a:pt x="22994" y="13543"/>
                </a:cubicBezTo>
                <a:cubicBezTo>
                  <a:pt x="23081" y="13461"/>
                  <a:pt x="23157" y="13375"/>
                  <a:pt x="23242" y="13295"/>
                </a:cubicBezTo>
                <a:cubicBezTo>
                  <a:pt x="23344" y="13199"/>
                  <a:pt x="23453" y="13106"/>
                  <a:pt x="23564" y="13022"/>
                </a:cubicBezTo>
                <a:cubicBezTo>
                  <a:pt x="23653" y="12964"/>
                  <a:pt x="23690" y="12936"/>
                  <a:pt x="23738" y="12874"/>
                </a:cubicBezTo>
              </a:path>
              <a:path w="6277" h="1837">
                <a:moveTo>
                  <a:pt x="23912" y="12502"/>
                </a:moveTo>
                <a:cubicBezTo>
                  <a:pt x="24034" y="12404"/>
                  <a:pt x="24252" y="12276"/>
                  <a:pt x="24358" y="12154"/>
                </a:cubicBezTo>
                <a:cubicBezTo>
                  <a:pt x="24419" y="12085"/>
                  <a:pt x="24450" y="12051"/>
                  <a:pt x="24532" y="12005"/>
                </a:cubicBezTo>
              </a:path>
              <a:path w="6277" h="1837">
                <a:moveTo>
                  <a:pt x="18256" y="13271"/>
                </a:moveTo>
                <a:cubicBezTo>
                  <a:pt x="18320" y="13320"/>
                  <a:pt x="18382" y="13359"/>
                  <a:pt x="18455" y="13395"/>
                </a:cubicBezTo>
                <a:cubicBezTo>
                  <a:pt x="18553" y="13443"/>
                  <a:pt x="18620" y="13444"/>
                  <a:pt x="18728" y="13444"/>
                </a:cubicBezTo>
                <a:cubicBezTo>
                  <a:pt x="18885" y="13444"/>
                  <a:pt x="19016" y="13406"/>
                  <a:pt x="19174" y="13395"/>
                </a:cubicBezTo>
                <a:cubicBezTo>
                  <a:pt x="19357" y="13382"/>
                  <a:pt x="19538" y="13356"/>
                  <a:pt x="19720" y="13345"/>
                </a:cubicBezTo>
                <a:cubicBezTo>
                  <a:pt x="19985" y="13328"/>
                  <a:pt x="20251" y="13354"/>
                  <a:pt x="20513" y="13370"/>
                </a:cubicBezTo>
                <a:cubicBezTo>
                  <a:pt x="20687" y="13381"/>
                  <a:pt x="20816" y="13378"/>
                  <a:pt x="20985" y="13444"/>
                </a:cubicBezTo>
                <a:cubicBezTo>
                  <a:pt x="21028" y="13466"/>
                  <a:pt x="21040" y="13470"/>
                  <a:pt x="21059" y="134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Ink 17"/>
          <p:cNvSpPr/>
          <p:nvPr/>
        </p:nvSpPr>
        <p:spPr>
          <a:xfrm>
            <a:off x="357120" y="4357800"/>
            <a:ext cx="2411640" cy="1036440"/>
          </a:xfrm>
          <a:custGeom>
            <a:avLst/>
            <a:gdLst/>
            <a:ahLst/>
            <a:rect l="l" t="t" r="r" b="b"/>
            <a:pathLst>
              <a:path w="6698" h="2878">
                <a:moveTo>
                  <a:pt x="2654" y="13469"/>
                </a:moveTo>
                <a:cubicBezTo>
                  <a:pt x="2665" y="13546"/>
                  <a:pt x="2676" y="13557"/>
                  <a:pt x="2753" y="13568"/>
                </a:cubicBezTo>
                <a:cubicBezTo>
                  <a:pt x="2788" y="13510"/>
                  <a:pt x="2808" y="13454"/>
                  <a:pt x="2729" y="13444"/>
                </a:cubicBezTo>
                <a:cubicBezTo>
                  <a:pt x="2689" y="13439"/>
                  <a:pt x="2617" y="13474"/>
                  <a:pt x="2604" y="13519"/>
                </a:cubicBezTo>
                <a:cubicBezTo>
                  <a:pt x="2587" y="13579"/>
                  <a:pt x="2648" y="13631"/>
                  <a:pt x="2704" y="13618"/>
                </a:cubicBezTo>
                <a:cubicBezTo>
                  <a:pt x="2747" y="13596"/>
                  <a:pt x="2759" y="13592"/>
                  <a:pt x="2778" y="13568"/>
                </a:cubicBezTo>
                <a:cubicBezTo>
                  <a:pt x="2750" y="13483"/>
                  <a:pt x="2719" y="13553"/>
                  <a:pt x="2679" y="13494"/>
                </a:cubicBezTo>
              </a:path>
              <a:path w="6698" h="2878">
                <a:moveTo>
                  <a:pt x="3101" y="12328"/>
                </a:moveTo>
                <a:cubicBezTo>
                  <a:pt x="3162" y="12278"/>
                  <a:pt x="3197" y="12278"/>
                  <a:pt x="3274" y="12278"/>
                </a:cubicBezTo>
                <a:cubicBezTo>
                  <a:pt x="3329" y="12278"/>
                  <a:pt x="3418" y="12270"/>
                  <a:pt x="3473" y="12254"/>
                </a:cubicBezTo>
                <a:cubicBezTo>
                  <a:pt x="3489" y="12246"/>
                  <a:pt x="3506" y="12237"/>
                  <a:pt x="3522" y="12229"/>
                </a:cubicBezTo>
              </a:path>
              <a:path w="6698" h="2878">
                <a:moveTo>
                  <a:pt x="3175" y="12353"/>
                </a:moveTo>
                <a:cubicBezTo>
                  <a:pt x="3143" y="12439"/>
                  <a:pt x="3061" y="12591"/>
                  <a:pt x="3101" y="12700"/>
                </a:cubicBezTo>
                <a:cubicBezTo>
                  <a:pt x="3109" y="12708"/>
                  <a:pt x="3117" y="12717"/>
                  <a:pt x="3125" y="12725"/>
                </a:cubicBezTo>
                <a:cubicBezTo>
                  <a:pt x="3223" y="12676"/>
                  <a:pt x="3248" y="12684"/>
                  <a:pt x="3349" y="12700"/>
                </a:cubicBezTo>
                <a:cubicBezTo>
                  <a:pt x="3437" y="12714"/>
                  <a:pt x="3427" y="12748"/>
                  <a:pt x="3473" y="12824"/>
                </a:cubicBezTo>
                <a:cubicBezTo>
                  <a:pt x="3536" y="12927"/>
                  <a:pt x="3542" y="12987"/>
                  <a:pt x="3572" y="13097"/>
                </a:cubicBezTo>
                <a:cubicBezTo>
                  <a:pt x="3591" y="13165"/>
                  <a:pt x="3610" y="13253"/>
                  <a:pt x="3572" y="13320"/>
                </a:cubicBezTo>
                <a:cubicBezTo>
                  <a:pt x="3527" y="13397"/>
                  <a:pt x="3475" y="13453"/>
                  <a:pt x="3398" y="13469"/>
                </a:cubicBezTo>
                <a:cubicBezTo>
                  <a:pt x="3348" y="13479"/>
                  <a:pt x="3243" y="13445"/>
                  <a:pt x="3200" y="13419"/>
                </a:cubicBezTo>
                <a:cubicBezTo>
                  <a:pt x="3134" y="13379"/>
                  <a:pt x="3111" y="13368"/>
                  <a:pt x="3101" y="13295"/>
                </a:cubicBezTo>
              </a:path>
              <a:path w="6698" h="2878">
                <a:moveTo>
                  <a:pt x="3845" y="13097"/>
                </a:moveTo>
                <a:cubicBezTo>
                  <a:pt x="3924" y="13104"/>
                  <a:pt x="3987" y="13122"/>
                  <a:pt x="4068" y="13122"/>
                </a:cubicBezTo>
                <a:cubicBezTo>
                  <a:pt x="4109" y="13122"/>
                  <a:pt x="4117" y="13122"/>
                  <a:pt x="4142" y="13122"/>
                </a:cubicBezTo>
              </a:path>
              <a:path w="6698" h="2878">
                <a:moveTo>
                  <a:pt x="3919" y="13295"/>
                </a:moveTo>
                <a:cubicBezTo>
                  <a:pt x="4069" y="13338"/>
                  <a:pt x="4114" y="13345"/>
                  <a:pt x="4266" y="13345"/>
                </a:cubicBezTo>
              </a:path>
              <a:path w="6698" h="2878">
                <a:moveTo>
                  <a:pt x="4911" y="12750"/>
                </a:moveTo>
                <a:cubicBezTo>
                  <a:pt x="4954" y="12878"/>
                  <a:pt x="5030" y="12950"/>
                  <a:pt x="5085" y="13072"/>
                </a:cubicBezTo>
                <a:cubicBezTo>
                  <a:pt x="5154" y="13226"/>
                  <a:pt x="5255" y="13379"/>
                  <a:pt x="5383" y="13494"/>
                </a:cubicBezTo>
                <a:cubicBezTo>
                  <a:pt x="5441" y="13546"/>
                  <a:pt x="5481" y="13582"/>
                  <a:pt x="5531" y="13643"/>
                </a:cubicBezTo>
              </a:path>
              <a:path w="6698" h="2878">
                <a:moveTo>
                  <a:pt x="5432" y="12675"/>
                </a:moveTo>
                <a:cubicBezTo>
                  <a:pt x="5324" y="12745"/>
                  <a:pt x="5239" y="12832"/>
                  <a:pt x="5184" y="12948"/>
                </a:cubicBezTo>
                <a:cubicBezTo>
                  <a:pt x="5134" y="13054"/>
                  <a:pt x="5097" y="13156"/>
                  <a:pt x="5060" y="13271"/>
                </a:cubicBezTo>
                <a:cubicBezTo>
                  <a:pt x="5027" y="13374"/>
                  <a:pt x="4973" y="13467"/>
                  <a:pt x="4936" y="13568"/>
                </a:cubicBezTo>
              </a:path>
              <a:path w="6698" h="2878">
                <a:moveTo>
                  <a:pt x="4688" y="13692"/>
                </a:moveTo>
                <a:cubicBezTo>
                  <a:pt x="4812" y="13650"/>
                  <a:pt x="4906" y="13679"/>
                  <a:pt x="5035" y="13692"/>
                </a:cubicBezTo>
                <a:cubicBezTo>
                  <a:pt x="5152" y="13704"/>
                  <a:pt x="5264" y="13717"/>
                  <a:pt x="5383" y="13717"/>
                </a:cubicBezTo>
                <a:cubicBezTo>
                  <a:pt x="5481" y="13717"/>
                  <a:pt x="5588" y="13721"/>
                  <a:pt x="5680" y="13692"/>
                </a:cubicBezTo>
                <a:cubicBezTo>
                  <a:pt x="5763" y="13666"/>
                  <a:pt x="5773" y="13635"/>
                  <a:pt x="5755" y="13568"/>
                </a:cubicBezTo>
              </a:path>
              <a:path w="6698" h="2878">
                <a:moveTo>
                  <a:pt x="5333" y="13965"/>
                </a:moveTo>
                <a:cubicBezTo>
                  <a:pt x="5305" y="14096"/>
                  <a:pt x="5283" y="14204"/>
                  <a:pt x="5283" y="14337"/>
                </a:cubicBezTo>
                <a:cubicBezTo>
                  <a:pt x="5283" y="14446"/>
                  <a:pt x="5259" y="14548"/>
                  <a:pt x="5259" y="14660"/>
                </a:cubicBezTo>
                <a:cubicBezTo>
                  <a:pt x="5259" y="14730"/>
                  <a:pt x="5233" y="14974"/>
                  <a:pt x="5283" y="14957"/>
                </a:cubicBezTo>
              </a:path>
              <a:path w="6698" h="2878">
                <a:moveTo>
                  <a:pt x="5631" y="14163"/>
                </a:moveTo>
                <a:cubicBezTo>
                  <a:pt x="5655" y="14212"/>
                  <a:pt x="5612" y="14251"/>
                  <a:pt x="5581" y="14312"/>
                </a:cubicBezTo>
                <a:cubicBezTo>
                  <a:pt x="5551" y="14372"/>
                  <a:pt x="5502" y="14467"/>
                  <a:pt x="5507" y="14536"/>
                </a:cubicBezTo>
                <a:cubicBezTo>
                  <a:pt x="5512" y="14609"/>
                  <a:pt x="5542" y="14746"/>
                  <a:pt x="5581" y="14808"/>
                </a:cubicBezTo>
                <a:cubicBezTo>
                  <a:pt x="5627" y="14879"/>
                  <a:pt x="5671" y="14961"/>
                  <a:pt x="5755" y="14982"/>
                </a:cubicBezTo>
                <a:cubicBezTo>
                  <a:pt x="5828" y="15000"/>
                  <a:pt x="5851" y="14937"/>
                  <a:pt x="5854" y="14883"/>
                </a:cubicBezTo>
                <a:cubicBezTo>
                  <a:pt x="5859" y="14793"/>
                  <a:pt x="5886" y="14786"/>
                  <a:pt x="5854" y="14684"/>
                </a:cubicBezTo>
                <a:cubicBezTo>
                  <a:pt x="5816" y="14563"/>
                  <a:pt x="5777" y="14569"/>
                  <a:pt x="5655" y="14610"/>
                </a:cubicBezTo>
                <a:cubicBezTo>
                  <a:pt x="5555" y="14644"/>
                  <a:pt x="5528" y="14669"/>
                  <a:pt x="5482" y="14759"/>
                </a:cubicBezTo>
                <a:cubicBezTo>
                  <a:pt x="5474" y="14775"/>
                  <a:pt x="5465" y="14792"/>
                  <a:pt x="5457" y="14808"/>
                </a:cubicBezTo>
              </a:path>
              <a:path w="6698" h="2878">
                <a:moveTo>
                  <a:pt x="6226" y="13568"/>
                </a:moveTo>
                <a:cubicBezTo>
                  <a:pt x="6217" y="13584"/>
                  <a:pt x="6141" y="13702"/>
                  <a:pt x="6226" y="13692"/>
                </a:cubicBezTo>
                <a:cubicBezTo>
                  <a:pt x="6314" y="13682"/>
                  <a:pt x="6252" y="13625"/>
                  <a:pt x="6201" y="13618"/>
                </a:cubicBezTo>
              </a:path>
              <a:path w="6698" h="2878">
                <a:moveTo>
                  <a:pt x="6821" y="12774"/>
                </a:moveTo>
                <a:cubicBezTo>
                  <a:pt x="6821" y="12936"/>
                  <a:pt x="6816" y="13088"/>
                  <a:pt x="6796" y="13246"/>
                </a:cubicBezTo>
                <a:cubicBezTo>
                  <a:pt x="6784" y="13344"/>
                  <a:pt x="6821" y="13464"/>
                  <a:pt x="6821" y="13568"/>
                </a:cubicBezTo>
                <a:cubicBezTo>
                  <a:pt x="6821" y="13620"/>
                  <a:pt x="6822" y="13638"/>
                  <a:pt x="6846" y="13667"/>
                </a:cubicBezTo>
              </a:path>
              <a:path w="6698" h="2878">
                <a:moveTo>
                  <a:pt x="7144" y="12700"/>
                </a:moveTo>
                <a:cubicBezTo>
                  <a:pt x="7190" y="12775"/>
                  <a:pt x="7147" y="12857"/>
                  <a:pt x="7144" y="12948"/>
                </a:cubicBezTo>
                <a:cubicBezTo>
                  <a:pt x="7140" y="13067"/>
                  <a:pt x="7146" y="13131"/>
                  <a:pt x="7193" y="13246"/>
                </a:cubicBezTo>
                <a:cubicBezTo>
                  <a:pt x="7228" y="13332"/>
                  <a:pt x="7280" y="13402"/>
                  <a:pt x="7342" y="13469"/>
                </a:cubicBezTo>
                <a:cubicBezTo>
                  <a:pt x="7371" y="13501"/>
                  <a:pt x="7427" y="13558"/>
                  <a:pt x="7466" y="13568"/>
                </a:cubicBezTo>
                <a:cubicBezTo>
                  <a:pt x="7552" y="13591"/>
                  <a:pt x="7576" y="13520"/>
                  <a:pt x="7615" y="13469"/>
                </a:cubicBezTo>
                <a:cubicBezTo>
                  <a:pt x="7664" y="13404"/>
                  <a:pt x="7705" y="13352"/>
                  <a:pt x="7665" y="13271"/>
                </a:cubicBezTo>
                <a:cubicBezTo>
                  <a:pt x="7652" y="13246"/>
                  <a:pt x="7610" y="13216"/>
                  <a:pt x="7590" y="13196"/>
                </a:cubicBezTo>
                <a:cubicBezTo>
                  <a:pt x="7521" y="13265"/>
                  <a:pt x="7474" y="13303"/>
                  <a:pt x="7441" y="13395"/>
                </a:cubicBezTo>
                <a:cubicBezTo>
                  <a:pt x="7411" y="13479"/>
                  <a:pt x="7416" y="13562"/>
                  <a:pt x="7392" y="13643"/>
                </a:cubicBezTo>
                <a:cubicBezTo>
                  <a:pt x="7384" y="13659"/>
                  <a:pt x="7375" y="13676"/>
                  <a:pt x="7367" y="13692"/>
                </a:cubicBezTo>
              </a:path>
              <a:path w="6698" h="2878">
                <a:moveTo>
                  <a:pt x="1984" y="12700"/>
                </a:moveTo>
                <a:cubicBezTo>
                  <a:pt x="1984" y="12717"/>
                  <a:pt x="1984" y="12733"/>
                  <a:pt x="1984" y="12750"/>
                </a:cubicBezTo>
                <a:cubicBezTo>
                  <a:pt x="2061" y="12724"/>
                  <a:pt x="2038" y="12649"/>
                  <a:pt x="1960" y="12675"/>
                </a:cubicBezTo>
                <a:cubicBezTo>
                  <a:pt x="1937" y="12698"/>
                  <a:pt x="1933" y="12706"/>
                  <a:pt x="1910" y="12700"/>
                </a:cubicBezTo>
              </a:path>
              <a:path w="6698" h="2878">
                <a:moveTo>
                  <a:pt x="992" y="12105"/>
                </a:moveTo>
                <a:cubicBezTo>
                  <a:pt x="1047" y="12172"/>
                  <a:pt x="1042" y="12218"/>
                  <a:pt x="1042" y="12303"/>
                </a:cubicBezTo>
                <a:cubicBezTo>
                  <a:pt x="1042" y="12458"/>
                  <a:pt x="1042" y="12991"/>
                  <a:pt x="1042" y="12898"/>
                </a:cubicBezTo>
              </a:path>
              <a:path w="6698" h="2878">
                <a:moveTo>
                  <a:pt x="1315" y="12154"/>
                </a:moveTo>
                <a:cubicBezTo>
                  <a:pt x="1315" y="12404"/>
                  <a:pt x="1307" y="12654"/>
                  <a:pt x="1339" y="12898"/>
                </a:cubicBezTo>
                <a:cubicBezTo>
                  <a:pt x="1349" y="12974"/>
                  <a:pt x="1370" y="13025"/>
                  <a:pt x="1439" y="13072"/>
                </a:cubicBezTo>
                <a:cubicBezTo>
                  <a:pt x="1513" y="13122"/>
                  <a:pt x="1574" y="13095"/>
                  <a:pt x="1637" y="13047"/>
                </a:cubicBezTo>
                <a:cubicBezTo>
                  <a:pt x="1676" y="13017"/>
                  <a:pt x="1684" y="12922"/>
                  <a:pt x="1687" y="12874"/>
                </a:cubicBezTo>
                <a:cubicBezTo>
                  <a:pt x="1687" y="12857"/>
                  <a:pt x="1687" y="12841"/>
                  <a:pt x="1687" y="12824"/>
                </a:cubicBezTo>
                <a:cubicBezTo>
                  <a:pt x="1610" y="12879"/>
                  <a:pt x="1580" y="12935"/>
                  <a:pt x="1538" y="13022"/>
                </a:cubicBezTo>
                <a:cubicBezTo>
                  <a:pt x="1496" y="13111"/>
                  <a:pt x="1508" y="13126"/>
                  <a:pt x="1588" y="13171"/>
                </a:cubicBezTo>
              </a:path>
              <a:path w="6698" h="2878">
                <a:moveTo>
                  <a:pt x="5135" y="14684"/>
                </a:moveTo>
                <a:cubicBezTo>
                  <a:pt x="5221" y="14684"/>
                  <a:pt x="5279" y="14648"/>
                  <a:pt x="5358" y="14635"/>
                </a:cubicBezTo>
                <a:cubicBezTo>
                  <a:pt x="5437" y="14622"/>
                  <a:pt x="5504" y="14601"/>
                  <a:pt x="5581" y="14560"/>
                </a:cubicBezTo>
                <a:cubicBezTo>
                  <a:pt x="5664" y="14516"/>
                  <a:pt x="5749" y="14463"/>
                  <a:pt x="5829" y="14412"/>
                </a:cubicBezTo>
                <a:cubicBezTo>
                  <a:pt x="5912" y="14359"/>
                  <a:pt x="5994" y="14292"/>
                  <a:pt x="6077" y="14238"/>
                </a:cubicBezTo>
                <a:cubicBezTo>
                  <a:pt x="6133" y="14202"/>
                  <a:pt x="6174" y="14184"/>
                  <a:pt x="6226" y="14139"/>
                </a:cubicBezTo>
              </a:path>
              <a:path w="6698" h="2878">
                <a:moveTo>
                  <a:pt x="7590" y="12626"/>
                </a:moveTo>
                <a:cubicBezTo>
                  <a:pt x="7575" y="12745"/>
                  <a:pt x="7542" y="12715"/>
                  <a:pt x="7466" y="12799"/>
                </a:cubicBezTo>
                <a:cubicBezTo>
                  <a:pt x="7381" y="12893"/>
                  <a:pt x="7311" y="12937"/>
                  <a:pt x="7218" y="13022"/>
                </a:cubicBezTo>
                <a:cubicBezTo>
                  <a:pt x="7147" y="13087"/>
                  <a:pt x="7073" y="13166"/>
                  <a:pt x="7020" y="13246"/>
                </a:cubicBezTo>
                <a:cubicBezTo>
                  <a:pt x="6973" y="13316"/>
                  <a:pt x="6943" y="13403"/>
                  <a:pt x="6896" y="13469"/>
                </a:cubicBezTo>
                <a:cubicBezTo>
                  <a:pt x="6879" y="13486"/>
                  <a:pt x="6863" y="13502"/>
                  <a:pt x="6846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Ink 18"/>
          <p:cNvSpPr/>
          <p:nvPr/>
        </p:nvSpPr>
        <p:spPr>
          <a:xfrm>
            <a:off x="3340080" y="4875120"/>
            <a:ext cx="1776600" cy="519120"/>
          </a:xfrm>
          <a:custGeom>
            <a:avLst/>
            <a:gdLst/>
            <a:ahLst/>
            <a:rect l="l" t="t" r="r" b="b"/>
            <a:pathLst>
              <a:path w="4937" h="1440">
                <a:moveTo>
                  <a:pt x="9351" y="14436"/>
                </a:moveTo>
                <a:cubicBezTo>
                  <a:pt x="9351" y="14512"/>
                  <a:pt x="9348" y="14532"/>
                  <a:pt x="9401" y="14585"/>
                </a:cubicBezTo>
                <a:cubicBezTo>
                  <a:pt x="9435" y="14551"/>
                  <a:pt x="9491" y="14502"/>
                  <a:pt x="9426" y="14461"/>
                </a:cubicBezTo>
                <a:cubicBezTo>
                  <a:pt x="9418" y="14461"/>
                  <a:pt x="9409" y="14461"/>
                  <a:pt x="9401" y="14461"/>
                </a:cubicBezTo>
              </a:path>
              <a:path w="4937" h="1440">
                <a:moveTo>
                  <a:pt x="9500" y="13543"/>
                </a:moveTo>
                <a:cubicBezTo>
                  <a:pt x="9586" y="13551"/>
                  <a:pt x="9665" y="13583"/>
                  <a:pt x="9748" y="13593"/>
                </a:cubicBezTo>
                <a:cubicBezTo>
                  <a:pt x="9807" y="13600"/>
                  <a:pt x="9963" y="13520"/>
                  <a:pt x="9996" y="13593"/>
                </a:cubicBezTo>
                <a:cubicBezTo>
                  <a:pt x="10011" y="13625"/>
                  <a:pt x="9958" y="13757"/>
                  <a:pt x="9947" y="13791"/>
                </a:cubicBezTo>
                <a:cubicBezTo>
                  <a:pt x="9915" y="13894"/>
                  <a:pt x="9900" y="13976"/>
                  <a:pt x="9897" y="14089"/>
                </a:cubicBezTo>
                <a:cubicBezTo>
                  <a:pt x="9894" y="14194"/>
                  <a:pt x="9877" y="14284"/>
                  <a:pt x="9872" y="14387"/>
                </a:cubicBezTo>
                <a:cubicBezTo>
                  <a:pt x="9870" y="14423"/>
                  <a:pt x="9884" y="14525"/>
                  <a:pt x="9897" y="14560"/>
                </a:cubicBezTo>
                <a:cubicBezTo>
                  <a:pt x="9932" y="14595"/>
                  <a:pt x="9945" y="14590"/>
                  <a:pt x="9947" y="14511"/>
                </a:cubicBezTo>
              </a:path>
              <a:path w="4937" h="1440">
                <a:moveTo>
                  <a:pt x="10269" y="13717"/>
                </a:moveTo>
                <a:cubicBezTo>
                  <a:pt x="10240" y="13811"/>
                  <a:pt x="10216" y="13873"/>
                  <a:pt x="10195" y="13965"/>
                </a:cubicBezTo>
                <a:cubicBezTo>
                  <a:pt x="10163" y="14101"/>
                  <a:pt x="10197" y="14200"/>
                  <a:pt x="10220" y="14337"/>
                </a:cubicBezTo>
                <a:cubicBezTo>
                  <a:pt x="10235" y="14426"/>
                  <a:pt x="10248" y="14445"/>
                  <a:pt x="10344" y="14461"/>
                </a:cubicBezTo>
                <a:cubicBezTo>
                  <a:pt x="10469" y="14482"/>
                  <a:pt x="10479" y="14420"/>
                  <a:pt x="10542" y="14312"/>
                </a:cubicBezTo>
                <a:cubicBezTo>
                  <a:pt x="10595" y="14221"/>
                  <a:pt x="10592" y="14141"/>
                  <a:pt x="10592" y="14039"/>
                </a:cubicBezTo>
                <a:cubicBezTo>
                  <a:pt x="10592" y="13959"/>
                  <a:pt x="10558" y="13884"/>
                  <a:pt x="10517" y="13816"/>
                </a:cubicBezTo>
                <a:cubicBezTo>
                  <a:pt x="10462" y="13726"/>
                  <a:pt x="10424" y="13707"/>
                  <a:pt x="10344" y="13643"/>
                </a:cubicBezTo>
                <a:cubicBezTo>
                  <a:pt x="10336" y="13635"/>
                  <a:pt x="10327" y="13626"/>
                  <a:pt x="10319" y="13618"/>
                </a:cubicBezTo>
              </a:path>
              <a:path w="4937" h="1440">
                <a:moveTo>
                  <a:pt x="10517" y="13643"/>
                </a:moveTo>
                <a:cubicBezTo>
                  <a:pt x="10663" y="13677"/>
                  <a:pt x="10821" y="13720"/>
                  <a:pt x="10964" y="13742"/>
                </a:cubicBezTo>
                <a:cubicBezTo>
                  <a:pt x="11021" y="13751"/>
                  <a:pt x="11099" y="13763"/>
                  <a:pt x="11088" y="13841"/>
                </a:cubicBezTo>
                <a:cubicBezTo>
                  <a:pt x="11078" y="13914"/>
                  <a:pt x="11047" y="13993"/>
                  <a:pt x="11038" y="14064"/>
                </a:cubicBezTo>
                <a:cubicBezTo>
                  <a:pt x="11015" y="14239"/>
                  <a:pt x="10984" y="14577"/>
                  <a:pt x="11063" y="14734"/>
                </a:cubicBezTo>
                <a:cubicBezTo>
                  <a:pt x="11088" y="14759"/>
                  <a:pt x="11096" y="14767"/>
                  <a:pt x="11112" y="14734"/>
                </a:cubicBezTo>
              </a:path>
              <a:path w="4937" h="1440">
                <a:moveTo>
                  <a:pt x="11410" y="13692"/>
                </a:moveTo>
                <a:cubicBezTo>
                  <a:pt x="11410" y="13812"/>
                  <a:pt x="11423" y="13899"/>
                  <a:pt x="11435" y="14015"/>
                </a:cubicBezTo>
                <a:cubicBezTo>
                  <a:pt x="11447" y="14134"/>
                  <a:pt x="11474" y="14246"/>
                  <a:pt x="11509" y="14362"/>
                </a:cubicBezTo>
                <a:cubicBezTo>
                  <a:pt x="11536" y="14451"/>
                  <a:pt x="11557" y="14550"/>
                  <a:pt x="11584" y="14635"/>
                </a:cubicBezTo>
                <a:cubicBezTo>
                  <a:pt x="11613" y="14725"/>
                  <a:pt x="11639" y="14718"/>
                  <a:pt x="11708" y="14709"/>
                </a:cubicBezTo>
              </a:path>
              <a:path w="4937" h="1440">
                <a:moveTo>
                  <a:pt x="11832" y="14064"/>
                </a:moveTo>
                <a:cubicBezTo>
                  <a:pt x="11860" y="14142"/>
                  <a:pt x="11901" y="14211"/>
                  <a:pt x="11931" y="14288"/>
                </a:cubicBezTo>
                <a:cubicBezTo>
                  <a:pt x="11980" y="14412"/>
                  <a:pt x="12069" y="14436"/>
                  <a:pt x="12154" y="14536"/>
                </a:cubicBezTo>
                <a:cubicBezTo>
                  <a:pt x="12214" y="14607"/>
                  <a:pt x="12317" y="14739"/>
                  <a:pt x="12402" y="14784"/>
                </a:cubicBezTo>
                <a:cubicBezTo>
                  <a:pt x="12419" y="14784"/>
                  <a:pt x="12435" y="14784"/>
                  <a:pt x="12452" y="14784"/>
                </a:cubicBezTo>
              </a:path>
              <a:path w="4937" h="1440">
                <a:moveTo>
                  <a:pt x="12204" y="14089"/>
                </a:moveTo>
                <a:cubicBezTo>
                  <a:pt x="12119" y="14216"/>
                  <a:pt x="12051" y="14328"/>
                  <a:pt x="11981" y="14461"/>
                </a:cubicBezTo>
                <a:cubicBezTo>
                  <a:pt x="11951" y="14519"/>
                  <a:pt x="11917" y="14605"/>
                  <a:pt x="11906" y="14660"/>
                </a:cubicBezTo>
                <a:cubicBezTo>
                  <a:pt x="11895" y="14715"/>
                  <a:pt x="11908" y="14761"/>
                  <a:pt x="11931" y="14784"/>
                </a:cubicBezTo>
              </a:path>
              <a:path w="4937" h="1440">
                <a:moveTo>
                  <a:pt x="12477" y="14312"/>
                </a:moveTo>
                <a:cubicBezTo>
                  <a:pt x="12598" y="14295"/>
                  <a:pt x="12703" y="14288"/>
                  <a:pt x="12824" y="14288"/>
                </a:cubicBezTo>
              </a:path>
              <a:path w="4937" h="1440">
                <a:moveTo>
                  <a:pt x="12576" y="14486"/>
                </a:moveTo>
                <a:cubicBezTo>
                  <a:pt x="12707" y="14537"/>
                  <a:pt x="12778" y="14595"/>
                  <a:pt x="12898" y="14536"/>
                </a:cubicBezTo>
              </a:path>
              <a:path w="4937" h="1440">
                <a:moveTo>
                  <a:pt x="13171" y="14114"/>
                </a:moveTo>
                <a:cubicBezTo>
                  <a:pt x="13241" y="14044"/>
                  <a:pt x="13250" y="14022"/>
                  <a:pt x="13345" y="14064"/>
                </a:cubicBezTo>
                <a:cubicBezTo>
                  <a:pt x="13411" y="14093"/>
                  <a:pt x="13459" y="14191"/>
                  <a:pt x="13469" y="14263"/>
                </a:cubicBezTo>
                <a:cubicBezTo>
                  <a:pt x="13486" y="14384"/>
                  <a:pt x="13480" y="14548"/>
                  <a:pt x="13444" y="14660"/>
                </a:cubicBezTo>
                <a:cubicBezTo>
                  <a:pt x="13410" y="14766"/>
                  <a:pt x="13396" y="14789"/>
                  <a:pt x="13320" y="14833"/>
                </a:cubicBezTo>
                <a:cubicBezTo>
                  <a:pt x="13257" y="14870"/>
                  <a:pt x="13214" y="14831"/>
                  <a:pt x="13171" y="14784"/>
                </a:cubicBezTo>
                <a:cubicBezTo>
                  <a:pt x="13124" y="14733"/>
                  <a:pt x="13098" y="14629"/>
                  <a:pt x="13122" y="14560"/>
                </a:cubicBezTo>
                <a:cubicBezTo>
                  <a:pt x="13141" y="14505"/>
                  <a:pt x="13245" y="14472"/>
                  <a:pt x="13295" y="14486"/>
                </a:cubicBezTo>
                <a:cubicBezTo>
                  <a:pt x="13345" y="14500"/>
                  <a:pt x="13356" y="14582"/>
                  <a:pt x="13395" y="14610"/>
                </a:cubicBezTo>
                <a:cubicBezTo>
                  <a:pt x="13463" y="14659"/>
                  <a:pt x="13458" y="14666"/>
                  <a:pt x="13494" y="14734"/>
                </a:cubicBezTo>
                <a:cubicBezTo>
                  <a:pt x="13535" y="14810"/>
                  <a:pt x="13516" y="14805"/>
                  <a:pt x="13593" y="14784"/>
                </a:cubicBezTo>
              </a:path>
              <a:path w="4937" h="1440">
                <a:moveTo>
                  <a:pt x="13717" y="14263"/>
                </a:moveTo>
                <a:cubicBezTo>
                  <a:pt x="13717" y="14358"/>
                  <a:pt x="13697" y="14443"/>
                  <a:pt x="13692" y="14536"/>
                </a:cubicBezTo>
                <a:cubicBezTo>
                  <a:pt x="13686" y="14658"/>
                  <a:pt x="13729" y="14697"/>
                  <a:pt x="13791" y="14808"/>
                </a:cubicBezTo>
                <a:cubicBezTo>
                  <a:pt x="13822" y="14863"/>
                  <a:pt x="13881" y="14930"/>
                  <a:pt x="13940" y="14957"/>
                </a:cubicBezTo>
                <a:cubicBezTo>
                  <a:pt x="14027" y="14996"/>
                  <a:pt x="14086" y="14958"/>
                  <a:pt x="14139" y="14883"/>
                </a:cubicBezTo>
                <a:cubicBezTo>
                  <a:pt x="14189" y="14811"/>
                  <a:pt x="14211" y="14720"/>
                  <a:pt x="14213" y="14635"/>
                </a:cubicBezTo>
                <a:cubicBezTo>
                  <a:pt x="14217" y="14473"/>
                  <a:pt x="14193" y="14413"/>
                  <a:pt x="14114" y="14288"/>
                </a:cubicBezTo>
                <a:cubicBezTo>
                  <a:pt x="14085" y="14242"/>
                  <a:pt x="14047" y="14178"/>
                  <a:pt x="13990" y="14163"/>
                </a:cubicBezTo>
                <a:cubicBezTo>
                  <a:pt x="13949" y="14152"/>
                  <a:pt x="13906" y="14182"/>
                  <a:pt x="13866" y="14188"/>
                </a:cubicBezTo>
              </a:path>
              <a:path w="4937" h="1440">
                <a:moveTo>
                  <a:pt x="9277" y="14808"/>
                </a:moveTo>
                <a:cubicBezTo>
                  <a:pt x="9470" y="14808"/>
                  <a:pt x="9657" y="14818"/>
                  <a:pt x="9847" y="14833"/>
                </a:cubicBezTo>
                <a:cubicBezTo>
                  <a:pt x="10003" y="14845"/>
                  <a:pt x="10163" y="14855"/>
                  <a:pt x="10319" y="14858"/>
                </a:cubicBezTo>
                <a:cubicBezTo>
                  <a:pt x="10635" y="14865"/>
                  <a:pt x="10946" y="14847"/>
                  <a:pt x="11261" y="14833"/>
                </a:cubicBezTo>
                <a:cubicBezTo>
                  <a:pt x="11429" y="14825"/>
                  <a:pt x="11590" y="14798"/>
                  <a:pt x="11757" y="14784"/>
                </a:cubicBezTo>
                <a:cubicBezTo>
                  <a:pt x="11879" y="14774"/>
                  <a:pt x="12010" y="14793"/>
                  <a:pt x="12129" y="14759"/>
                </a:cubicBezTo>
                <a:cubicBezTo>
                  <a:pt x="12171" y="14747"/>
                  <a:pt x="12161" y="14743"/>
                  <a:pt x="12204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Ink 19"/>
          <p:cNvSpPr/>
          <p:nvPr/>
        </p:nvSpPr>
        <p:spPr>
          <a:xfrm>
            <a:off x="1017720" y="5062680"/>
            <a:ext cx="1027080" cy="876240"/>
          </a:xfrm>
          <a:custGeom>
            <a:avLst/>
            <a:gdLst/>
            <a:ahLst/>
            <a:rect l="l" t="t" r="r" b="b"/>
            <a:pathLst>
              <a:path w="2853" h="2432">
                <a:moveTo>
                  <a:pt x="4217" y="15429"/>
                </a:moveTo>
                <a:cubicBezTo>
                  <a:pt x="4331" y="15420"/>
                  <a:pt x="4418" y="15392"/>
                  <a:pt x="4539" y="15379"/>
                </a:cubicBezTo>
                <a:cubicBezTo>
                  <a:pt x="4556" y="15379"/>
                  <a:pt x="4572" y="15379"/>
                  <a:pt x="4589" y="15379"/>
                </a:cubicBezTo>
              </a:path>
              <a:path w="2853" h="2432">
                <a:moveTo>
                  <a:pt x="4291" y="15652"/>
                </a:moveTo>
                <a:cubicBezTo>
                  <a:pt x="4388" y="15700"/>
                  <a:pt x="4414" y="15692"/>
                  <a:pt x="4514" y="15677"/>
                </a:cubicBezTo>
                <a:cubicBezTo>
                  <a:pt x="4573" y="15677"/>
                  <a:pt x="4599" y="15674"/>
                  <a:pt x="4638" y="15652"/>
                </a:cubicBezTo>
              </a:path>
              <a:path w="2853" h="2432">
                <a:moveTo>
                  <a:pt x="4911" y="15106"/>
                </a:moveTo>
                <a:cubicBezTo>
                  <a:pt x="4951" y="15146"/>
                  <a:pt x="4989" y="15176"/>
                  <a:pt x="5011" y="15230"/>
                </a:cubicBezTo>
                <a:cubicBezTo>
                  <a:pt x="5055" y="15338"/>
                  <a:pt x="5072" y="15453"/>
                  <a:pt x="5135" y="15553"/>
                </a:cubicBezTo>
                <a:cubicBezTo>
                  <a:pt x="5232" y="15708"/>
                  <a:pt x="5308" y="15868"/>
                  <a:pt x="5407" y="16024"/>
                </a:cubicBezTo>
              </a:path>
              <a:path w="2853" h="2432">
                <a:moveTo>
                  <a:pt x="5432" y="15404"/>
                </a:moveTo>
                <a:cubicBezTo>
                  <a:pt x="5349" y="15446"/>
                  <a:pt x="5327" y="15485"/>
                  <a:pt x="5259" y="15553"/>
                </a:cubicBezTo>
                <a:cubicBezTo>
                  <a:pt x="5153" y="15659"/>
                  <a:pt x="5070" y="15800"/>
                  <a:pt x="4961" y="15900"/>
                </a:cubicBezTo>
                <a:cubicBezTo>
                  <a:pt x="4878" y="15976"/>
                  <a:pt x="4837" y="16057"/>
                  <a:pt x="4738" y="16123"/>
                </a:cubicBezTo>
              </a:path>
              <a:path w="2853" h="2432">
                <a:moveTo>
                  <a:pt x="3597" y="15007"/>
                </a:moveTo>
                <a:cubicBezTo>
                  <a:pt x="3680" y="14965"/>
                  <a:pt x="3640" y="14940"/>
                  <a:pt x="3597" y="14858"/>
                </a:cubicBezTo>
                <a:cubicBezTo>
                  <a:pt x="3552" y="14773"/>
                  <a:pt x="3530" y="14786"/>
                  <a:pt x="3448" y="14759"/>
                </a:cubicBezTo>
                <a:cubicBezTo>
                  <a:pt x="3357" y="14728"/>
                  <a:pt x="3379" y="14689"/>
                  <a:pt x="3274" y="14684"/>
                </a:cubicBezTo>
                <a:cubicBezTo>
                  <a:pt x="3210" y="14681"/>
                  <a:pt x="3152" y="14735"/>
                  <a:pt x="3175" y="14808"/>
                </a:cubicBezTo>
                <a:cubicBezTo>
                  <a:pt x="3191" y="14861"/>
                  <a:pt x="3221" y="14925"/>
                  <a:pt x="3249" y="14982"/>
                </a:cubicBezTo>
                <a:cubicBezTo>
                  <a:pt x="3288" y="15061"/>
                  <a:pt x="3320" y="15146"/>
                  <a:pt x="3349" y="15230"/>
                </a:cubicBezTo>
                <a:cubicBezTo>
                  <a:pt x="3389" y="15346"/>
                  <a:pt x="3431" y="15462"/>
                  <a:pt x="3473" y="15577"/>
                </a:cubicBezTo>
                <a:cubicBezTo>
                  <a:pt x="3520" y="15704"/>
                  <a:pt x="3525" y="15779"/>
                  <a:pt x="3473" y="15900"/>
                </a:cubicBezTo>
                <a:cubicBezTo>
                  <a:pt x="3363" y="15886"/>
                  <a:pt x="3347" y="15848"/>
                  <a:pt x="3299" y="15751"/>
                </a:cubicBezTo>
                <a:cubicBezTo>
                  <a:pt x="3250" y="15653"/>
                  <a:pt x="3285" y="15577"/>
                  <a:pt x="3299" y="15478"/>
                </a:cubicBezTo>
                <a:cubicBezTo>
                  <a:pt x="3308" y="15413"/>
                  <a:pt x="3326" y="15402"/>
                  <a:pt x="3373" y="15354"/>
                </a:cubicBezTo>
                <a:cubicBezTo>
                  <a:pt x="3420" y="15307"/>
                  <a:pt x="3483" y="15257"/>
                  <a:pt x="3522" y="15205"/>
                </a:cubicBezTo>
                <a:cubicBezTo>
                  <a:pt x="3569" y="15141"/>
                  <a:pt x="3610" y="15079"/>
                  <a:pt x="3646" y="15007"/>
                </a:cubicBezTo>
                <a:cubicBezTo>
                  <a:pt x="3654" y="14990"/>
                  <a:pt x="3663" y="14974"/>
                  <a:pt x="3671" y="14957"/>
                </a:cubicBezTo>
              </a:path>
              <a:path w="2853" h="2432">
                <a:moveTo>
                  <a:pt x="2927" y="14238"/>
                </a:moveTo>
                <a:cubicBezTo>
                  <a:pt x="2931" y="14354"/>
                  <a:pt x="2960" y="14472"/>
                  <a:pt x="2952" y="14585"/>
                </a:cubicBezTo>
                <a:cubicBezTo>
                  <a:pt x="2943" y="14719"/>
                  <a:pt x="2927" y="14846"/>
                  <a:pt x="2927" y="14982"/>
                </a:cubicBezTo>
                <a:cubicBezTo>
                  <a:pt x="2927" y="15134"/>
                  <a:pt x="2906" y="15278"/>
                  <a:pt x="2902" y="15429"/>
                </a:cubicBezTo>
                <a:cubicBezTo>
                  <a:pt x="2900" y="15525"/>
                  <a:pt x="2846" y="15739"/>
                  <a:pt x="2877" y="15825"/>
                </a:cubicBezTo>
                <a:cubicBezTo>
                  <a:pt x="2885" y="15817"/>
                  <a:pt x="2894" y="15809"/>
                  <a:pt x="2902" y="15801"/>
                </a:cubicBezTo>
                <a:cubicBezTo>
                  <a:pt x="2902" y="15716"/>
                  <a:pt x="2921" y="15630"/>
                  <a:pt x="2927" y="15553"/>
                </a:cubicBezTo>
                <a:cubicBezTo>
                  <a:pt x="2937" y="15420"/>
                  <a:pt x="2948" y="15288"/>
                  <a:pt x="2952" y="15156"/>
                </a:cubicBezTo>
                <a:cubicBezTo>
                  <a:pt x="2957" y="14981"/>
                  <a:pt x="2974" y="14810"/>
                  <a:pt x="2977" y="14635"/>
                </a:cubicBezTo>
                <a:cubicBezTo>
                  <a:pt x="2980" y="14445"/>
                  <a:pt x="2962" y="14238"/>
                  <a:pt x="3001" y="14064"/>
                </a:cubicBezTo>
                <a:cubicBezTo>
                  <a:pt x="3109" y="14115"/>
                  <a:pt x="3214" y="14145"/>
                  <a:pt x="3324" y="14188"/>
                </a:cubicBezTo>
                <a:cubicBezTo>
                  <a:pt x="3447" y="14236"/>
                  <a:pt x="3575" y="14265"/>
                  <a:pt x="3696" y="14312"/>
                </a:cubicBezTo>
                <a:cubicBezTo>
                  <a:pt x="3875" y="14382"/>
                  <a:pt x="4071" y="14442"/>
                  <a:pt x="4266" y="14461"/>
                </a:cubicBezTo>
                <a:cubicBezTo>
                  <a:pt x="4418" y="14476"/>
                  <a:pt x="4562" y="14512"/>
                  <a:pt x="4713" y="14536"/>
                </a:cubicBezTo>
                <a:cubicBezTo>
                  <a:pt x="4859" y="14559"/>
                  <a:pt x="4994" y="14584"/>
                  <a:pt x="5135" y="14610"/>
                </a:cubicBezTo>
                <a:cubicBezTo>
                  <a:pt x="5204" y="14623"/>
                  <a:pt x="5322" y="14627"/>
                  <a:pt x="5383" y="14660"/>
                </a:cubicBezTo>
                <a:cubicBezTo>
                  <a:pt x="5454" y="14699"/>
                  <a:pt x="5440" y="14744"/>
                  <a:pt x="5457" y="14808"/>
                </a:cubicBezTo>
                <a:cubicBezTo>
                  <a:pt x="5485" y="14912"/>
                  <a:pt x="5490" y="15002"/>
                  <a:pt x="5507" y="15106"/>
                </a:cubicBezTo>
                <a:cubicBezTo>
                  <a:pt x="5533" y="15273"/>
                  <a:pt x="5609" y="15436"/>
                  <a:pt x="5631" y="15602"/>
                </a:cubicBezTo>
                <a:cubicBezTo>
                  <a:pt x="5653" y="15766"/>
                  <a:pt x="5655" y="15930"/>
                  <a:pt x="5655" y="16098"/>
                </a:cubicBezTo>
                <a:cubicBezTo>
                  <a:pt x="5655" y="16186"/>
                  <a:pt x="5655" y="16275"/>
                  <a:pt x="5655" y="16371"/>
                </a:cubicBezTo>
                <a:cubicBezTo>
                  <a:pt x="5655" y="16437"/>
                  <a:pt x="5655" y="16454"/>
                  <a:pt x="5655" y="16495"/>
                </a:cubicBezTo>
                <a:cubicBezTo>
                  <a:pt x="5587" y="16482"/>
                  <a:pt x="5529" y="16471"/>
                  <a:pt x="5457" y="16470"/>
                </a:cubicBezTo>
                <a:cubicBezTo>
                  <a:pt x="5298" y="16467"/>
                  <a:pt x="5140" y="16455"/>
                  <a:pt x="4986" y="16446"/>
                </a:cubicBezTo>
                <a:cubicBezTo>
                  <a:pt x="4773" y="16434"/>
                  <a:pt x="4553" y="16430"/>
                  <a:pt x="4341" y="16421"/>
                </a:cubicBezTo>
                <a:cubicBezTo>
                  <a:pt x="4075" y="16410"/>
                  <a:pt x="3811" y="16375"/>
                  <a:pt x="3547" y="16371"/>
                </a:cubicBezTo>
                <a:cubicBezTo>
                  <a:pt x="3417" y="16369"/>
                  <a:pt x="3302" y="16369"/>
                  <a:pt x="3175" y="16346"/>
                </a:cubicBezTo>
                <a:cubicBezTo>
                  <a:pt x="3099" y="16332"/>
                  <a:pt x="3023" y="16328"/>
                  <a:pt x="2952" y="16297"/>
                </a:cubicBezTo>
                <a:cubicBezTo>
                  <a:pt x="2907" y="16277"/>
                  <a:pt x="2867" y="16226"/>
                  <a:pt x="2828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Ink 20"/>
          <p:cNvSpPr/>
          <p:nvPr/>
        </p:nvSpPr>
        <p:spPr>
          <a:xfrm>
            <a:off x="3544920" y="5456160"/>
            <a:ext cx="785880" cy="357120"/>
          </a:xfrm>
          <a:custGeom>
            <a:avLst/>
            <a:gdLst/>
            <a:ahLst/>
            <a:rect l="l" t="t" r="r" b="b"/>
            <a:pathLst>
              <a:path w="2184" h="993">
                <a:moveTo>
                  <a:pt x="9847" y="15801"/>
                </a:moveTo>
                <a:cubicBezTo>
                  <a:pt x="9855" y="15809"/>
                  <a:pt x="9864" y="15817"/>
                  <a:pt x="9872" y="15825"/>
                </a:cubicBezTo>
                <a:cubicBezTo>
                  <a:pt x="9909" y="15803"/>
                  <a:pt x="9935" y="15798"/>
                  <a:pt x="9971" y="15776"/>
                </a:cubicBezTo>
                <a:cubicBezTo>
                  <a:pt x="9933" y="15752"/>
                  <a:pt x="9915" y="15753"/>
                  <a:pt x="9897" y="15726"/>
                </a:cubicBezTo>
              </a:path>
              <a:path w="2184" h="993">
                <a:moveTo>
                  <a:pt x="10145" y="15180"/>
                </a:moveTo>
                <a:cubicBezTo>
                  <a:pt x="10246" y="15153"/>
                  <a:pt x="10274" y="15165"/>
                  <a:pt x="10368" y="15180"/>
                </a:cubicBezTo>
                <a:cubicBezTo>
                  <a:pt x="10429" y="15190"/>
                  <a:pt x="10457" y="15182"/>
                  <a:pt x="10517" y="15205"/>
                </a:cubicBezTo>
                <a:cubicBezTo>
                  <a:pt x="10485" y="15253"/>
                  <a:pt x="10453" y="15328"/>
                  <a:pt x="10443" y="15379"/>
                </a:cubicBezTo>
                <a:cubicBezTo>
                  <a:pt x="10428" y="15454"/>
                  <a:pt x="10418" y="15522"/>
                  <a:pt x="10418" y="15602"/>
                </a:cubicBezTo>
                <a:cubicBezTo>
                  <a:pt x="10418" y="15611"/>
                  <a:pt x="10398" y="15949"/>
                  <a:pt x="10443" y="15949"/>
                </a:cubicBezTo>
                <a:cubicBezTo>
                  <a:pt x="10451" y="15933"/>
                  <a:pt x="10460" y="15916"/>
                  <a:pt x="10468" y="15900"/>
                </a:cubicBezTo>
              </a:path>
              <a:path w="2184" h="993">
                <a:moveTo>
                  <a:pt x="10740" y="15304"/>
                </a:moveTo>
                <a:cubicBezTo>
                  <a:pt x="10690" y="15446"/>
                  <a:pt x="10604" y="15580"/>
                  <a:pt x="10666" y="15726"/>
                </a:cubicBezTo>
                <a:cubicBezTo>
                  <a:pt x="10696" y="15798"/>
                  <a:pt x="10743" y="15865"/>
                  <a:pt x="10790" y="15925"/>
                </a:cubicBezTo>
                <a:cubicBezTo>
                  <a:pt x="10873" y="16032"/>
                  <a:pt x="10962" y="15907"/>
                  <a:pt x="10988" y="15850"/>
                </a:cubicBezTo>
                <a:cubicBezTo>
                  <a:pt x="11030" y="15757"/>
                  <a:pt x="11038" y="15707"/>
                  <a:pt x="11038" y="15602"/>
                </a:cubicBezTo>
                <a:cubicBezTo>
                  <a:pt x="11038" y="15535"/>
                  <a:pt x="11022" y="15398"/>
                  <a:pt x="10964" y="15354"/>
                </a:cubicBezTo>
                <a:cubicBezTo>
                  <a:pt x="10905" y="15309"/>
                  <a:pt x="10822" y="15288"/>
                  <a:pt x="10765" y="15304"/>
                </a:cubicBezTo>
              </a:path>
              <a:path w="2184" h="993">
                <a:moveTo>
                  <a:pt x="11162" y="15180"/>
                </a:moveTo>
                <a:cubicBezTo>
                  <a:pt x="11256" y="15180"/>
                  <a:pt x="11331" y="15177"/>
                  <a:pt x="11410" y="15205"/>
                </a:cubicBezTo>
                <a:cubicBezTo>
                  <a:pt x="11484" y="15231"/>
                  <a:pt x="11529" y="15252"/>
                  <a:pt x="11534" y="15329"/>
                </a:cubicBezTo>
                <a:cubicBezTo>
                  <a:pt x="11539" y="15422"/>
                  <a:pt x="11481" y="15490"/>
                  <a:pt x="11460" y="15577"/>
                </a:cubicBezTo>
                <a:cubicBezTo>
                  <a:pt x="11442" y="15649"/>
                  <a:pt x="11435" y="15725"/>
                  <a:pt x="11435" y="15801"/>
                </a:cubicBezTo>
                <a:cubicBezTo>
                  <a:pt x="11435" y="15890"/>
                  <a:pt x="11450" y="15960"/>
                  <a:pt x="11534" y="15974"/>
                </a:cubicBezTo>
                <a:cubicBezTo>
                  <a:pt x="11542" y="15974"/>
                  <a:pt x="11551" y="15974"/>
                  <a:pt x="11559" y="15974"/>
                </a:cubicBezTo>
              </a:path>
              <a:path w="2184" h="993">
                <a:moveTo>
                  <a:pt x="11906" y="15255"/>
                </a:moveTo>
                <a:cubicBezTo>
                  <a:pt x="11906" y="15433"/>
                  <a:pt x="11915" y="15603"/>
                  <a:pt x="11931" y="15776"/>
                </a:cubicBezTo>
                <a:cubicBezTo>
                  <a:pt x="11939" y="15867"/>
                  <a:pt x="11933" y="15985"/>
                  <a:pt x="11956" y="16073"/>
                </a:cubicBezTo>
                <a:cubicBezTo>
                  <a:pt x="11981" y="16123"/>
                  <a:pt x="11989" y="16139"/>
                  <a:pt x="12030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Ink 21"/>
          <p:cNvSpPr/>
          <p:nvPr/>
        </p:nvSpPr>
        <p:spPr>
          <a:xfrm>
            <a:off x="4759200" y="5357880"/>
            <a:ext cx="804960" cy="482400"/>
          </a:xfrm>
          <a:custGeom>
            <a:avLst/>
            <a:gdLst/>
            <a:ahLst/>
            <a:rect l="l" t="t" r="r" b="b"/>
            <a:pathLst>
              <a:path w="2233" h="1340">
                <a:moveTo>
                  <a:pt x="13221" y="14932"/>
                </a:moveTo>
                <a:cubicBezTo>
                  <a:pt x="13375" y="14894"/>
                  <a:pt x="13465" y="14883"/>
                  <a:pt x="13618" y="14883"/>
                </a:cubicBezTo>
                <a:cubicBezTo>
                  <a:pt x="13761" y="14883"/>
                  <a:pt x="13877" y="14918"/>
                  <a:pt x="14015" y="14932"/>
                </a:cubicBezTo>
                <a:cubicBezTo>
                  <a:pt x="14116" y="14942"/>
                  <a:pt x="14206" y="14957"/>
                  <a:pt x="14312" y="14957"/>
                </a:cubicBezTo>
                <a:cubicBezTo>
                  <a:pt x="14402" y="14957"/>
                  <a:pt x="14428" y="14964"/>
                  <a:pt x="14461" y="14908"/>
                </a:cubicBezTo>
              </a:path>
              <a:path w="2233" h="1340">
                <a:moveTo>
                  <a:pt x="13395" y="16073"/>
                </a:moveTo>
                <a:cubicBezTo>
                  <a:pt x="13403" y="16065"/>
                  <a:pt x="13411" y="16057"/>
                  <a:pt x="13419" y="16049"/>
                </a:cubicBezTo>
              </a:path>
              <a:path w="2233" h="1340">
                <a:moveTo>
                  <a:pt x="13643" y="15404"/>
                </a:moveTo>
                <a:cubicBezTo>
                  <a:pt x="13724" y="15322"/>
                  <a:pt x="13751" y="15315"/>
                  <a:pt x="13866" y="15354"/>
                </a:cubicBezTo>
                <a:cubicBezTo>
                  <a:pt x="13920" y="15372"/>
                  <a:pt x="13991" y="15394"/>
                  <a:pt x="14039" y="15404"/>
                </a:cubicBezTo>
                <a:cubicBezTo>
                  <a:pt x="14056" y="15404"/>
                  <a:pt x="14072" y="15404"/>
                  <a:pt x="14089" y="15404"/>
                </a:cubicBezTo>
                <a:cubicBezTo>
                  <a:pt x="14079" y="15474"/>
                  <a:pt x="14030" y="15530"/>
                  <a:pt x="14015" y="15602"/>
                </a:cubicBezTo>
                <a:cubicBezTo>
                  <a:pt x="13991" y="15721"/>
                  <a:pt x="13965" y="15794"/>
                  <a:pt x="13965" y="15925"/>
                </a:cubicBezTo>
                <a:cubicBezTo>
                  <a:pt x="13965" y="16002"/>
                  <a:pt x="13951" y="16079"/>
                  <a:pt x="13990" y="16148"/>
                </a:cubicBezTo>
                <a:cubicBezTo>
                  <a:pt x="13998" y="16156"/>
                  <a:pt x="14007" y="16165"/>
                  <a:pt x="14015" y="16173"/>
                </a:cubicBezTo>
              </a:path>
              <a:path w="2233" h="1340">
                <a:moveTo>
                  <a:pt x="14337" y="15503"/>
                </a:moveTo>
                <a:cubicBezTo>
                  <a:pt x="14286" y="15593"/>
                  <a:pt x="14268" y="15614"/>
                  <a:pt x="14263" y="15726"/>
                </a:cubicBezTo>
                <a:cubicBezTo>
                  <a:pt x="14259" y="15819"/>
                  <a:pt x="14302" y="15948"/>
                  <a:pt x="14362" y="16024"/>
                </a:cubicBezTo>
                <a:cubicBezTo>
                  <a:pt x="14381" y="16049"/>
                  <a:pt x="14449" y="16165"/>
                  <a:pt x="14486" y="16173"/>
                </a:cubicBezTo>
                <a:cubicBezTo>
                  <a:pt x="14627" y="16203"/>
                  <a:pt x="14637" y="16090"/>
                  <a:pt x="14684" y="15999"/>
                </a:cubicBezTo>
                <a:cubicBezTo>
                  <a:pt x="14734" y="15903"/>
                  <a:pt x="14710" y="15752"/>
                  <a:pt x="14684" y="15652"/>
                </a:cubicBezTo>
                <a:cubicBezTo>
                  <a:pt x="14663" y="15572"/>
                  <a:pt x="14658" y="15522"/>
                  <a:pt x="14585" y="15478"/>
                </a:cubicBezTo>
                <a:cubicBezTo>
                  <a:pt x="14535" y="15448"/>
                  <a:pt x="14439" y="15390"/>
                  <a:pt x="14387" y="15453"/>
                </a:cubicBezTo>
                <a:cubicBezTo>
                  <a:pt x="14358" y="15489"/>
                  <a:pt x="14301" y="15574"/>
                  <a:pt x="14288" y="15627"/>
                </a:cubicBezTo>
              </a:path>
              <a:path w="2233" h="1340">
                <a:moveTo>
                  <a:pt x="14684" y="15404"/>
                </a:moveTo>
                <a:cubicBezTo>
                  <a:pt x="14784" y="15317"/>
                  <a:pt x="14785" y="15336"/>
                  <a:pt x="14908" y="15354"/>
                </a:cubicBezTo>
                <a:cubicBezTo>
                  <a:pt x="14981" y="15365"/>
                  <a:pt x="15027" y="15414"/>
                  <a:pt x="15106" y="15429"/>
                </a:cubicBezTo>
                <a:cubicBezTo>
                  <a:pt x="15163" y="15440"/>
                  <a:pt x="15220" y="15447"/>
                  <a:pt x="15205" y="15528"/>
                </a:cubicBezTo>
                <a:cubicBezTo>
                  <a:pt x="15193" y="15595"/>
                  <a:pt x="15197" y="15686"/>
                  <a:pt x="15180" y="15751"/>
                </a:cubicBezTo>
                <a:cubicBezTo>
                  <a:pt x="15157" y="15836"/>
                  <a:pt x="15156" y="15907"/>
                  <a:pt x="15156" y="15999"/>
                </a:cubicBezTo>
                <a:cubicBezTo>
                  <a:pt x="15156" y="16069"/>
                  <a:pt x="15189" y="16139"/>
                  <a:pt x="15205" y="16197"/>
                </a:cubicBezTo>
                <a:cubicBezTo>
                  <a:pt x="15205" y="16205"/>
                  <a:pt x="15205" y="16214"/>
                  <a:pt x="15205" y="16222"/>
                </a:cubicBezTo>
              </a:path>
              <a:path w="2233" h="1340">
                <a:moveTo>
                  <a:pt x="15429" y="15304"/>
                </a:moveTo>
                <a:cubicBezTo>
                  <a:pt x="15393" y="15305"/>
                  <a:pt x="15390" y="15377"/>
                  <a:pt x="15404" y="15453"/>
                </a:cubicBezTo>
                <a:cubicBezTo>
                  <a:pt x="15428" y="15588"/>
                  <a:pt x="15413" y="15715"/>
                  <a:pt x="15429" y="15850"/>
                </a:cubicBezTo>
                <a:cubicBezTo>
                  <a:pt x="15443" y="15970"/>
                  <a:pt x="15453" y="16075"/>
                  <a:pt x="15453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Ink 22"/>
          <p:cNvSpPr/>
          <p:nvPr/>
        </p:nvSpPr>
        <p:spPr>
          <a:xfrm>
            <a:off x="4232160" y="6018120"/>
            <a:ext cx="1260720" cy="403200"/>
          </a:xfrm>
          <a:custGeom>
            <a:avLst/>
            <a:gdLst/>
            <a:ahLst/>
            <a:rect l="l" t="t" r="r" b="b"/>
            <a:pathLst>
              <a:path w="3499" h="1118">
                <a:moveTo>
                  <a:pt x="11881" y="16867"/>
                </a:moveTo>
                <a:cubicBezTo>
                  <a:pt x="11908" y="16976"/>
                  <a:pt x="11926" y="17168"/>
                  <a:pt x="11981" y="17264"/>
                </a:cubicBezTo>
                <a:cubicBezTo>
                  <a:pt x="12046" y="17377"/>
                  <a:pt x="12118" y="17531"/>
                  <a:pt x="12204" y="17636"/>
                </a:cubicBezTo>
                <a:cubicBezTo>
                  <a:pt x="12287" y="17738"/>
                  <a:pt x="12306" y="17727"/>
                  <a:pt x="12427" y="17735"/>
                </a:cubicBezTo>
              </a:path>
              <a:path w="3499" h="1118">
                <a:moveTo>
                  <a:pt x="12303" y="16718"/>
                </a:moveTo>
                <a:cubicBezTo>
                  <a:pt x="12200" y="16829"/>
                  <a:pt x="12117" y="16942"/>
                  <a:pt x="12030" y="17066"/>
                </a:cubicBezTo>
                <a:cubicBezTo>
                  <a:pt x="11969" y="17153"/>
                  <a:pt x="11903" y="17267"/>
                  <a:pt x="11857" y="17363"/>
                </a:cubicBezTo>
                <a:cubicBezTo>
                  <a:pt x="11824" y="17433"/>
                  <a:pt x="11777" y="17496"/>
                  <a:pt x="11757" y="17562"/>
                </a:cubicBezTo>
                <a:cubicBezTo>
                  <a:pt x="11757" y="17570"/>
                  <a:pt x="11757" y="17579"/>
                  <a:pt x="11757" y="17587"/>
                </a:cubicBezTo>
              </a:path>
              <a:path w="3499" h="1118">
                <a:moveTo>
                  <a:pt x="12378" y="16892"/>
                </a:moveTo>
                <a:cubicBezTo>
                  <a:pt x="12516" y="16876"/>
                  <a:pt x="12637" y="16867"/>
                  <a:pt x="12774" y="16867"/>
                </a:cubicBezTo>
              </a:path>
              <a:path w="3499" h="1118">
                <a:moveTo>
                  <a:pt x="12502" y="17115"/>
                </a:moveTo>
                <a:cubicBezTo>
                  <a:pt x="12576" y="17201"/>
                  <a:pt x="12651" y="17297"/>
                  <a:pt x="12774" y="17314"/>
                </a:cubicBezTo>
                <a:cubicBezTo>
                  <a:pt x="12807" y="17314"/>
                  <a:pt x="12841" y="17314"/>
                  <a:pt x="12874" y="17314"/>
                </a:cubicBezTo>
              </a:path>
              <a:path w="3499" h="1118">
                <a:moveTo>
                  <a:pt x="13122" y="16917"/>
                </a:moveTo>
                <a:cubicBezTo>
                  <a:pt x="13218" y="16891"/>
                  <a:pt x="13297" y="16875"/>
                  <a:pt x="13395" y="16917"/>
                </a:cubicBezTo>
                <a:cubicBezTo>
                  <a:pt x="13452" y="16941"/>
                  <a:pt x="13466" y="17015"/>
                  <a:pt x="13469" y="17066"/>
                </a:cubicBezTo>
                <a:cubicBezTo>
                  <a:pt x="13474" y="17155"/>
                  <a:pt x="13453" y="17231"/>
                  <a:pt x="13419" y="17314"/>
                </a:cubicBezTo>
                <a:cubicBezTo>
                  <a:pt x="13385" y="17399"/>
                  <a:pt x="13334" y="17479"/>
                  <a:pt x="13295" y="17562"/>
                </a:cubicBezTo>
                <a:cubicBezTo>
                  <a:pt x="13277" y="17600"/>
                  <a:pt x="13245" y="17697"/>
                  <a:pt x="13196" y="17711"/>
                </a:cubicBezTo>
                <a:cubicBezTo>
                  <a:pt x="13179" y="17711"/>
                  <a:pt x="13163" y="17711"/>
                  <a:pt x="13146" y="17711"/>
                </a:cubicBezTo>
                <a:cubicBezTo>
                  <a:pt x="13131" y="17640"/>
                  <a:pt x="13128" y="17557"/>
                  <a:pt x="13171" y="17487"/>
                </a:cubicBezTo>
                <a:cubicBezTo>
                  <a:pt x="13201" y="17439"/>
                  <a:pt x="13226" y="17420"/>
                  <a:pt x="13271" y="17388"/>
                </a:cubicBezTo>
                <a:cubicBezTo>
                  <a:pt x="13317" y="17415"/>
                  <a:pt x="13410" y="17450"/>
                  <a:pt x="13444" y="17487"/>
                </a:cubicBezTo>
                <a:cubicBezTo>
                  <a:pt x="13488" y="17535"/>
                  <a:pt x="13482" y="17612"/>
                  <a:pt x="13519" y="17636"/>
                </a:cubicBezTo>
              </a:path>
              <a:path w="3499" h="1118">
                <a:moveTo>
                  <a:pt x="13915" y="16991"/>
                </a:moveTo>
                <a:cubicBezTo>
                  <a:pt x="13896" y="16906"/>
                  <a:pt x="13910" y="16848"/>
                  <a:pt x="13816" y="16842"/>
                </a:cubicBezTo>
                <a:cubicBezTo>
                  <a:pt x="13719" y="16835"/>
                  <a:pt x="13721" y="16914"/>
                  <a:pt x="13717" y="16991"/>
                </a:cubicBezTo>
                <a:cubicBezTo>
                  <a:pt x="13712" y="17099"/>
                  <a:pt x="13769" y="17162"/>
                  <a:pt x="13791" y="17264"/>
                </a:cubicBezTo>
                <a:cubicBezTo>
                  <a:pt x="13806" y="17334"/>
                  <a:pt x="13851" y="17385"/>
                  <a:pt x="13866" y="17462"/>
                </a:cubicBezTo>
                <a:cubicBezTo>
                  <a:pt x="13880" y="17537"/>
                  <a:pt x="13877" y="17651"/>
                  <a:pt x="13841" y="17711"/>
                </a:cubicBezTo>
                <a:cubicBezTo>
                  <a:pt x="13791" y="17661"/>
                  <a:pt x="13746" y="17634"/>
                  <a:pt x="13742" y="17562"/>
                </a:cubicBezTo>
                <a:cubicBezTo>
                  <a:pt x="13737" y="17478"/>
                  <a:pt x="13768" y="17383"/>
                  <a:pt x="13816" y="17314"/>
                </a:cubicBezTo>
                <a:cubicBezTo>
                  <a:pt x="13850" y="17265"/>
                  <a:pt x="13881" y="17214"/>
                  <a:pt x="13915" y="17165"/>
                </a:cubicBezTo>
                <a:cubicBezTo>
                  <a:pt x="13965" y="17093"/>
                  <a:pt x="14027" y="17081"/>
                  <a:pt x="14039" y="16991"/>
                </a:cubicBezTo>
              </a:path>
              <a:path w="3499" h="1118">
                <a:moveTo>
                  <a:pt x="13990" y="17686"/>
                </a:moveTo>
                <a:cubicBezTo>
                  <a:pt x="13998" y="17678"/>
                  <a:pt x="14007" y="17669"/>
                  <a:pt x="14015" y="17661"/>
                </a:cubicBezTo>
              </a:path>
              <a:path w="3499" h="1118">
                <a:moveTo>
                  <a:pt x="14288" y="17090"/>
                </a:moveTo>
                <a:cubicBezTo>
                  <a:pt x="14354" y="17058"/>
                  <a:pt x="14398" y="17017"/>
                  <a:pt x="14461" y="17066"/>
                </a:cubicBezTo>
                <a:cubicBezTo>
                  <a:pt x="14533" y="17122"/>
                  <a:pt x="14566" y="17173"/>
                  <a:pt x="14585" y="17264"/>
                </a:cubicBezTo>
                <a:cubicBezTo>
                  <a:pt x="14602" y="17345"/>
                  <a:pt x="14515" y="17459"/>
                  <a:pt x="14486" y="17537"/>
                </a:cubicBezTo>
                <a:cubicBezTo>
                  <a:pt x="14447" y="17641"/>
                  <a:pt x="14445" y="17673"/>
                  <a:pt x="14362" y="17735"/>
                </a:cubicBezTo>
                <a:cubicBezTo>
                  <a:pt x="14335" y="17755"/>
                  <a:pt x="14311" y="17786"/>
                  <a:pt x="14288" y="17810"/>
                </a:cubicBezTo>
                <a:cubicBezTo>
                  <a:pt x="14214" y="17736"/>
                  <a:pt x="14241" y="17725"/>
                  <a:pt x="14288" y="17636"/>
                </a:cubicBezTo>
                <a:cubicBezTo>
                  <a:pt x="14322" y="17571"/>
                  <a:pt x="14348" y="17546"/>
                  <a:pt x="14412" y="17512"/>
                </a:cubicBezTo>
                <a:cubicBezTo>
                  <a:pt x="14526" y="17451"/>
                  <a:pt x="14589" y="17549"/>
                  <a:pt x="14635" y="17636"/>
                </a:cubicBezTo>
                <a:cubicBezTo>
                  <a:pt x="14665" y="17694"/>
                  <a:pt x="14683" y="17759"/>
                  <a:pt x="14734" y="17785"/>
                </a:cubicBezTo>
              </a:path>
              <a:path w="3499" h="1118">
                <a:moveTo>
                  <a:pt x="15032" y="17314"/>
                </a:moveTo>
                <a:cubicBezTo>
                  <a:pt x="15046" y="17221"/>
                  <a:pt x="15092" y="17062"/>
                  <a:pt x="15056" y="16966"/>
                </a:cubicBezTo>
                <a:cubicBezTo>
                  <a:pt x="15032" y="16942"/>
                  <a:pt x="15023" y="16933"/>
                  <a:pt x="15007" y="16917"/>
                </a:cubicBezTo>
                <a:cubicBezTo>
                  <a:pt x="14895" y="16933"/>
                  <a:pt x="14912" y="17008"/>
                  <a:pt x="14908" y="17115"/>
                </a:cubicBezTo>
                <a:cubicBezTo>
                  <a:pt x="14903" y="17235"/>
                  <a:pt x="14929" y="17342"/>
                  <a:pt x="14932" y="17462"/>
                </a:cubicBezTo>
                <a:cubicBezTo>
                  <a:pt x="14935" y="17566"/>
                  <a:pt x="14954" y="17692"/>
                  <a:pt x="14908" y="17785"/>
                </a:cubicBezTo>
                <a:cubicBezTo>
                  <a:pt x="14883" y="17810"/>
                  <a:pt x="14875" y="17818"/>
                  <a:pt x="14858" y="17835"/>
                </a:cubicBezTo>
                <a:cubicBezTo>
                  <a:pt x="14830" y="17788"/>
                  <a:pt x="14811" y="17743"/>
                  <a:pt x="14808" y="17686"/>
                </a:cubicBezTo>
                <a:cubicBezTo>
                  <a:pt x="14802" y="17593"/>
                  <a:pt x="14826" y="17501"/>
                  <a:pt x="14858" y="17413"/>
                </a:cubicBezTo>
                <a:cubicBezTo>
                  <a:pt x="14893" y="17317"/>
                  <a:pt x="14996" y="17262"/>
                  <a:pt x="15056" y="17190"/>
                </a:cubicBezTo>
                <a:cubicBezTo>
                  <a:pt x="15097" y="17140"/>
                  <a:pt x="15165" y="17133"/>
                  <a:pt x="15205" y="17090"/>
                </a:cubicBezTo>
                <a:cubicBezTo>
                  <a:pt x="15237" y="17056"/>
                  <a:pt x="15239" y="16984"/>
                  <a:pt x="15255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Ink 23"/>
          <p:cNvSpPr/>
          <p:nvPr/>
        </p:nvSpPr>
        <p:spPr>
          <a:xfrm>
            <a:off x="4071960" y="2224080"/>
            <a:ext cx="366840" cy="21420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11311" y="6176"/>
                </a:moveTo>
                <a:cubicBezTo>
                  <a:pt x="11409" y="6176"/>
                  <a:pt x="11528" y="6157"/>
                  <a:pt x="11609" y="6201"/>
                </a:cubicBezTo>
                <a:cubicBezTo>
                  <a:pt x="11736" y="6270"/>
                  <a:pt x="11648" y="6290"/>
                  <a:pt x="11584" y="6375"/>
                </a:cubicBezTo>
                <a:cubicBezTo>
                  <a:pt x="11529" y="6448"/>
                  <a:pt x="11482" y="6493"/>
                  <a:pt x="11410" y="6548"/>
                </a:cubicBezTo>
                <a:cubicBezTo>
                  <a:pt x="11371" y="6578"/>
                  <a:pt x="11324" y="6619"/>
                  <a:pt x="11336" y="6672"/>
                </a:cubicBezTo>
                <a:cubicBezTo>
                  <a:pt x="11357" y="6761"/>
                  <a:pt x="11439" y="6747"/>
                  <a:pt x="11509" y="6747"/>
                </a:cubicBezTo>
                <a:cubicBezTo>
                  <a:pt x="11591" y="6747"/>
                  <a:pt x="11694" y="6773"/>
                  <a:pt x="11757" y="6722"/>
                </a:cubicBezTo>
                <a:cubicBezTo>
                  <a:pt x="11765" y="6714"/>
                  <a:pt x="11774" y="6705"/>
                  <a:pt x="11782" y="6697"/>
                </a:cubicBezTo>
              </a:path>
              <a:path w="1018" h="597">
                <a:moveTo>
                  <a:pt x="11981" y="6325"/>
                </a:moveTo>
                <a:cubicBezTo>
                  <a:pt x="11950" y="6403"/>
                  <a:pt x="11919" y="6493"/>
                  <a:pt x="11906" y="6573"/>
                </a:cubicBezTo>
                <a:cubicBezTo>
                  <a:pt x="11895" y="6637"/>
                  <a:pt x="11907" y="6745"/>
                  <a:pt x="11981" y="6772"/>
                </a:cubicBezTo>
                <a:cubicBezTo>
                  <a:pt x="12053" y="6798"/>
                  <a:pt x="12144" y="6759"/>
                  <a:pt x="12204" y="6722"/>
                </a:cubicBezTo>
                <a:cubicBezTo>
                  <a:pt x="12250" y="6694"/>
                  <a:pt x="12340" y="6606"/>
                  <a:pt x="12328" y="6548"/>
                </a:cubicBezTo>
                <a:cubicBezTo>
                  <a:pt x="12316" y="6489"/>
                  <a:pt x="12288" y="6454"/>
                  <a:pt x="12229" y="6424"/>
                </a:cubicBezTo>
                <a:cubicBezTo>
                  <a:pt x="12170" y="6393"/>
                  <a:pt x="12095" y="6380"/>
                  <a:pt x="12030" y="6375"/>
                </a:cubicBezTo>
                <a:cubicBezTo>
                  <a:pt x="12022" y="6375"/>
                  <a:pt x="12013" y="6375"/>
                  <a:pt x="12005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Ink 24"/>
          <p:cNvSpPr/>
          <p:nvPr/>
        </p:nvSpPr>
        <p:spPr>
          <a:xfrm>
            <a:off x="6126120" y="2062080"/>
            <a:ext cx="24120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17016" y="5829"/>
                </a:moveTo>
                <a:cubicBezTo>
                  <a:pt x="17081" y="5959"/>
                  <a:pt x="17124" y="5983"/>
                  <a:pt x="17239" y="6077"/>
                </a:cubicBezTo>
                <a:cubicBezTo>
                  <a:pt x="17312" y="6136"/>
                  <a:pt x="17390" y="6210"/>
                  <a:pt x="17487" y="6226"/>
                </a:cubicBezTo>
                <a:cubicBezTo>
                  <a:pt x="17548" y="6236"/>
                  <a:pt x="17623" y="6226"/>
                  <a:pt x="17686" y="6226"/>
                </a:cubicBezTo>
              </a:path>
              <a:path w="671" h="869">
                <a:moveTo>
                  <a:pt x="17363" y="5730"/>
                </a:moveTo>
                <a:cubicBezTo>
                  <a:pt x="17318" y="5913"/>
                  <a:pt x="17288" y="6124"/>
                  <a:pt x="17214" y="6300"/>
                </a:cubicBezTo>
                <a:cubicBezTo>
                  <a:pt x="17170" y="6406"/>
                  <a:pt x="17105" y="6490"/>
                  <a:pt x="17066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Ink 25"/>
          <p:cNvSpPr/>
          <p:nvPr/>
        </p:nvSpPr>
        <p:spPr>
          <a:xfrm>
            <a:off x="6054840" y="2759040"/>
            <a:ext cx="723960" cy="938160"/>
          </a:xfrm>
          <a:custGeom>
            <a:avLst/>
            <a:gdLst/>
            <a:ahLst/>
            <a:rect l="l" t="t" r="r" b="b"/>
            <a:pathLst>
              <a:path w="2010" h="2605">
                <a:moveTo>
                  <a:pt x="16818" y="8186"/>
                </a:moveTo>
                <a:cubicBezTo>
                  <a:pt x="16896" y="8284"/>
                  <a:pt x="17001" y="8387"/>
                  <a:pt x="17041" y="8508"/>
                </a:cubicBezTo>
                <a:cubicBezTo>
                  <a:pt x="17078" y="8620"/>
                  <a:pt x="17066" y="8739"/>
                  <a:pt x="17066" y="8855"/>
                </a:cubicBezTo>
                <a:cubicBezTo>
                  <a:pt x="17066" y="8953"/>
                  <a:pt x="17080" y="9060"/>
                  <a:pt x="17041" y="9153"/>
                </a:cubicBezTo>
                <a:cubicBezTo>
                  <a:pt x="17005" y="9239"/>
                  <a:pt x="16992" y="9110"/>
                  <a:pt x="16991" y="9103"/>
                </a:cubicBezTo>
              </a:path>
              <a:path w="2010" h="2605">
                <a:moveTo>
                  <a:pt x="17165" y="8260"/>
                </a:moveTo>
                <a:cubicBezTo>
                  <a:pt x="17245" y="8260"/>
                  <a:pt x="17342" y="8279"/>
                  <a:pt x="17413" y="8235"/>
                </a:cubicBezTo>
                <a:cubicBezTo>
                  <a:pt x="17443" y="8205"/>
                  <a:pt x="17457" y="8194"/>
                  <a:pt x="17487" y="8186"/>
                </a:cubicBezTo>
                <a:cubicBezTo>
                  <a:pt x="17477" y="8272"/>
                  <a:pt x="17462" y="8345"/>
                  <a:pt x="17462" y="8434"/>
                </a:cubicBezTo>
                <a:cubicBezTo>
                  <a:pt x="17462" y="8525"/>
                  <a:pt x="17454" y="8604"/>
                  <a:pt x="17462" y="8682"/>
                </a:cubicBezTo>
                <a:cubicBezTo>
                  <a:pt x="17465" y="8714"/>
                  <a:pt x="17448" y="8855"/>
                  <a:pt x="17512" y="8855"/>
                </a:cubicBezTo>
                <a:cubicBezTo>
                  <a:pt x="17542" y="8825"/>
                  <a:pt x="17553" y="8811"/>
                  <a:pt x="17562" y="8781"/>
                </a:cubicBezTo>
              </a:path>
              <a:path w="2010" h="2605">
                <a:moveTo>
                  <a:pt x="17686" y="8161"/>
                </a:moveTo>
                <a:cubicBezTo>
                  <a:pt x="17769" y="8126"/>
                  <a:pt x="17847" y="8076"/>
                  <a:pt x="17934" y="8062"/>
                </a:cubicBezTo>
                <a:cubicBezTo>
                  <a:pt x="17993" y="8052"/>
                  <a:pt x="17994" y="8068"/>
                  <a:pt x="18008" y="8012"/>
                </a:cubicBezTo>
              </a:path>
              <a:path w="2010" h="2605">
                <a:moveTo>
                  <a:pt x="17735" y="8161"/>
                </a:moveTo>
                <a:cubicBezTo>
                  <a:pt x="17679" y="8236"/>
                  <a:pt x="17675" y="8249"/>
                  <a:pt x="17636" y="8285"/>
                </a:cubicBezTo>
                <a:cubicBezTo>
                  <a:pt x="17695" y="8343"/>
                  <a:pt x="17709" y="8317"/>
                  <a:pt x="17785" y="8334"/>
                </a:cubicBezTo>
                <a:cubicBezTo>
                  <a:pt x="17878" y="8355"/>
                  <a:pt x="17928" y="8392"/>
                  <a:pt x="17983" y="8458"/>
                </a:cubicBezTo>
                <a:cubicBezTo>
                  <a:pt x="18030" y="8515"/>
                  <a:pt x="18031" y="8588"/>
                  <a:pt x="18008" y="8657"/>
                </a:cubicBezTo>
                <a:cubicBezTo>
                  <a:pt x="17984" y="8728"/>
                  <a:pt x="17926" y="8745"/>
                  <a:pt x="17859" y="8756"/>
                </a:cubicBezTo>
                <a:cubicBezTo>
                  <a:pt x="17802" y="8766"/>
                  <a:pt x="17729" y="8765"/>
                  <a:pt x="17686" y="8731"/>
                </a:cubicBezTo>
                <a:cubicBezTo>
                  <a:pt x="17648" y="8700"/>
                  <a:pt x="17642" y="8627"/>
                  <a:pt x="17636" y="8582"/>
                </a:cubicBezTo>
              </a:path>
              <a:path w="2010" h="2605">
                <a:moveTo>
                  <a:pt x="18157" y="7838"/>
                </a:moveTo>
                <a:cubicBezTo>
                  <a:pt x="18177" y="7885"/>
                  <a:pt x="18180" y="7902"/>
                  <a:pt x="18207" y="7938"/>
                </a:cubicBezTo>
                <a:cubicBezTo>
                  <a:pt x="18247" y="7918"/>
                  <a:pt x="18364" y="7884"/>
                  <a:pt x="18380" y="7838"/>
                </a:cubicBezTo>
                <a:cubicBezTo>
                  <a:pt x="18413" y="7746"/>
                  <a:pt x="18385" y="7665"/>
                  <a:pt x="18281" y="7665"/>
                </a:cubicBezTo>
                <a:cubicBezTo>
                  <a:pt x="18216" y="7686"/>
                  <a:pt x="18200" y="7694"/>
                  <a:pt x="18157" y="7689"/>
                </a:cubicBezTo>
              </a:path>
              <a:path w="2010" h="2605">
                <a:moveTo>
                  <a:pt x="17884" y="9649"/>
                </a:moveTo>
                <a:cubicBezTo>
                  <a:pt x="17890" y="9606"/>
                  <a:pt x="17914" y="9522"/>
                  <a:pt x="17983" y="9525"/>
                </a:cubicBezTo>
                <a:cubicBezTo>
                  <a:pt x="18073" y="9528"/>
                  <a:pt x="18148" y="9568"/>
                  <a:pt x="18182" y="9649"/>
                </a:cubicBezTo>
                <a:cubicBezTo>
                  <a:pt x="18213" y="9723"/>
                  <a:pt x="18225" y="9843"/>
                  <a:pt x="18207" y="9922"/>
                </a:cubicBezTo>
                <a:cubicBezTo>
                  <a:pt x="18194" y="9979"/>
                  <a:pt x="18134" y="10090"/>
                  <a:pt x="18083" y="10120"/>
                </a:cubicBezTo>
                <a:cubicBezTo>
                  <a:pt x="18030" y="10151"/>
                  <a:pt x="17902" y="10171"/>
                  <a:pt x="17859" y="10120"/>
                </a:cubicBezTo>
                <a:cubicBezTo>
                  <a:pt x="17823" y="10077"/>
                  <a:pt x="17817" y="9964"/>
                  <a:pt x="17859" y="9922"/>
                </a:cubicBezTo>
                <a:cubicBezTo>
                  <a:pt x="17927" y="9854"/>
                  <a:pt x="18030" y="9955"/>
                  <a:pt x="18083" y="9996"/>
                </a:cubicBezTo>
                <a:cubicBezTo>
                  <a:pt x="18131" y="10033"/>
                  <a:pt x="18154" y="10149"/>
                  <a:pt x="18207" y="10120"/>
                </a:cubicBezTo>
                <a:cubicBezTo>
                  <a:pt x="18234" y="10065"/>
                  <a:pt x="18242" y="10042"/>
                  <a:pt x="18231" y="9996"/>
                </a:cubicBezTo>
              </a:path>
              <a:path w="2010" h="2605">
                <a:moveTo>
                  <a:pt x="18455" y="9475"/>
                </a:moveTo>
                <a:cubicBezTo>
                  <a:pt x="18482" y="9471"/>
                  <a:pt x="18765" y="9461"/>
                  <a:pt x="18802" y="9401"/>
                </a:cubicBezTo>
                <a:cubicBezTo>
                  <a:pt x="18802" y="9393"/>
                  <a:pt x="18802" y="9384"/>
                  <a:pt x="18802" y="9376"/>
                </a:cubicBezTo>
              </a:path>
              <a:path w="2010" h="2605">
                <a:moveTo>
                  <a:pt x="18430" y="9475"/>
                </a:moveTo>
                <a:cubicBezTo>
                  <a:pt x="18404" y="9571"/>
                  <a:pt x="18380" y="9649"/>
                  <a:pt x="18380" y="9748"/>
                </a:cubicBezTo>
                <a:cubicBezTo>
                  <a:pt x="18380" y="9765"/>
                  <a:pt x="18380" y="9781"/>
                  <a:pt x="18380" y="9798"/>
                </a:cubicBezTo>
                <a:cubicBezTo>
                  <a:pt x="18457" y="9788"/>
                  <a:pt x="18487" y="9758"/>
                  <a:pt x="18554" y="9723"/>
                </a:cubicBezTo>
                <a:cubicBezTo>
                  <a:pt x="18616" y="9691"/>
                  <a:pt x="18705" y="9718"/>
                  <a:pt x="18752" y="9773"/>
                </a:cubicBezTo>
                <a:cubicBezTo>
                  <a:pt x="18807" y="9838"/>
                  <a:pt x="18823" y="9940"/>
                  <a:pt x="18827" y="10021"/>
                </a:cubicBezTo>
                <a:cubicBezTo>
                  <a:pt x="18830" y="10082"/>
                  <a:pt x="18827" y="10151"/>
                  <a:pt x="18777" y="10195"/>
                </a:cubicBezTo>
                <a:cubicBezTo>
                  <a:pt x="18734" y="10233"/>
                  <a:pt x="18632" y="10262"/>
                  <a:pt x="18579" y="10269"/>
                </a:cubicBezTo>
                <a:cubicBezTo>
                  <a:pt x="18501" y="10279"/>
                  <a:pt x="18403" y="10291"/>
                  <a:pt x="18380" y="10195"/>
                </a:cubicBezTo>
                <a:cubicBezTo>
                  <a:pt x="18380" y="10178"/>
                  <a:pt x="18380" y="10162"/>
                  <a:pt x="18380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Ink 26"/>
          <p:cNvSpPr/>
          <p:nvPr/>
        </p:nvSpPr>
        <p:spPr>
          <a:xfrm>
            <a:off x="7429680" y="4660920"/>
            <a:ext cx="1635120" cy="1214280"/>
          </a:xfrm>
          <a:custGeom>
            <a:avLst/>
            <a:gdLst/>
            <a:ahLst/>
            <a:rect l="l" t="t" r="r" b="b"/>
            <a:pathLst>
              <a:path w="4540" h="3374">
                <a:moveTo>
                  <a:pt x="23416" y="13742"/>
                </a:moveTo>
                <a:cubicBezTo>
                  <a:pt x="23368" y="13766"/>
                  <a:pt x="23353" y="13774"/>
                  <a:pt x="23316" y="13767"/>
                </a:cubicBezTo>
              </a:path>
              <a:path w="4540" h="3374">
                <a:moveTo>
                  <a:pt x="23887" y="13246"/>
                </a:moveTo>
                <a:cubicBezTo>
                  <a:pt x="24003" y="13260"/>
                  <a:pt x="24054" y="13245"/>
                  <a:pt x="24061" y="13370"/>
                </a:cubicBezTo>
                <a:cubicBezTo>
                  <a:pt x="24066" y="13450"/>
                  <a:pt x="24031" y="13508"/>
                  <a:pt x="23986" y="13568"/>
                </a:cubicBezTo>
                <a:cubicBezTo>
                  <a:pt x="23932" y="13639"/>
                  <a:pt x="23893" y="13697"/>
                  <a:pt x="23812" y="13717"/>
                </a:cubicBezTo>
                <a:cubicBezTo>
                  <a:pt x="23823" y="13642"/>
                  <a:pt x="23842" y="13631"/>
                  <a:pt x="23912" y="13593"/>
                </a:cubicBezTo>
                <a:cubicBezTo>
                  <a:pt x="23969" y="13562"/>
                  <a:pt x="24079" y="13578"/>
                  <a:pt x="24135" y="13618"/>
                </a:cubicBezTo>
                <a:cubicBezTo>
                  <a:pt x="24214" y="13674"/>
                  <a:pt x="24193" y="13676"/>
                  <a:pt x="24284" y="13643"/>
                </a:cubicBezTo>
              </a:path>
              <a:path w="4540" h="3374">
                <a:moveTo>
                  <a:pt x="24507" y="13072"/>
                </a:moveTo>
                <a:cubicBezTo>
                  <a:pt x="24600" y="12979"/>
                  <a:pt x="24589" y="13001"/>
                  <a:pt x="24507" y="13097"/>
                </a:cubicBezTo>
                <a:cubicBezTo>
                  <a:pt x="24436" y="13180"/>
                  <a:pt x="24379" y="13201"/>
                  <a:pt x="24309" y="13295"/>
                </a:cubicBezTo>
                <a:cubicBezTo>
                  <a:pt x="24301" y="13303"/>
                  <a:pt x="24292" y="13312"/>
                  <a:pt x="24284" y="13320"/>
                </a:cubicBezTo>
                <a:cubicBezTo>
                  <a:pt x="24320" y="13357"/>
                  <a:pt x="24363" y="13386"/>
                  <a:pt x="24408" y="13395"/>
                </a:cubicBezTo>
                <a:cubicBezTo>
                  <a:pt x="24435" y="13401"/>
                  <a:pt x="24559" y="13413"/>
                  <a:pt x="24557" y="13469"/>
                </a:cubicBezTo>
                <a:cubicBezTo>
                  <a:pt x="24551" y="13602"/>
                  <a:pt x="24449" y="13602"/>
                  <a:pt x="24358" y="13667"/>
                </a:cubicBezTo>
                <a:cubicBezTo>
                  <a:pt x="24350" y="13675"/>
                  <a:pt x="24341" y="13684"/>
                  <a:pt x="24333" y="13692"/>
                </a:cubicBezTo>
              </a:path>
              <a:path w="4540" h="3374">
                <a:moveTo>
                  <a:pt x="24904" y="13072"/>
                </a:moveTo>
                <a:cubicBezTo>
                  <a:pt x="24826" y="13104"/>
                  <a:pt x="24746" y="13142"/>
                  <a:pt x="24681" y="13196"/>
                </a:cubicBezTo>
                <a:cubicBezTo>
                  <a:pt x="24639" y="13238"/>
                  <a:pt x="24631" y="13246"/>
                  <a:pt x="24606" y="13271"/>
                </a:cubicBezTo>
                <a:cubicBezTo>
                  <a:pt x="24663" y="13337"/>
                  <a:pt x="24701" y="13348"/>
                  <a:pt x="24780" y="13370"/>
                </a:cubicBezTo>
                <a:cubicBezTo>
                  <a:pt x="24874" y="13396"/>
                  <a:pt x="24942" y="13385"/>
                  <a:pt x="24954" y="13494"/>
                </a:cubicBezTo>
                <a:cubicBezTo>
                  <a:pt x="24962" y="13562"/>
                  <a:pt x="24843" y="13607"/>
                  <a:pt x="24780" y="13593"/>
                </a:cubicBezTo>
                <a:cubicBezTo>
                  <a:pt x="24763" y="13585"/>
                  <a:pt x="24747" y="13576"/>
                  <a:pt x="24730" y="13568"/>
                </a:cubicBezTo>
                <a:cubicBezTo>
                  <a:pt x="24789" y="13440"/>
                  <a:pt x="24850" y="13379"/>
                  <a:pt x="24929" y="13271"/>
                </a:cubicBezTo>
                <a:cubicBezTo>
                  <a:pt x="24991" y="13185"/>
                  <a:pt x="25075" y="13140"/>
                  <a:pt x="25127" y="13047"/>
                </a:cubicBezTo>
                <a:cubicBezTo>
                  <a:pt x="25149" y="13004"/>
                  <a:pt x="25153" y="12992"/>
                  <a:pt x="25177" y="12973"/>
                </a:cubicBezTo>
                <a:cubicBezTo>
                  <a:pt x="25150" y="12964"/>
                  <a:pt x="25024" y="12945"/>
                  <a:pt x="25003" y="12998"/>
                </a:cubicBezTo>
                <a:cubicBezTo>
                  <a:pt x="24965" y="13094"/>
                  <a:pt x="25034" y="13097"/>
                  <a:pt x="25078" y="13146"/>
                </a:cubicBezTo>
                <a:cubicBezTo>
                  <a:pt x="25151" y="13228"/>
                  <a:pt x="25194" y="13311"/>
                  <a:pt x="25152" y="13419"/>
                </a:cubicBezTo>
                <a:cubicBezTo>
                  <a:pt x="25122" y="13494"/>
                  <a:pt x="25018" y="13513"/>
                  <a:pt x="24954" y="13543"/>
                </a:cubicBezTo>
                <a:cubicBezTo>
                  <a:pt x="24855" y="13590"/>
                  <a:pt x="24775" y="13573"/>
                  <a:pt x="24681" y="13519"/>
                </a:cubicBezTo>
                <a:cubicBezTo>
                  <a:pt x="24673" y="13511"/>
                  <a:pt x="24664" y="13502"/>
                  <a:pt x="24656" y="13494"/>
                </a:cubicBezTo>
              </a:path>
              <a:path w="4540" h="3374">
                <a:moveTo>
                  <a:pt x="20762" y="15280"/>
                </a:moveTo>
                <a:cubicBezTo>
                  <a:pt x="20789" y="15406"/>
                  <a:pt x="20821" y="15529"/>
                  <a:pt x="20861" y="15652"/>
                </a:cubicBezTo>
                <a:cubicBezTo>
                  <a:pt x="20883" y="15717"/>
                  <a:pt x="20891" y="15732"/>
                  <a:pt x="20886" y="15776"/>
                </a:cubicBezTo>
              </a:path>
              <a:path w="4540" h="3374">
                <a:moveTo>
                  <a:pt x="21034" y="15032"/>
                </a:moveTo>
                <a:cubicBezTo>
                  <a:pt x="20922" y="15330"/>
                  <a:pt x="20789" y="15616"/>
                  <a:pt x="20712" y="15925"/>
                </a:cubicBezTo>
                <a:cubicBezTo>
                  <a:pt x="20666" y="16130"/>
                  <a:pt x="20652" y="16187"/>
                  <a:pt x="20638" y="16321"/>
                </a:cubicBezTo>
              </a:path>
              <a:path w="4540" h="3374">
                <a:moveTo>
                  <a:pt x="21059" y="15255"/>
                </a:moveTo>
                <a:cubicBezTo>
                  <a:pt x="21170" y="15222"/>
                  <a:pt x="21266" y="15180"/>
                  <a:pt x="21382" y="15180"/>
                </a:cubicBezTo>
                <a:cubicBezTo>
                  <a:pt x="21390" y="15180"/>
                  <a:pt x="21398" y="15180"/>
                  <a:pt x="21406" y="15180"/>
                </a:cubicBezTo>
              </a:path>
              <a:path w="4540" h="3374">
                <a:moveTo>
                  <a:pt x="21307" y="15528"/>
                </a:moveTo>
                <a:cubicBezTo>
                  <a:pt x="21404" y="15463"/>
                  <a:pt x="21481" y="15394"/>
                  <a:pt x="21580" y="15354"/>
                </a:cubicBezTo>
                <a:cubicBezTo>
                  <a:pt x="21605" y="15346"/>
                  <a:pt x="21629" y="15337"/>
                  <a:pt x="21654" y="15329"/>
                </a:cubicBezTo>
              </a:path>
              <a:path w="4540" h="3374">
                <a:moveTo>
                  <a:pt x="22696" y="14759"/>
                </a:moveTo>
                <a:cubicBezTo>
                  <a:pt x="22661" y="14723"/>
                  <a:pt x="22578" y="14607"/>
                  <a:pt x="22523" y="14610"/>
                </a:cubicBezTo>
                <a:cubicBezTo>
                  <a:pt x="22458" y="14613"/>
                  <a:pt x="22405" y="14725"/>
                  <a:pt x="22374" y="14784"/>
                </a:cubicBezTo>
                <a:cubicBezTo>
                  <a:pt x="22357" y="14817"/>
                  <a:pt x="22272" y="14969"/>
                  <a:pt x="22275" y="15007"/>
                </a:cubicBezTo>
                <a:cubicBezTo>
                  <a:pt x="22283" y="15015"/>
                  <a:pt x="22291" y="15024"/>
                  <a:pt x="22299" y="15032"/>
                </a:cubicBezTo>
                <a:cubicBezTo>
                  <a:pt x="22419" y="15019"/>
                  <a:pt x="22411" y="14997"/>
                  <a:pt x="22473" y="14908"/>
                </a:cubicBezTo>
                <a:cubicBezTo>
                  <a:pt x="22509" y="14857"/>
                  <a:pt x="22559" y="14809"/>
                  <a:pt x="22597" y="14759"/>
                </a:cubicBezTo>
                <a:cubicBezTo>
                  <a:pt x="22605" y="14751"/>
                  <a:pt x="22614" y="14742"/>
                  <a:pt x="22622" y="14734"/>
                </a:cubicBezTo>
                <a:cubicBezTo>
                  <a:pt x="22664" y="14818"/>
                  <a:pt x="22645" y="14887"/>
                  <a:pt x="22622" y="14982"/>
                </a:cubicBezTo>
                <a:cubicBezTo>
                  <a:pt x="22588" y="15126"/>
                  <a:pt x="22499" y="15259"/>
                  <a:pt x="22473" y="15404"/>
                </a:cubicBezTo>
                <a:cubicBezTo>
                  <a:pt x="22469" y="15426"/>
                  <a:pt x="22422" y="15685"/>
                  <a:pt x="22448" y="15701"/>
                </a:cubicBezTo>
                <a:cubicBezTo>
                  <a:pt x="22456" y="15693"/>
                  <a:pt x="22465" y="15685"/>
                  <a:pt x="22473" y="15677"/>
                </a:cubicBezTo>
              </a:path>
              <a:path w="4540" h="3374">
                <a:moveTo>
                  <a:pt x="22920" y="14709"/>
                </a:moveTo>
                <a:cubicBezTo>
                  <a:pt x="22896" y="14828"/>
                  <a:pt x="22876" y="14938"/>
                  <a:pt x="22845" y="15056"/>
                </a:cubicBezTo>
                <a:cubicBezTo>
                  <a:pt x="22814" y="15174"/>
                  <a:pt x="22754" y="15356"/>
                  <a:pt x="22796" y="15478"/>
                </a:cubicBezTo>
                <a:cubicBezTo>
                  <a:pt x="22820" y="15503"/>
                  <a:pt x="22828" y="15512"/>
                  <a:pt x="22845" y="15528"/>
                </a:cubicBezTo>
                <a:cubicBezTo>
                  <a:pt x="22933" y="15458"/>
                  <a:pt x="22958" y="15463"/>
                  <a:pt x="23019" y="15354"/>
                </a:cubicBezTo>
                <a:cubicBezTo>
                  <a:pt x="23052" y="15296"/>
                  <a:pt x="23063" y="15228"/>
                  <a:pt x="23044" y="15180"/>
                </a:cubicBezTo>
                <a:cubicBezTo>
                  <a:pt x="23031" y="15274"/>
                  <a:pt x="22977" y="15369"/>
                  <a:pt x="22920" y="15453"/>
                </a:cubicBezTo>
                <a:cubicBezTo>
                  <a:pt x="22895" y="15489"/>
                  <a:pt x="22879" y="15509"/>
                  <a:pt x="22870" y="15553"/>
                </a:cubicBezTo>
              </a:path>
              <a:path w="4540" h="3374">
                <a:moveTo>
                  <a:pt x="23217" y="15280"/>
                </a:moveTo>
                <a:cubicBezTo>
                  <a:pt x="23196" y="15364"/>
                  <a:pt x="23181" y="15383"/>
                  <a:pt x="23217" y="15429"/>
                </a:cubicBezTo>
              </a:path>
              <a:path w="4540" h="3374">
                <a:moveTo>
                  <a:pt x="23639" y="14511"/>
                </a:moveTo>
                <a:cubicBezTo>
                  <a:pt x="23609" y="14621"/>
                  <a:pt x="23594" y="14727"/>
                  <a:pt x="23540" y="14833"/>
                </a:cubicBezTo>
                <a:cubicBezTo>
                  <a:pt x="23474" y="14961"/>
                  <a:pt x="23447" y="15082"/>
                  <a:pt x="23440" y="15230"/>
                </a:cubicBezTo>
                <a:cubicBezTo>
                  <a:pt x="23440" y="15275"/>
                  <a:pt x="23436" y="15288"/>
                  <a:pt x="23465" y="15304"/>
                </a:cubicBezTo>
                <a:cubicBezTo>
                  <a:pt x="23555" y="15297"/>
                  <a:pt x="23600" y="15295"/>
                  <a:pt x="23664" y="15230"/>
                </a:cubicBezTo>
                <a:cubicBezTo>
                  <a:pt x="23746" y="15147"/>
                  <a:pt x="23758" y="15117"/>
                  <a:pt x="23788" y="15007"/>
                </a:cubicBezTo>
                <a:cubicBezTo>
                  <a:pt x="23630" y="15095"/>
                  <a:pt x="23630" y="15188"/>
                  <a:pt x="23564" y="15354"/>
                </a:cubicBezTo>
                <a:cubicBezTo>
                  <a:pt x="23493" y="15534"/>
                  <a:pt x="23432" y="15681"/>
                  <a:pt x="23416" y="158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Ink 27"/>
          <p:cNvSpPr/>
          <p:nvPr/>
        </p:nvSpPr>
        <p:spPr>
          <a:xfrm>
            <a:off x="571680" y="1490760"/>
            <a:ext cx="1017360" cy="1563480"/>
          </a:xfrm>
          <a:custGeom>
            <a:avLst/>
            <a:gdLst/>
            <a:ahLst/>
            <a:rect l="l" t="t" r="r" b="b"/>
            <a:pathLst>
              <a:path w="2828" h="4342">
                <a:moveTo>
                  <a:pt x="1588" y="8434"/>
                </a:moveTo>
                <a:cubicBezTo>
                  <a:pt x="1630" y="8362"/>
                  <a:pt x="1670" y="8284"/>
                  <a:pt x="1712" y="8210"/>
                </a:cubicBezTo>
                <a:cubicBezTo>
                  <a:pt x="1783" y="8084"/>
                  <a:pt x="1861" y="7962"/>
                  <a:pt x="1935" y="7838"/>
                </a:cubicBezTo>
                <a:cubicBezTo>
                  <a:pt x="2025" y="7687"/>
                  <a:pt x="2112" y="7540"/>
                  <a:pt x="2208" y="7392"/>
                </a:cubicBezTo>
                <a:cubicBezTo>
                  <a:pt x="2345" y="7181"/>
                  <a:pt x="2470" y="6961"/>
                  <a:pt x="2604" y="6747"/>
                </a:cubicBezTo>
                <a:cubicBezTo>
                  <a:pt x="2720" y="6561"/>
                  <a:pt x="2813" y="6362"/>
                  <a:pt x="2927" y="6176"/>
                </a:cubicBezTo>
                <a:cubicBezTo>
                  <a:pt x="3040" y="5992"/>
                  <a:pt x="3161" y="5813"/>
                  <a:pt x="3274" y="5631"/>
                </a:cubicBezTo>
                <a:cubicBezTo>
                  <a:pt x="3391" y="5443"/>
                  <a:pt x="3526" y="5269"/>
                  <a:pt x="3646" y="5085"/>
                </a:cubicBezTo>
                <a:cubicBezTo>
                  <a:pt x="3751" y="4924"/>
                  <a:pt x="3878" y="4789"/>
                  <a:pt x="3994" y="4638"/>
                </a:cubicBezTo>
                <a:cubicBezTo>
                  <a:pt x="4102" y="4498"/>
                  <a:pt x="4204" y="4353"/>
                  <a:pt x="4316" y="4217"/>
                </a:cubicBezTo>
                <a:cubicBezTo>
                  <a:pt x="4338" y="4190"/>
                  <a:pt x="4368" y="4169"/>
                  <a:pt x="4390" y="4142"/>
                </a:cubicBezTo>
                <a:cubicBezTo>
                  <a:pt x="4396" y="4190"/>
                  <a:pt x="4414" y="4253"/>
                  <a:pt x="4415" y="4316"/>
                </a:cubicBezTo>
                <a:cubicBezTo>
                  <a:pt x="4422" y="4747"/>
                  <a:pt x="4416" y="5178"/>
                  <a:pt x="4390" y="5606"/>
                </a:cubicBezTo>
                <a:cubicBezTo>
                  <a:pt x="4378" y="5796"/>
                  <a:pt x="4379" y="5986"/>
                  <a:pt x="4366" y="6176"/>
                </a:cubicBezTo>
                <a:cubicBezTo>
                  <a:pt x="4349" y="6425"/>
                  <a:pt x="4321" y="6673"/>
                  <a:pt x="4316" y="6921"/>
                </a:cubicBezTo>
                <a:cubicBezTo>
                  <a:pt x="4312" y="7111"/>
                  <a:pt x="4271" y="7300"/>
                  <a:pt x="4291" y="7491"/>
                </a:cubicBezTo>
                <a:cubicBezTo>
                  <a:pt x="4308" y="7649"/>
                  <a:pt x="4319" y="7807"/>
                  <a:pt x="4341" y="7962"/>
                </a:cubicBezTo>
                <a:cubicBezTo>
                  <a:pt x="4350" y="8023"/>
                  <a:pt x="4350" y="8101"/>
                  <a:pt x="4366" y="8161"/>
                </a:cubicBezTo>
                <a:cubicBezTo>
                  <a:pt x="4374" y="8169"/>
                  <a:pt x="4382" y="8178"/>
                  <a:pt x="4390" y="8186"/>
                </a:cubicBezTo>
                <a:cubicBezTo>
                  <a:pt x="4333" y="8211"/>
                  <a:pt x="4275" y="8212"/>
                  <a:pt x="4217" y="8235"/>
                </a:cubicBezTo>
                <a:cubicBezTo>
                  <a:pt x="4144" y="8264"/>
                  <a:pt x="4110" y="8284"/>
                  <a:pt x="4018" y="8310"/>
                </a:cubicBezTo>
                <a:cubicBezTo>
                  <a:pt x="3920" y="8338"/>
                  <a:pt x="3822" y="8369"/>
                  <a:pt x="3721" y="8384"/>
                </a:cubicBezTo>
                <a:cubicBezTo>
                  <a:pt x="3548" y="8409"/>
                  <a:pt x="3376" y="8410"/>
                  <a:pt x="3200" y="8434"/>
                </a:cubicBezTo>
                <a:cubicBezTo>
                  <a:pt x="3050" y="8454"/>
                  <a:pt x="2904" y="8476"/>
                  <a:pt x="2753" y="8483"/>
                </a:cubicBezTo>
                <a:cubicBezTo>
                  <a:pt x="2586" y="8491"/>
                  <a:pt x="2423" y="8466"/>
                  <a:pt x="2257" y="8458"/>
                </a:cubicBezTo>
                <a:cubicBezTo>
                  <a:pt x="2141" y="8452"/>
                  <a:pt x="2027" y="8447"/>
                  <a:pt x="1910" y="8434"/>
                </a:cubicBezTo>
                <a:cubicBezTo>
                  <a:pt x="1841" y="8426"/>
                  <a:pt x="1753" y="8426"/>
                  <a:pt x="1687" y="8409"/>
                </a:cubicBezTo>
                <a:cubicBezTo>
                  <a:pt x="1679" y="8401"/>
                  <a:pt x="1670" y="8392"/>
                  <a:pt x="1662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Ink 28"/>
          <p:cNvSpPr/>
          <p:nvPr/>
        </p:nvSpPr>
        <p:spPr>
          <a:xfrm>
            <a:off x="2374920" y="1643040"/>
            <a:ext cx="1662120" cy="1455840"/>
          </a:xfrm>
          <a:custGeom>
            <a:avLst/>
            <a:gdLst/>
            <a:ahLst/>
            <a:rect l="l" t="t" r="r" b="b"/>
            <a:pathLst>
              <a:path w="4615" h="4044">
                <a:moveTo>
                  <a:pt x="6672" y="8310"/>
                </a:moveTo>
                <a:cubicBezTo>
                  <a:pt x="6719" y="8276"/>
                  <a:pt x="6777" y="8247"/>
                  <a:pt x="6821" y="8210"/>
                </a:cubicBezTo>
                <a:cubicBezTo>
                  <a:pt x="6893" y="8150"/>
                  <a:pt x="6956" y="8070"/>
                  <a:pt x="7020" y="8012"/>
                </a:cubicBezTo>
                <a:cubicBezTo>
                  <a:pt x="7197" y="7852"/>
                  <a:pt x="7390" y="7706"/>
                  <a:pt x="7565" y="7541"/>
                </a:cubicBezTo>
                <a:cubicBezTo>
                  <a:pt x="7704" y="7410"/>
                  <a:pt x="7846" y="7276"/>
                  <a:pt x="7987" y="7144"/>
                </a:cubicBezTo>
                <a:cubicBezTo>
                  <a:pt x="8152" y="6990"/>
                  <a:pt x="8315" y="6844"/>
                  <a:pt x="8483" y="6697"/>
                </a:cubicBezTo>
                <a:cubicBezTo>
                  <a:pt x="8699" y="6508"/>
                  <a:pt x="8907" y="6310"/>
                  <a:pt x="9128" y="6127"/>
                </a:cubicBezTo>
                <a:cubicBezTo>
                  <a:pt x="9505" y="5816"/>
                  <a:pt x="9877" y="5473"/>
                  <a:pt x="10269" y="5184"/>
                </a:cubicBezTo>
                <a:cubicBezTo>
                  <a:pt x="10400" y="5088"/>
                  <a:pt x="10510" y="4984"/>
                  <a:pt x="10641" y="4887"/>
                </a:cubicBezTo>
                <a:cubicBezTo>
                  <a:pt x="10730" y="4822"/>
                  <a:pt x="10832" y="4758"/>
                  <a:pt x="10914" y="4688"/>
                </a:cubicBezTo>
                <a:cubicBezTo>
                  <a:pt x="10965" y="4645"/>
                  <a:pt x="11012" y="4605"/>
                  <a:pt x="11063" y="4564"/>
                </a:cubicBezTo>
                <a:cubicBezTo>
                  <a:pt x="11063" y="4815"/>
                  <a:pt x="11084" y="5061"/>
                  <a:pt x="11088" y="5308"/>
                </a:cubicBezTo>
                <a:cubicBezTo>
                  <a:pt x="11091" y="5509"/>
                  <a:pt x="11088" y="5710"/>
                  <a:pt x="11088" y="5904"/>
                </a:cubicBezTo>
                <a:cubicBezTo>
                  <a:pt x="11088" y="6366"/>
                  <a:pt x="11070" y="6834"/>
                  <a:pt x="11112" y="7293"/>
                </a:cubicBezTo>
                <a:cubicBezTo>
                  <a:pt x="11127" y="7460"/>
                  <a:pt x="11177" y="7623"/>
                  <a:pt x="11187" y="7789"/>
                </a:cubicBezTo>
                <a:cubicBezTo>
                  <a:pt x="11195" y="7923"/>
                  <a:pt x="11206" y="8053"/>
                  <a:pt x="11212" y="8186"/>
                </a:cubicBezTo>
                <a:cubicBezTo>
                  <a:pt x="11217" y="8300"/>
                  <a:pt x="11192" y="8402"/>
                  <a:pt x="11187" y="8508"/>
                </a:cubicBezTo>
                <a:cubicBezTo>
                  <a:pt x="11187" y="8558"/>
                  <a:pt x="11187" y="8574"/>
                  <a:pt x="11187" y="8607"/>
                </a:cubicBezTo>
                <a:cubicBezTo>
                  <a:pt x="11114" y="8587"/>
                  <a:pt x="11023" y="8552"/>
                  <a:pt x="10939" y="8533"/>
                </a:cubicBezTo>
                <a:cubicBezTo>
                  <a:pt x="10840" y="8510"/>
                  <a:pt x="10717" y="8470"/>
                  <a:pt x="10616" y="8458"/>
                </a:cubicBezTo>
                <a:cubicBezTo>
                  <a:pt x="10428" y="8435"/>
                  <a:pt x="10233" y="8435"/>
                  <a:pt x="10046" y="8409"/>
                </a:cubicBezTo>
                <a:cubicBezTo>
                  <a:pt x="9864" y="8384"/>
                  <a:pt x="9684" y="8362"/>
                  <a:pt x="9500" y="8359"/>
                </a:cubicBezTo>
                <a:cubicBezTo>
                  <a:pt x="9300" y="8356"/>
                  <a:pt x="9106" y="8337"/>
                  <a:pt x="8905" y="8334"/>
                </a:cubicBezTo>
                <a:cubicBezTo>
                  <a:pt x="8391" y="8326"/>
                  <a:pt x="7877" y="8344"/>
                  <a:pt x="7367" y="8384"/>
                </a:cubicBezTo>
                <a:cubicBezTo>
                  <a:pt x="7200" y="8397"/>
                  <a:pt x="7040" y="8409"/>
                  <a:pt x="6871" y="8409"/>
                </a:cubicBezTo>
                <a:cubicBezTo>
                  <a:pt x="6764" y="8409"/>
                  <a:pt x="6641" y="8397"/>
                  <a:pt x="6623" y="8384"/>
                </a:cubicBezTo>
                <a:cubicBezTo>
                  <a:pt x="6631" y="8376"/>
                  <a:pt x="6640" y="8367"/>
                  <a:pt x="6648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Ink 29"/>
          <p:cNvSpPr/>
          <p:nvPr/>
        </p:nvSpPr>
        <p:spPr>
          <a:xfrm>
            <a:off x="5776920" y="1108080"/>
            <a:ext cx="1447920" cy="2214720"/>
          </a:xfrm>
          <a:custGeom>
            <a:avLst/>
            <a:gdLst/>
            <a:ahLst/>
            <a:rect l="l" t="t" r="r" b="b"/>
            <a:pathLst>
              <a:path w="4019" h="6152">
                <a:moveTo>
                  <a:pt x="16272" y="8979"/>
                </a:moveTo>
                <a:cubicBezTo>
                  <a:pt x="16325" y="8929"/>
                  <a:pt x="16372" y="8914"/>
                  <a:pt x="16421" y="8855"/>
                </a:cubicBezTo>
                <a:cubicBezTo>
                  <a:pt x="16480" y="8785"/>
                  <a:pt x="16519" y="8720"/>
                  <a:pt x="16570" y="8632"/>
                </a:cubicBezTo>
                <a:cubicBezTo>
                  <a:pt x="16667" y="8464"/>
                  <a:pt x="16763" y="8300"/>
                  <a:pt x="16867" y="8136"/>
                </a:cubicBezTo>
                <a:cubicBezTo>
                  <a:pt x="17031" y="7878"/>
                  <a:pt x="17141" y="7607"/>
                  <a:pt x="17289" y="7342"/>
                </a:cubicBezTo>
                <a:cubicBezTo>
                  <a:pt x="17432" y="7086"/>
                  <a:pt x="17577" y="6834"/>
                  <a:pt x="17711" y="6573"/>
                </a:cubicBezTo>
                <a:cubicBezTo>
                  <a:pt x="17847" y="6308"/>
                  <a:pt x="17968" y="6041"/>
                  <a:pt x="18107" y="5779"/>
                </a:cubicBezTo>
                <a:cubicBezTo>
                  <a:pt x="18271" y="5469"/>
                  <a:pt x="18417" y="5148"/>
                  <a:pt x="18579" y="4837"/>
                </a:cubicBezTo>
                <a:cubicBezTo>
                  <a:pt x="18689" y="4625"/>
                  <a:pt x="18839" y="4414"/>
                  <a:pt x="18926" y="4192"/>
                </a:cubicBezTo>
                <a:cubicBezTo>
                  <a:pt x="18998" y="4007"/>
                  <a:pt x="19075" y="3844"/>
                  <a:pt x="19174" y="3671"/>
                </a:cubicBezTo>
                <a:cubicBezTo>
                  <a:pt x="19262" y="3517"/>
                  <a:pt x="19382" y="3364"/>
                  <a:pt x="19447" y="3200"/>
                </a:cubicBezTo>
                <a:cubicBezTo>
                  <a:pt x="19463" y="3160"/>
                  <a:pt x="19457" y="3117"/>
                  <a:pt x="19472" y="3076"/>
                </a:cubicBezTo>
                <a:cubicBezTo>
                  <a:pt x="19472" y="3327"/>
                  <a:pt x="19492" y="3572"/>
                  <a:pt x="19496" y="3820"/>
                </a:cubicBezTo>
                <a:cubicBezTo>
                  <a:pt x="19501" y="4186"/>
                  <a:pt x="19531" y="4548"/>
                  <a:pt x="19546" y="4911"/>
                </a:cubicBezTo>
                <a:cubicBezTo>
                  <a:pt x="19554" y="5102"/>
                  <a:pt x="19552" y="5292"/>
                  <a:pt x="19571" y="5482"/>
                </a:cubicBezTo>
                <a:cubicBezTo>
                  <a:pt x="19597" y="5747"/>
                  <a:pt x="19603" y="6011"/>
                  <a:pt x="19621" y="6276"/>
                </a:cubicBezTo>
                <a:cubicBezTo>
                  <a:pt x="19642" y="6573"/>
                  <a:pt x="19665" y="6872"/>
                  <a:pt x="19670" y="7169"/>
                </a:cubicBezTo>
                <a:cubicBezTo>
                  <a:pt x="19673" y="7378"/>
                  <a:pt x="19691" y="7583"/>
                  <a:pt x="19720" y="7789"/>
                </a:cubicBezTo>
                <a:cubicBezTo>
                  <a:pt x="19770" y="8151"/>
                  <a:pt x="19848" y="8538"/>
                  <a:pt x="19968" y="8880"/>
                </a:cubicBezTo>
                <a:cubicBezTo>
                  <a:pt x="20008" y="8995"/>
                  <a:pt x="20041" y="9086"/>
                  <a:pt x="20067" y="9203"/>
                </a:cubicBezTo>
                <a:cubicBezTo>
                  <a:pt x="19981" y="9210"/>
                  <a:pt x="19931" y="9223"/>
                  <a:pt x="19844" y="9227"/>
                </a:cubicBezTo>
                <a:cubicBezTo>
                  <a:pt x="19355" y="9248"/>
                  <a:pt x="18865" y="9217"/>
                  <a:pt x="18380" y="9178"/>
                </a:cubicBezTo>
                <a:cubicBezTo>
                  <a:pt x="18131" y="9158"/>
                  <a:pt x="17884" y="9123"/>
                  <a:pt x="17636" y="9103"/>
                </a:cubicBezTo>
                <a:cubicBezTo>
                  <a:pt x="17283" y="9075"/>
                  <a:pt x="16919" y="9114"/>
                  <a:pt x="16570" y="9128"/>
                </a:cubicBezTo>
                <a:cubicBezTo>
                  <a:pt x="16463" y="9132"/>
                  <a:pt x="16346" y="9148"/>
                  <a:pt x="16247" y="9153"/>
                </a:cubicBezTo>
                <a:cubicBezTo>
                  <a:pt x="16181" y="9157"/>
                  <a:pt x="16115" y="9151"/>
                  <a:pt x="16049" y="9153"/>
                </a:cubicBezTo>
                <a:cubicBezTo>
                  <a:pt x="16069" y="9101"/>
                  <a:pt x="16075" y="9054"/>
                  <a:pt x="16098" y="9004"/>
                </a:cubicBezTo>
                <a:cubicBezTo>
                  <a:pt x="16136" y="8918"/>
                  <a:pt x="16180" y="8840"/>
                  <a:pt x="16222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A six-foot tall man is standing with the sun behind him, which creates a shadow.  If the angle of elevation of the sun from the tip of the shadow is 30</a:t>
            </a:r>
            <a:r>
              <a:rPr b="0" lang="en-US" sz="4000" spc="-1" strike="noStrike">
                <a:solidFill>
                  <a:srgbClr val="e9ddcd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, find the length of the shadow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8" name="Ink 3"/>
          <p:cNvSpPr/>
          <p:nvPr/>
        </p:nvSpPr>
        <p:spPr>
          <a:xfrm>
            <a:off x="2705040" y="4795920"/>
            <a:ext cx="1554120" cy="1177920"/>
          </a:xfrm>
          <a:custGeom>
            <a:avLst/>
            <a:gdLst/>
            <a:ahLst/>
            <a:rect l="l" t="t" r="r" b="b"/>
            <a:pathLst>
              <a:path w="4317" h="3275">
                <a:moveTo>
                  <a:pt x="7590" y="13320"/>
                </a:moveTo>
                <a:cubicBezTo>
                  <a:pt x="7668" y="13394"/>
                  <a:pt x="7748" y="13474"/>
                  <a:pt x="7838" y="13543"/>
                </a:cubicBezTo>
                <a:cubicBezTo>
                  <a:pt x="7978" y="13650"/>
                  <a:pt x="8136" y="13746"/>
                  <a:pt x="8285" y="13841"/>
                </a:cubicBezTo>
                <a:cubicBezTo>
                  <a:pt x="8669" y="14085"/>
                  <a:pt x="9042" y="14343"/>
                  <a:pt x="9426" y="14585"/>
                </a:cubicBezTo>
                <a:cubicBezTo>
                  <a:pt x="9742" y="14784"/>
                  <a:pt x="10055" y="14970"/>
                  <a:pt x="10344" y="15205"/>
                </a:cubicBezTo>
                <a:cubicBezTo>
                  <a:pt x="10554" y="15375"/>
                  <a:pt x="10783" y="15526"/>
                  <a:pt x="10988" y="15701"/>
                </a:cubicBezTo>
                <a:cubicBezTo>
                  <a:pt x="11131" y="15823"/>
                  <a:pt x="11258" y="16021"/>
                  <a:pt x="11410" y="16123"/>
                </a:cubicBezTo>
                <a:cubicBezTo>
                  <a:pt x="11519" y="16196"/>
                  <a:pt x="11642" y="16281"/>
                  <a:pt x="11757" y="16346"/>
                </a:cubicBezTo>
                <a:cubicBezTo>
                  <a:pt x="11785" y="16374"/>
                  <a:pt x="11799" y="16383"/>
                  <a:pt x="11832" y="16371"/>
                </a:cubicBezTo>
                <a:cubicBezTo>
                  <a:pt x="11733" y="16417"/>
                  <a:pt x="11640" y="16466"/>
                  <a:pt x="11534" y="16495"/>
                </a:cubicBezTo>
                <a:cubicBezTo>
                  <a:pt x="11424" y="16525"/>
                  <a:pt x="11301" y="16539"/>
                  <a:pt x="11187" y="16545"/>
                </a:cubicBezTo>
                <a:cubicBezTo>
                  <a:pt x="10321" y="16590"/>
                  <a:pt x="9445" y="16529"/>
                  <a:pt x="8582" y="16570"/>
                </a:cubicBezTo>
                <a:cubicBezTo>
                  <a:pt x="8473" y="16575"/>
                  <a:pt x="8369" y="16588"/>
                  <a:pt x="8260" y="16594"/>
                </a:cubicBezTo>
                <a:cubicBezTo>
                  <a:pt x="8173" y="16598"/>
                  <a:pt x="8137" y="16608"/>
                  <a:pt x="8086" y="16545"/>
                </a:cubicBezTo>
                <a:cubicBezTo>
                  <a:pt x="8010" y="16450"/>
                  <a:pt x="7971" y="16202"/>
                  <a:pt x="7938" y="16073"/>
                </a:cubicBezTo>
                <a:cubicBezTo>
                  <a:pt x="7894" y="15899"/>
                  <a:pt x="7829" y="15729"/>
                  <a:pt x="7789" y="15553"/>
                </a:cubicBezTo>
                <a:cubicBezTo>
                  <a:pt x="7746" y="15361"/>
                  <a:pt x="7724" y="15152"/>
                  <a:pt x="7714" y="14957"/>
                </a:cubicBezTo>
                <a:cubicBezTo>
                  <a:pt x="7701" y="14709"/>
                  <a:pt x="7672" y="14461"/>
                  <a:pt x="7640" y="14213"/>
                </a:cubicBezTo>
                <a:cubicBezTo>
                  <a:pt x="7618" y="14046"/>
                  <a:pt x="7609" y="13883"/>
                  <a:pt x="7590" y="13717"/>
                </a:cubicBezTo>
                <a:cubicBezTo>
                  <a:pt x="7579" y="13623"/>
                  <a:pt x="7533" y="13535"/>
                  <a:pt x="7516" y="13444"/>
                </a:cubicBezTo>
                <a:cubicBezTo>
                  <a:pt x="7516" y="13403"/>
                  <a:pt x="7516" y="13395"/>
                  <a:pt x="7516" y="13370"/>
                </a:cubicBezTo>
              </a:path>
              <a:path w="4317" h="3275">
                <a:moveTo>
                  <a:pt x="11832" y="16421"/>
                </a:moveTo>
                <a:cubicBezTo>
                  <a:pt x="11832" y="16437"/>
                  <a:pt x="11832" y="16454"/>
                  <a:pt x="11832" y="16470"/>
                </a:cubicBezTo>
              </a:path>
              <a:path w="4317" h="3275">
                <a:moveTo>
                  <a:pt x="11832" y="16421"/>
                </a:moveTo>
                <a:lnTo>
                  <a:pt x="11832" y="16421"/>
                </a:lnTo>
              </a:path>
              <a:path w="4317" h="3275">
                <a:moveTo>
                  <a:pt x="11832" y="16421"/>
                </a:moveTo>
                <a:lnTo>
                  <a:pt x="11832" y="16421"/>
                </a:lnTo>
              </a:path>
              <a:path w="4317" h="3275">
                <a:moveTo>
                  <a:pt x="11832" y="16371"/>
                </a:moveTo>
                <a:lnTo>
                  <a:pt x="11832" y="16371"/>
                </a:lnTo>
              </a:path>
              <a:path w="4317" h="3275">
                <a:moveTo>
                  <a:pt x="10616" y="15701"/>
                </a:moveTo>
                <a:cubicBezTo>
                  <a:pt x="10657" y="15742"/>
                  <a:pt x="10688" y="15774"/>
                  <a:pt x="10740" y="15801"/>
                </a:cubicBezTo>
                <a:cubicBezTo>
                  <a:pt x="10805" y="15835"/>
                  <a:pt x="10836" y="15879"/>
                  <a:pt x="10840" y="15949"/>
                </a:cubicBezTo>
                <a:cubicBezTo>
                  <a:pt x="10847" y="16061"/>
                  <a:pt x="10759" y="16003"/>
                  <a:pt x="10691" y="15999"/>
                </a:cubicBezTo>
                <a:cubicBezTo>
                  <a:pt x="10674" y="15999"/>
                  <a:pt x="10658" y="15999"/>
                  <a:pt x="10641" y="15999"/>
                </a:cubicBezTo>
                <a:cubicBezTo>
                  <a:pt x="10706" y="16023"/>
                  <a:pt x="10741" y="16024"/>
                  <a:pt x="10790" y="16073"/>
                </a:cubicBezTo>
                <a:cubicBezTo>
                  <a:pt x="10838" y="16121"/>
                  <a:pt x="10892" y="16200"/>
                  <a:pt x="10864" y="16272"/>
                </a:cubicBezTo>
                <a:cubicBezTo>
                  <a:pt x="10844" y="16324"/>
                  <a:pt x="10740" y="16341"/>
                  <a:pt x="10691" y="16321"/>
                </a:cubicBezTo>
                <a:cubicBezTo>
                  <a:pt x="10632" y="16297"/>
                  <a:pt x="10622" y="16224"/>
                  <a:pt x="10616" y="16173"/>
                </a:cubicBezTo>
              </a:path>
              <a:path w="4317" h="3275">
                <a:moveTo>
                  <a:pt x="11013" y="15999"/>
                </a:moveTo>
                <a:cubicBezTo>
                  <a:pt x="10896" y="16050"/>
                  <a:pt x="10847" y="16046"/>
                  <a:pt x="10840" y="16173"/>
                </a:cubicBezTo>
                <a:cubicBezTo>
                  <a:pt x="10835" y="16259"/>
                  <a:pt x="10869" y="16335"/>
                  <a:pt x="10964" y="16321"/>
                </a:cubicBezTo>
                <a:cubicBezTo>
                  <a:pt x="11044" y="16309"/>
                  <a:pt x="11044" y="16249"/>
                  <a:pt x="11063" y="16197"/>
                </a:cubicBezTo>
                <a:cubicBezTo>
                  <a:pt x="11079" y="16151"/>
                  <a:pt x="11079" y="16082"/>
                  <a:pt x="11063" y="16024"/>
                </a:cubicBezTo>
                <a:cubicBezTo>
                  <a:pt x="11043" y="15983"/>
                  <a:pt x="11034" y="15977"/>
                  <a:pt x="11038" y="15949"/>
                </a:cubicBezTo>
              </a:path>
              <a:path w="4317" h="3275">
                <a:moveTo>
                  <a:pt x="11187" y="16024"/>
                </a:moveTo>
                <a:cubicBezTo>
                  <a:pt x="11192" y="16076"/>
                  <a:pt x="11190" y="16205"/>
                  <a:pt x="11286" y="16173"/>
                </a:cubicBezTo>
                <a:cubicBezTo>
                  <a:pt x="11357" y="16149"/>
                  <a:pt x="11259" y="16071"/>
                  <a:pt x="11237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Ink 4"/>
          <p:cNvSpPr/>
          <p:nvPr/>
        </p:nvSpPr>
        <p:spPr>
          <a:xfrm>
            <a:off x="911160" y="3517920"/>
            <a:ext cx="982800" cy="866880"/>
          </a:xfrm>
          <a:custGeom>
            <a:avLst/>
            <a:gdLst/>
            <a:ahLst/>
            <a:rect l="l" t="t" r="r" b="b"/>
            <a:pathLst>
              <a:path w="2730" h="2407">
                <a:moveTo>
                  <a:pt x="3597" y="10443"/>
                </a:moveTo>
                <a:cubicBezTo>
                  <a:pt x="3509" y="10562"/>
                  <a:pt x="3449" y="10654"/>
                  <a:pt x="3398" y="10790"/>
                </a:cubicBezTo>
                <a:cubicBezTo>
                  <a:pt x="3338" y="10951"/>
                  <a:pt x="3257" y="11081"/>
                  <a:pt x="3274" y="11261"/>
                </a:cubicBezTo>
                <a:cubicBezTo>
                  <a:pt x="3290" y="11429"/>
                  <a:pt x="3374" y="11519"/>
                  <a:pt x="3497" y="11609"/>
                </a:cubicBezTo>
                <a:cubicBezTo>
                  <a:pt x="3611" y="11692"/>
                  <a:pt x="3796" y="11766"/>
                  <a:pt x="3944" y="11733"/>
                </a:cubicBezTo>
                <a:cubicBezTo>
                  <a:pt x="4173" y="11682"/>
                  <a:pt x="4283" y="11588"/>
                  <a:pt x="4366" y="11385"/>
                </a:cubicBezTo>
                <a:cubicBezTo>
                  <a:pt x="4429" y="11231"/>
                  <a:pt x="4439" y="11053"/>
                  <a:pt x="4390" y="10889"/>
                </a:cubicBezTo>
                <a:cubicBezTo>
                  <a:pt x="4353" y="10766"/>
                  <a:pt x="4239" y="10553"/>
                  <a:pt x="4142" y="10468"/>
                </a:cubicBezTo>
                <a:cubicBezTo>
                  <a:pt x="4039" y="10377"/>
                  <a:pt x="3883" y="10277"/>
                  <a:pt x="3746" y="10269"/>
                </a:cubicBezTo>
                <a:cubicBezTo>
                  <a:pt x="3628" y="10262"/>
                  <a:pt x="3597" y="10269"/>
                  <a:pt x="3497" y="10319"/>
                </a:cubicBezTo>
              </a:path>
              <a:path w="2730" h="2407">
                <a:moveTo>
                  <a:pt x="4043" y="10468"/>
                </a:moveTo>
                <a:cubicBezTo>
                  <a:pt x="4198" y="10296"/>
                  <a:pt x="4344" y="10148"/>
                  <a:pt x="4514" y="9996"/>
                </a:cubicBezTo>
                <a:cubicBezTo>
                  <a:pt x="4600" y="9919"/>
                  <a:pt x="4633" y="9900"/>
                  <a:pt x="4738" y="9847"/>
                </a:cubicBezTo>
              </a:path>
              <a:path w="2730" h="2407">
                <a:moveTo>
                  <a:pt x="4390" y="10740"/>
                </a:moveTo>
                <a:cubicBezTo>
                  <a:pt x="4579" y="10609"/>
                  <a:pt x="4715" y="10523"/>
                  <a:pt x="4936" y="10468"/>
                </a:cubicBezTo>
                <a:cubicBezTo>
                  <a:pt x="5049" y="10440"/>
                  <a:pt x="5150" y="10408"/>
                  <a:pt x="5259" y="10368"/>
                </a:cubicBezTo>
              </a:path>
              <a:path w="2730" h="2407">
                <a:moveTo>
                  <a:pt x="4514" y="11485"/>
                </a:moveTo>
                <a:cubicBezTo>
                  <a:pt x="4723" y="11622"/>
                  <a:pt x="4919" y="11741"/>
                  <a:pt x="5135" y="11857"/>
                </a:cubicBezTo>
                <a:cubicBezTo>
                  <a:pt x="5151" y="11865"/>
                  <a:pt x="5168" y="11873"/>
                  <a:pt x="5184" y="11881"/>
                </a:cubicBezTo>
              </a:path>
              <a:path w="2730" h="2407">
                <a:moveTo>
                  <a:pt x="3919" y="11559"/>
                </a:moveTo>
                <a:cubicBezTo>
                  <a:pt x="3955" y="11722"/>
                  <a:pt x="4020" y="11891"/>
                  <a:pt x="4043" y="12055"/>
                </a:cubicBezTo>
                <a:cubicBezTo>
                  <a:pt x="4043" y="12123"/>
                  <a:pt x="4040" y="12142"/>
                  <a:pt x="4068" y="12179"/>
                </a:cubicBezTo>
              </a:path>
              <a:path w="2730" h="2407">
                <a:moveTo>
                  <a:pt x="2530" y="11286"/>
                </a:moveTo>
                <a:cubicBezTo>
                  <a:pt x="2697" y="11308"/>
                  <a:pt x="2859" y="11330"/>
                  <a:pt x="3026" y="11336"/>
                </a:cubicBezTo>
                <a:cubicBezTo>
                  <a:pt x="3043" y="11336"/>
                  <a:pt x="3059" y="11336"/>
                  <a:pt x="3076" y="11336"/>
                </a:cubicBezTo>
              </a:path>
              <a:path w="2730" h="2407">
                <a:moveTo>
                  <a:pt x="2704" y="10592"/>
                </a:moveTo>
                <a:cubicBezTo>
                  <a:pt x="2897" y="10807"/>
                  <a:pt x="2933" y="10868"/>
                  <a:pt x="3101" y="10939"/>
                </a:cubicBezTo>
              </a:path>
              <a:path w="2730" h="2407">
                <a:moveTo>
                  <a:pt x="2679" y="9773"/>
                </a:moveTo>
                <a:cubicBezTo>
                  <a:pt x="2856" y="9943"/>
                  <a:pt x="2979" y="10046"/>
                  <a:pt x="3200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Ink 5"/>
          <p:cNvSpPr/>
          <p:nvPr/>
        </p:nvSpPr>
        <p:spPr>
          <a:xfrm>
            <a:off x="2143080" y="4830840"/>
            <a:ext cx="884160" cy="1179360"/>
          </a:xfrm>
          <a:custGeom>
            <a:avLst/>
            <a:gdLst/>
            <a:ahLst/>
            <a:rect l="l" t="t" r="r" b="b"/>
            <a:pathLst>
              <a:path w="2457" h="3276">
                <a:moveTo>
                  <a:pt x="7193" y="13494"/>
                </a:moveTo>
                <a:cubicBezTo>
                  <a:pt x="7127" y="13560"/>
                  <a:pt x="7021" y="13616"/>
                  <a:pt x="6970" y="13692"/>
                </a:cubicBezTo>
                <a:cubicBezTo>
                  <a:pt x="6870" y="13839"/>
                  <a:pt x="6891" y="13962"/>
                  <a:pt x="6945" y="14114"/>
                </a:cubicBezTo>
                <a:cubicBezTo>
                  <a:pt x="6975" y="14199"/>
                  <a:pt x="7097" y="14313"/>
                  <a:pt x="7193" y="14337"/>
                </a:cubicBezTo>
                <a:cubicBezTo>
                  <a:pt x="7286" y="14360"/>
                  <a:pt x="7424" y="14327"/>
                  <a:pt x="7491" y="14263"/>
                </a:cubicBezTo>
                <a:cubicBezTo>
                  <a:pt x="7577" y="14181"/>
                  <a:pt x="7586" y="14024"/>
                  <a:pt x="7590" y="13915"/>
                </a:cubicBezTo>
                <a:cubicBezTo>
                  <a:pt x="7595" y="13752"/>
                  <a:pt x="7514" y="13573"/>
                  <a:pt x="7367" y="13494"/>
                </a:cubicBezTo>
                <a:cubicBezTo>
                  <a:pt x="7248" y="13429"/>
                  <a:pt x="7150" y="13419"/>
                  <a:pt x="7020" y="13419"/>
                </a:cubicBezTo>
              </a:path>
              <a:path w="2457" h="3276">
                <a:moveTo>
                  <a:pt x="7293" y="14288"/>
                </a:moveTo>
                <a:cubicBezTo>
                  <a:pt x="7281" y="14574"/>
                  <a:pt x="7265" y="14869"/>
                  <a:pt x="7293" y="15156"/>
                </a:cubicBezTo>
                <a:cubicBezTo>
                  <a:pt x="7309" y="15322"/>
                  <a:pt x="7337" y="15485"/>
                  <a:pt x="7342" y="15652"/>
                </a:cubicBezTo>
                <a:cubicBezTo>
                  <a:pt x="7345" y="15747"/>
                  <a:pt x="7360" y="15814"/>
                  <a:pt x="7392" y="15900"/>
                </a:cubicBezTo>
              </a:path>
              <a:path w="2457" h="3276">
                <a:moveTo>
                  <a:pt x="7243" y="15751"/>
                </a:moveTo>
                <a:cubicBezTo>
                  <a:pt x="7183" y="15876"/>
                  <a:pt x="7130" y="15999"/>
                  <a:pt x="7069" y="16123"/>
                </a:cubicBezTo>
                <a:cubicBezTo>
                  <a:pt x="7045" y="16173"/>
                  <a:pt x="7020" y="16222"/>
                  <a:pt x="6995" y="16272"/>
                </a:cubicBezTo>
              </a:path>
              <a:path w="2457" h="3276">
                <a:moveTo>
                  <a:pt x="7466" y="15726"/>
                </a:moveTo>
                <a:cubicBezTo>
                  <a:pt x="7567" y="15914"/>
                  <a:pt x="7683" y="16211"/>
                  <a:pt x="7838" y="16371"/>
                </a:cubicBezTo>
                <a:cubicBezTo>
                  <a:pt x="7953" y="16457"/>
                  <a:pt x="8004" y="16487"/>
                  <a:pt x="8111" y="16495"/>
                </a:cubicBezTo>
              </a:path>
              <a:path w="2457" h="3276">
                <a:moveTo>
                  <a:pt x="7020" y="15032"/>
                </a:moveTo>
                <a:cubicBezTo>
                  <a:pt x="7292" y="15070"/>
                  <a:pt x="7332" y="15087"/>
                  <a:pt x="7491" y="15081"/>
                </a:cubicBezTo>
              </a:path>
              <a:path w="2457" h="3276">
                <a:moveTo>
                  <a:pt x="7962" y="15875"/>
                </a:moveTo>
                <a:cubicBezTo>
                  <a:pt x="8073" y="15875"/>
                  <a:pt x="8260" y="15843"/>
                  <a:pt x="8359" y="15900"/>
                </a:cubicBezTo>
                <a:cubicBezTo>
                  <a:pt x="8433" y="15943"/>
                  <a:pt x="8409" y="16026"/>
                  <a:pt x="8409" y="16098"/>
                </a:cubicBezTo>
                <a:cubicBezTo>
                  <a:pt x="8409" y="16297"/>
                  <a:pt x="8409" y="16495"/>
                  <a:pt x="8409" y="16694"/>
                </a:cubicBezTo>
              </a:path>
              <a:path w="2457" h="3276">
                <a:moveTo>
                  <a:pt x="6028" y="14089"/>
                </a:moveTo>
                <a:cubicBezTo>
                  <a:pt x="6050" y="14192"/>
                  <a:pt x="6014" y="14277"/>
                  <a:pt x="6003" y="14387"/>
                </a:cubicBezTo>
                <a:cubicBezTo>
                  <a:pt x="5988" y="14536"/>
                  <a:pt x="5946" y="14658"/>
                  <a:pt x="5978" y="14808"/>
                </a:cubicBezTo>
                <a:cubicBezTo>
                  <a:pt x="6010" y="14957"/>
                  <a:pt x="6095" y="14960"/>
                  <a:pt x="6201" y="15032"/>
                </a:cubicBezTo>
                <a:cubicBezTo>
                  <a:pt x="6287" y="15090"/>
                  <a:pt x="6351" y="15099"/>
                  <a:pt x="6449" y="15056"/>
                </a:cubicBezTo>
                <a:cubicBezTo>
                  <a:pt x="6537" y="15018"/>
                  <a:pt x="6564" y="14959"/>
                  <a:pt x="6548" y="14858"/>
                </a:cubicBezTo>
                <a:cubicBezTo>
                  <a:pt x="6534" y="14770"/>
                  <a:pt x="6427" y="14802"/>
                  <a:pt x="6375" y="14808"/>
                </a:cubicBezTo>
                <a:cubicBezTo>
                  <a:pt x="6270" y="14819"/>
                  <a:pt x="6281" y="14846"/>
                  <a:pt x="6251" y="14932"/>
                </a:cubicBezTo>
                <a:cubicBezTo>
                  <a:pt x="6227" y="15001"/>
                  <a:pt x="6226" y="15029"/>
                  <a:pt x="6226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Ink 6"/>
          <p:cNvSpPr/>
          <p:nvPr/>
        </p:nvSpPr>
        <p:spPr>
          <a:xfrm>
            <a:off x="3411360" y="6054840"/>
            <a:ext cx="258840" cy="249120"/>
          </a:xfrm>
          <a:custGeom>
            <a:avLst/>
            <a:gdLst/>
            <a:ahLst/>
            <a:rect l="l" t="t" r="r" b="b"/>
            <a:pathLst>
              <a:path w="721" h="695">
                <a:moveTo>
                  <a:pt x="9500" y="16818"/>
                </a:moveTo>
                <a:cubicBezTo>
                  <a:pt x="9582" y="16897"/>
                  <a:pt x="9631" y="16980"/>
                  <a:pt x="9699" y="17066"/>
                </a:cubicBezTo>
                <a:cubicBezTo>
                  <a:pt x="9786" y="17175"/>
                  <a:pt x="9885" y="17278"/>
                  <a:pt x="9971" y="17388"/>
                </a:cubicBezTo>
                <a:cubicBezTo>
                  <a:pt x="10060" y="17502"/>
                  <a:pt x="10039" y="17478"/>
                  <a:pt x="10195" y="17487"/>
                </a:cubicBezTo>
              </a:path>
              <a:path w="721" h="695">
                <a:moveTo>
                  <a:pt x="9922" y="16818"/>
                </a:moveTo>
                <a:cubicBezTo>
                  <a:pt x="9816" y="16972"/>
                  <a:pt x="9721" y="17130"/>
                  <a:pt x="9624" y="17289"/>
                </a:cubicBezTo>
                <a:cubicBezTo>
                  <a:pt x="9574" y="17372"/>
                  <a:pt x="9518" y="17427"/>
                  <a:pt x="9475" y="175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Ink 7"/>
          <p:cNvSpPr/>
          <p:nvPr/>
        </p:nvSpPr>
        <p:spPr>
          <a:xfrm>
            <a:off x="5446800" y="3911760"/>
            <a:ext cx="1652400" cy="561960"/>
          </a:xfrm>
          <a:custGeom>
            <a:avLst/>
            <a:gdLst/>
            <a:ahLst/>
            <a:rect l="l" t="t" r="r" b="b"/>
            <a:pathLst>
              <a:path w="4590" h="1564">
                <a:moveTo>
                  <a:pt x="15602" y="11237"/>
                </a:moveTo>
                <a:cubicBezTo>
                  <a:pt x="15611" y="11349"/>
                  <a:pt x="15627" y="11443"/>
                  <a:pt x="15627" y="11559"/>
                </a:cubicBezTo>
                <a:cubicBezTo>
                  <a:pt x="15627" y="11724"/>
                  <a:pt x="15572" y="11870"/>
                  <a:pt x="15553" y="12030"/>
                </a:cubicBezTo>
                <a:cubicBezTo>
                  <a:pt x="15540" y="12138"/>
                  <a:pt x="15509" y="12244"/>
                  <a:pt x="15503" y="12353"/>
                </a:cubicBezTo>
                <a:cubicBezTo>
                  <a:pt x="15503" y="12394"/>
                  <a:pt x="15503" y="12402"/>
                  <a:pt x="15503" y="12427"/>
                </a:cubicBezTo>
              </a:path>
              <a:path w="4590" h="1564">
                <a:moveTo>
                  <a:pt x="15131" y="11931"/>
                </a:moveTo>
                <a:cubicBezTo>
                  <a:pt x="15222" y="11879"/>
                  <a:pt x="15322" y="11861"/>
                  <a:pt x="15429" y="11857"/>
                </a:cubicBezTo>
                <a:cubicBezTo>
                  <a:pt x="15510" y="11854"/>
                  <a:pt x="15565" y="11832"/>
                  <a:pt x="15652" y="11832"/>
                </a:cubicBezTo>
                <a:cubicBezTo>
                  <a:pt x="15742" y="11832"/>
                  <a:pt x="15816" y="11821"/>
                  <a:pt x="15900" y="11807"/>
                </a:cubicBezTo>
                <a:cubicBezTo>
                  <a:pt x="15916" y="11807"/>
                  <a:pt x="15933" y="11807"/>
                  <a:pt x="15949" y="11807"/>
                </a:cubicBezTo>
              </a:path>
              <a:path w="4590" h="1564">
                <a:moveTo>
                  <a:pt x="16197" y="11857"/>
                </a:moveTo>
                <a:cubicBezTo>
                  <a:pt x="16216" y="11985"/>
                  <a:pt x="16249" y="12033"/>
                  <a:pt x="16173" y="12129"/>
                </a:cubicBezTo>
                <a:cubicBezTo>
                  <a:pt x="16120" y="12065"/>
                  <a:pt x="16104" y="11995"/>
                  <a:pt x="16073" y="11931"/>
                </a:cubicBezTo>
                <a:cubicBezTo>
                  <a:pt x="16047" y="11877"/>
                  <a:pt x="15998" y="11864"/>
                  <a:pt x="15949" y="11857"/>
                </a:cubicBezTo>
                <a:cubicBezTo>
                  <a:pt x="15889" y="11907"/>
                  <a:pt x="15880" y="11969"/>
                  <a:pt x="15850" y="12055"/>
                </a:cubicBezTo>
                <a:cubicBezTo>
                  <a:pt x="15817" y="12148"/>
                  <a:pt x="15758" y="12232"/>
                  <a:pt x="15801" y="12328"/>
                </a:cubicBezTo>
                <a:cubicBezTo>
                  <a:pt x="15824" y="12379"/>
                  <a:pt x="15901" y="12397"/>
                  <a:pt x="15949" y="12378"/>
                </a:cubicBezTo>
                <a:cubicBezTo>
                  <a:pt x="16017" y="12352"/>
                  <a:pt x="16042" y="12290"/>
                  <a:pt x="16073" y="12229"/>
                </a:cubicBezTo>
                <a:cubicBezTo>
                  <a:pt x="16114" y="12146"/>
                  <a:pt x="16156" y="12064"/>
                  <a:pt x="16197" y="11981"/>
                </a:cubicBezTo>
                <a:cubicBezTo>
                  <a:pt x="16189" y="12051"/>
                  <a:pt x="16173" y="12106"/>
                  <a:pt x="16173" y="12179"/>
                </a:cubicBezTo>
                <a:cubicBezTo>
                  <a:pt x="16173" y="12230"/>
                  <a:pt x="16166" y="12346"/>
                  <a:pt x="16222" y="12378"/>
                </a:cubicBezTo>
                <a:cubicBezTo>
                  <a:pt x="16264" y="12378"/>
                  <a:pt x="16272" y="12378"/>
                  <a:pt x="16297" y="12378"/>
                </a:cubicBezTo>
              </a:path>
              <a:path w="4590" h="1564">
                <a:moveTo>
                  <a:pt x="16495" y="11931"/>
                </a:moveTo>
                <a:cubicBezTo>
                  <a:pt x="16495" y="12072"/>
                  <a:pt x="16495" y="12212"/>
                  <a:pt x="16495" y="12353"/>
                </a:cubicBezTo>
                <a:cubicBezTo>
                  <a:pt x="16536" y="12394"/>
                  <a:pt x="16495" y="12313"/>
                  <a:pt x="16495" y="12254"/>
                </a:cubicBezTo>
                <a:cubicBezTo>
                  <a:pt x="16495" y="12156"/>
                  <a:pt x="16490" y="12049"/>
                  <a:pt x="16520" y="11956"/>
                </a:cubicBezTo>
                <a:cubicBezTo>
                  <a:pt x="16548" y="11868"/>
                  <a:pt x="16581" y="11839"/>
                  <a:pt x="16644" y="11782"/>
                </a:cubicBezTo>
                <a:cubicBezTo>
                  <a:pt x="16693" y="11738"/>
                  <a:pt x="16775" y="11751"/>
                  <a:pt x="16818" y="11807"/>
                </a:cubicBezTo>
                <a:cubicBezTo>
                  <a:pt x="16864" y="11866"/>
                  <a:pt x="16906" y="11955"/>
                  <a:pt x="16917" y="12030"/>
                </a:cubicBezTo>
                <a:cubicBezTo>
                  <a:pt x="16933" y="12139"/>
                  <a:pt x="16922" y="12219"/>
                  <a:pt x="16917" y="12328"/>
                </a:cubicBezTo>
                <a:cubicBezTo>
                  <a:pt x="16914" y="12394"/>
                  <a:pt x="16892" y="12420"/>
                  <a:pt x="16942" y="12402"/>
                </a:cubicBezTo>
              </a:path>
              <a:path w="4590" h="1564">
                <a:moveTo>
                  <a:pt x="17314" y="11361"/>
                </a:moveTo>
                <a:cubicBezTo>
                  <a:pt x="17333" y="11242"/>
                  <a:pt x="17334" y="11242"/>
                  <a:pt x="17462" y="11237"/>
                </a:cubicBezTo>
                <a:cubicBezTo>
                  <a:pt x="17542" y="11234"/>
                  <a:pt x="17614" y="11229"/>
                  <a:pt x="17686" y="11261"/>
                </a:cubicBezTo>
                <a:cubicBezTo>
                  <a:pt x="17754" y="11291"/>
                  <a:pt x="17782" y="11333"/>
                  <a:pt x="17760" y="11410"/>
                </a:cubicBezTo>
                <a:cubicBezTo>
                  <a:pt x="17739" y="11486"/>
                  <a:pt x="17626" y="11587"/>
                  <a:pt x="17562" y="11633"/>
                </a:cubicBezTo>
                <a:cubicBezTo>
                  <a:pt x="17513" y="11668"/>
                  <a:pt x="17369" y="11775"/>
                  <a:pt x="17413" y="11733"/>
                </a:cubicBezTo>
                <a:cubicBezTo>
                  <a:pt x="17461" y="11687"/>
                  <a:pt x="17546" y="11708"/>
                  <a:pt x="17611" y="11708"/>
                </a:cubicBezTo>
                <a:cubicBezTo>
                  <a:pt x="17697" y="11708"/>
                  <a:pt x="17753" y="11750"/>
                  <a:pt x="17810" y="11807"/>
                </a:cubicBezTo>
                <a:cubicBezTo>
                  <a:pt x="17870" y="11867"/>
                  <a:pt x="17821" y="11925"/>
                  <a:pt x="17810" y="11981"/>
                </a:cubicBezTo>
                <a:cubicBezTo>
                  <a:pt x="17788" y="12088"/>
                  <a:pt x="17666" y="12160"/>
                  <a:pt x="17562" y="12204"/>
                </a:cubicBezTo>
                <a:cubicBezTo>
                  <a:pt x="17496" y="12232"/>
                  <a:pt x="17377" y="12288"/>
                  <a:pt x="17314" y="12254"/>
                </a:cubicBezTo>
                <a:cubicBezTo>
                  <a:pt x="17280" y="12220"/>
                  <a:pt x="17271" y="12198"/>
                  <a:pt x="17289" y="12154"/>
                </a:cubicBezTo>
              </a:path>
              <a:path w="4590" h="1564">
                <a:moveTo>
                  <a:pt x="17983" y="11261"/>
                </a:moveTo>
                <a:cubicBezTo>
                  <a:pt x="17999" y="11402"/>
                  <a:pt x="17973" y="11516"/>
                  <a:pt x="17959" y="11658"/>
                </a:cubicBezTo>
                <a:cubicBezTo>
                  <a:pt x="17946" y="11790"/>
                  <a:pt x="17925" y="11922"/>
                  <a:pt x="17959" y="12055"/>
                </a:cubicBezTo>
                <a:cubicBezTo>
                  <a:pt x="17981" y="12141"/>
                  <a:pt x="18023" y="12174"/>
                  <a:pt x="18107" y="12179"/>
                </a:cubicBezTo>
                <a:cubicBezTo>
                  <a:pt x="18210" y="12185"/>
                  <a:pt x="18225" y="12173"/>
                  <a:pt x="18281" y="12080"/>
                </a:cubicBezTo>
                <a:cubicBezTo>
                  <a:pt x="18334" y="11992"/>
                  <a:pt x="18365" y="11938"/>
                  <a:pt x="18380" y="11832"/>
                </a:cubicBezTo>
                <a:cubicBezTo>
                  <a:pt x="18392" y="11747"/>
                  <a:pt x="18360" y="11629"/>
                  <a:pt x="18306" y="11559"/>
                </a:cubicBezTo>
                <a:cubicBezTo>
                  <a:pt x="18276" y="11520"/>
                  <a:pt x="18199" y="11431"/>
                  <a:pt x="18157" y="11410"/>
                </a:cubicBezTo>
                <a:cubicBezTo>
                  <a:pt x="18092" y="11377"/>
                  <a:pt x="18027" y="11386"/>
                  <a:pt x="18008" y="11311"/>
                </a:cubicBezTo>
              </a:path>
              <a:path w="4590" h="1564">
                <a:moveTo>
                  <a:pt x="18405" y="10914"/>
                </a:moveTo>
                <a:cubicBezTo>
                  <a:pt x="18399" y="10997"/>
                  <a:pt x="18359" y="11087"/>
                  <a:pt x="18405" y="11162"/>
                </a:cubicBezTo>
                <a:cubicBezTo>
                  <a:pt x="18453" y="11239"/>
                  <a:pt x="18539" y="11151"/>
                  <a:pt x="18579" y="11112"/>
                </a:cubicBezTo>
                <a:cubicBezTo>
                  <a:pt x="18632" y="11060"/>
                  <a:pt x="18628" y="11039"/>
                  <a:pt x="18628" y="10964"/>
                </a:cubicBezTo>
                <a:cubicBezTo>
                  <a:pt x="18628" y="10890"/>
                  <a:pt x="18600" y="10867"/>
                  <a:pt x="18529" y="10864"/>
                </a:cubicBezTo>
                <a:cubicBezTo>
                  <a:pt x="18471" y="10864"/>
                  <a:pt x="18463" y="10864"/>
                  <a:pt x="18430" y="10864"/>
                </a:cubicBezTo>
              </a:path>
              <a:path w="4590" h="1564">
                <a:moveTo>
                  <a:pt x="19050" y="11311"/>
                </a:moveTo>
                <a:cubicBezTo>
                  <a:pt x="19143" y="11365"/>
                  <a:pt x="19192" y="11385"/>
                  <a:pt x="19298" y="11385"/>
                </a:cubicBezTo>
                <a:cubicBezTo>
                  <a:pt x="19377" y="11385"/>
                  <a:pt x="19456" y="11361"/>
                  <a:pt x="19546" y="11361"/>
                </a:cubicBezTo>
                <a:cubicBezTo>
                  <a:pt x="19554" y="11361"/>
                  <a:pt x="19563" y="11361"/>
                  <a:pt x="19571" y="11361"/>
                </a:cubicBezTo>
              </a:path>
              <a:path w="4590" h="1564">
                <a:moveTo>
                  <a:pt x="19149" y="11683"/>
                </a:moveTo>
                <a:cubicBezTo>
                  <a:pt x="19295" y="11683"/>
                  <a:pt x="19428" y="11675"/>
                  <a:pt x="19571" y="11658"/>
                </a:cubicBezTo>
                <a:cubicBezTo>
                  <a:pt x="19634" y="11650"/>
                  <a:pt x="19660" y="11656"/>
                  <a:pt x="19720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Ink 8"/>
          <p:cNvSpPr/>
          <p:nvPr/>
        </p:nvSpPr>
        <p:spPr>
          <a:xfrm>
            <a:off x="7375680" y="3705120"/>
            <a:ext cx="474480" cy="1027080"/>
          </a:xfrm>
          <a:custGeom>
            <a:avLst/>
            <a:gdLst/>
            <a:ahLst/>
            <a:rect l="l" t="t" r="r" b="b"/>
            <a:pathLst>
              <a:path w="1315" h="2853">
                <a:moveTo>
                  <a:pt x="20886" y="10294"/>
                </a:moveTo>
                <a:cubicBezTo>
                  <a:pt x="20886" y="10379"/>
                  <a:pt x="20888" y="10439"/>
                  <a:pt x="20861" y="10517"/>
                </a:cubicBezTo>
                <a:cubicBezTo>
                  <a:pt x="20807" y="10672"/>
                  <a:pt x="20743" y="10824"/>
                  <a:pt x="20737" y="10988"/>
                </a:cubicBezTo>
                <a:cubicBezTo>
                  <a:pt x="20734" y="11074"/>
                  <a:pt x="20764" y="11157"/>
                  <a:pt x="20836" y="11212"/>
                </a:cubicBezTo>
                <a:cubicBezTo>
                  <a:pt x="20909" y="11268"/>
                  <a:pt x="20968" y="11261"/>
                  <a:pt x="21059" y="11261"/>
                </a:cubicBezTo>
                <a:cubicBezTo>
                  <a:pt x="21210" y="11261"/>
                  <a:pt x="21231" y="11175"/>
                  <a:pt x="21332" y="11088"/>
                </a:cubicBezTo>
                <a:cubicBezTo>
                  <a:pt x="21378" y="11049"/>
                  <a:pt x="21456" y="10994"/>
                  <a:pt x="21431" y="10914"/>
                </a:cubicBezTo>
                <a:cubicBezTo>
                  <a:pt x="21415" y="10861"/>
                  <a:pt x="21325" y="10847"/>
                  <a:pt x="21282" y="10864"/>
                </a:cubicBezTo>
                <a:cubicBezTo>
                  <a:pt x="21180" y="10904"/>
                  <a:pt x="21110" y="11021"/>
                  <a:pt x="21034" y="11088"/>
                </a:cubicBezTo>
                <a:cubicBezTo>
                  <a:pt x="20966" y="11147"/>
                  <a:pt x="20872" y="11195"/>
                  <a:pt x="20861" y="11286"/>
                </a:cubicBezTo>
                <a:cubicBezTo>
                  <a:pt x="20861" y="11369"/>
                  <a:pt x="20861" y="11385"/>
                  <a:pt x="20861" y="11435"/>
                </a:cubicBezTo>
              </a:path>
              <a:path w="1315" h="2853">
                <a:moveTo>
                  <a:pt x="20489" y="11609"/>
                </a:moveTo>
                <a:cubicBezTo>
                  <a:pt x="20637" y="11628"/>
                  <a:pt x="20785" y="11645"/>
                  <a:pt x="20935" y="11633"/>
                </a:cubicBezTo>
                <a:cubicBezTo>
                  <a:pt x="21111" y="11619"/>
                  <a:pt x="21303" y="11587"/>
                  <a:pt x="21481" y="11609"/>
                </a:cubicBezTo>
                <a:cubicBezTo>
                  <a:pt x="21594" y="11623"/>
                  <a:pt x="21688" y="11633"/>
                  <a:pt x="21803" y="11633"/>
                </a:cubicBezTo>
                <a:cubicBezTo>
                  <a:pt x="21787" y="11633"/>
                  <a:pt x="21770" y="11633"/>
                  <a:pt x="21754" y="11633"/>
                </a:cubicBezTo>
              </a:path>
              <a:path w="1315" h="2853">
                <a:moveTo>
                  <a:pt x="20861" y="12030"/>
                </a:moveTo>
                <a:cubicBezTo>
                  <a:pt x="20920" y="12144"/>
                  <a:pt x="21047" y="12323"/>
                  <a:pt x="21084" y="12452"/>
                </a:cubicBezTo>
                <a:cubicBezTo>
                  <a:pt x="21121" y="12580"/>
                  <a:pt x="21161" y="12675"/>
                  <a:pt x="21208" y="12799"/>
                </a:cubicBezTo>
                <a:cubicBezTo>
                  <a:pt x="21227" y="12848"/>
                  <a:pt x="21248" y="12899"/>
                  <a:pt x="21258" y="12948"/>
                </a:cubicBezTo>
              </a:path>
              <a:path w="1315" h="2853">
                <a:moveTo>
                  <a:pt x="21258" y="12080"/>
                </a:moveTo>
                <a:cubicBezTo>
                  <a:pt x="21125" y="12353"/>
                  <a:pt x="20995" y="12617"/>
                  <a:pt x="20836" y="12874"/>
                </a:cubicBezTo>
                <a:cubicBezTo>
                  <a:pt x="20745" y="13010"/>
                  <a:pt x="20718" y="13045"/>
                  <a:pt x="20687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Ink 9"/>
          <p:cNvSpPr/>
          <p:nvPr/>
        </p:nvSpPr>
        <p:spPr>
          <a:xfrm>
            <a:off x="5607000" y="4697280"/>
            <a:ext cx="2386080" cy="938520"/>
          </a:xfrm>
          <a:custGeom>
            <a:avLst/>
            <a:gdLst/>
            <a:ahLst/>
            <a:rect l="l" t="t" r="r" b="b"/>
            <a:pathLst>
              <a:path w="6624" h="2606">
                <a:moveTo>
                  <a:pt x="16173" y="14015"/>
                </a:moveTo>
                <a:cubicBezTo>
                  <a:pt x="16201" y="13986"/>
                  <a:pt x="16209" y="13973"/>
                  <a:pt x="16197" y="13940"/>
                </a:cubicBezTo>
                <a:cubicBezTo>
                  <a:pt x="16115" y="13971"/>
                  <a:pt x="16086" y="13950"/>
                  <a:pt x="16073" y="14039"/>
                </a:cubicBezTo>
                <a:cubicBezTo>
                  <a:pt x="16091" y="14046"/>
                  <a:pt x="16203" y="14051"/>
                  <a:pt x="16197" y="13990"/>
                </a:cubicBezTo>
                <a:cubicBezTo>
                  <a:pt x="16169" y="13961"/>
                  <a:pt x="16161" y="13948"/>
                  <a:pt x="16173" y="13915"/>
                </a:cubicBezTo>
              </a:path>
              <a:path w="6624" h="2606">
                <a:moveTo>
                  <a:pt x="16396" y="13122"/>
                </a:moveTo>
                <a:cubicBezTo>
                  <a:pt x="16557" y="13122"/>
                  <a:pt x="16711" y="13126"/>
                  <a:pt x="16867" y="13097"/>
                </a:cubicBezTo>
                <a:cubicBezTo>
                  <a:pt x="16875" y="13097"/>
                  <a:pt x="16884" y="13097"/>
                  <a:pt x="16892" y="13097"/>
                </a:cubicBezTo>
              </a:path>
              <a:path w="6624" h="2606">
                <a:moveTo>
                  <a:pt x="16495" y="13047"/>
                </a:moveTo>
                <a:cubicBezTo>
                  <a:pt x="16431" y="13130"/>
                  <a:pt x="16327" y="13220"/>
                  <a:pt x="16371" y="13320"/>
                </a:cubicBezTo>
                <a:cubicBezTo>
                  <a:pt x="16409" y="13407"/>
                  <a:pt x="16472" y="13348"/>
                  <a:pt x="16545" y="13395"/>
                </a:cubicBezTo>
                <a:cubicBezTo>
                  <a:pt x="16645" y="13459"/>
                  <a:pt x="16681" y="13514"/>
                  <a:pt x="16718" y="13618"/>
                </a:cubicBezTo>
                <a:cubicBezTo>
                  <a:pt x="16761" y="13738"/>
                  <a:pt x="16797" y="13814"/>
                  <a:pt x="16768" y="13940"/>
                </a:cubicBezTo>
                <a:cubicBezTo>
                  <a:pt x="16746" y="14033"/>
                  <a:pt x="16676" y="14092"/>
                  <a:pt x="16570" y="14064"/>
                </a:cubicBezTo>
                <a:cubicBezTo>
                  <a:pt x="16539" y="14056"/>
                  <a:pt x="16434" y="14009"/>
                  <a:pt x="16421" y="13965"/>
                </a:cubicBezTo>
                <a:cubicBezTo>
                  <a:pt x="16421" y="13948"/>
                  <a:pt x="16421" y="13932"/>
                  <a:pt x="16421" y="13915"/>
                </a:cubicBezTo>
              </a:path>
              <a:path w="6624" h="2606">
                <a:moveTo>
                  <a:pt x="16966" y="13171"/>
                </a:moveTo>
                <a:cubicBezTo>
                  <a:pt x="17016" y="13141"/>
                  <a:pt x="17076" y="13125"/>
                  <a:pt x="17140" y="13122"/>
                </a:cubicBezTo>
                <a:cubicBezTo>
                  <a:pt x="17200" y="13119"/>
                  <a:pt x="17268" y="13109"/>
                  <a:pt x="17314" y="13146"/>
                </a:cubicBezTo>
                <a:cubicBezTo>
                  <a:pt x="17369" y="13190"/>
                  <a:pt x="17294" y="13312"/>
                  <a:pt x="17289" y="13370"/>
                </a:cubicBezTo>
                <a:cubicBezTo>
                  <a:pt x="17280" y="13491"/>
                  <a:pt x="17264" y="13596"/>
                  <a:pt x="17264" y="13717"/>
                </a:cubicBezTo>
                <a:cubicBezTo>
                  <a:pt x="17264" y="13818"/>
                  <a:pt x="17273" y="13897"/>
                  <a:pt x="17289" y="13990"/>
                </a:cubicBezTo>
                <a:cubicBezTo>
                  <a:pt x="17289" y="14039"/>
                  <a:pt x="17289" y="14056"/>
                  <a:pt x="17289" y="14089"/>
                </a:cubicBezTo>
              </a:path>
              <a:path w="6624" h="2606">
                <a:moveTo>
                  <a:pt x="17487" y="13221"/>
                </a:moveTo>
                <a:cubicBezTo>
                  <a:pt x="17548" y="13182"/>
                  <a:pt x="17622" y="13135"/>
                  <a:pt x="17686" y="13122"/>
                </a:cubicBezTo>
                <a:cubicBezTo>
                  <a:pt x="17731" y="13113"/>
                  <a:pt x="17938" y="13101"/>
                  <a:pt x="17959" y="13146"/>
                </a:cubicBezTo>
                <a:cubicBezTo>
                  <a:pt x="17993" y="13220"/>
                  <a:pt x="17942" y="13349"/>
                  <a:pt x="17934" y="13419"/>
                </a:cubicBezTo>
                <a:cubicBezTo>
                  <a:pt x="17924" y="13509"/>
                  <a:pt x="17911" y="13603"/>
                  <a:pt x="17909" y="13692"/>
                </a:cubicBezTo>
                <a:cubicBezTo>
                  <a:pt x="17906" y="13824"/>
                  <a:pt x="17887" y="13990"/>
                  <a:pt x="17934" y="14114"/>
                </a:cubicBezTo>
              </a:path>
              <a:path w="6624" h="2606">
                <a:moveTo>
                  <a:pt x="19571" y="13891"/>
                </a:moveTo>
                <a:cubicBezTo>
                  <a:pt x="19666" y="13904"/>
                  <a:pt x="19729" y="13915"/>
                  <a:pt x="19819" y="13915"/>
                </a:cubicBezTo>
              </a:path>
              <a:path w="6624" h="2606">
                <a:moveTo>
                  <a:pt x="19621" y="14015"/>
                </a:moveTo>
                <a:cubicBezTo>
                  <a:pt x="19710" y="14134"/>
                  <a:pt x="19797" y="14130"/>
                  <a:pt x="19943" y="14139"/>
                </a:cubicBezTo>
              </a:path>
              <a:path w="6624" h="2606">
                <a:moveTo>
                  <a:pt x="20464" y="13543"/>
                </a:moveTo>
                <a:cubicBezTo>
                  <a:pt x="20415" y="13662"/>
                  <a:pt x="20392" y="13746"/>
                  <a:pt x="20365" y="13866"/>
                </a:cubicBezTo>
                <a:cubicBezTo>
                  <a:pt x="20346" y="13952"/>
                  <a:pt x="20344" y="14055"/>
                  <a:pt x="20389" y="14139"/>
                </a:cubicBezTo>
                <a:cubicBezTo>
                  <a:pt x="20455" y="14260"/>
                  <a:pt x="20556" y="14331"/>
                  <a:pt x="20687" y="14337"/>
                </a:cubicBezTo>
                <a:cubicBezTo>
                  <a:pt x="20753" y="14340"/>
                  <a:pt x="20843" y="14287"/>
                  <a:pt x="20886" y="14238"/>
                </a:cubicBezTo>
                <a:cubicBezTo>
                  <a:pt x="20941" y="14175"/>
                  <a:pt x="20957" y="14059"/>
                  <a:pt x="20910" y="13990"/>
                </a:cubicBezTo>
                <a:cubicBezTo>
                  <a:pt x="20842" y="13890"/>
                  <a:pt x="20764" y="13931"/>
                  <a:pt x="20712" y="13990"/>
                </a:cubicBezTo>
                <a:cubicBezTo>
                  <a:pt x="20638" y="14074"/>
                  <a:pt x="20638" y="14102"/>
                  <a:pt x="20638" y="14213"/>
                </a:cubicBezTo>
                <a:cubicBezTo>
                  <a:pt x="20638" y="14279"/>
                  <a:pt x="20638" y="14296"/>
                  <a:pt x="20638" y="14337"/>
                </a:cubicBezTo>
              </a:path>
              <a:path w="6624" h="2606">
                <a:moveTo>
                  <a:pt x="20166" y="14387"/>
                </a:moveTo>
                <a:cubicBezTo>
                  <a:pt x="20299" y="14395"/>
                  <a:pt x="20429" y="14402"/>
                  <a:pt x="20563" y="14412"/>
                </a:cubicBezTo>
                <a:cubicBezTo>
                  <a:pt x="20692" y="14421"/>
                  <a:pt x="20929" y="14455"/>
                  <a:pt x="21059" y="14387"/>
                </a:cubicBezTo>
                <a:cubicBezTo>
                  <a:pt x="21076" y="14370"/>
                  <a:pt x="21092" y="14354"/>
                  <a:pt x="21109" y="14337"/>
                </a:cubicBezTo>
              </a:path>
              <a:path w="6624" h="2606">
                <a:moveTo>
                  <a:pt x="20588" y="14660"/>
                </a:moveTo>
                <a:cubicBezTo>
                  <a:pt x="20661" y="14890"/>
                  <a:pt x="20727" y="15079"/>
                  <a:pt x="20861" y="15280"/>
                </a:cubicBezTo>
                <a:cubicBezTo>
                  <a:pt x="20967" y="15440"/>
                  <a:pt x="21077" y="15545"/>
                  <a:pt x="21233" y="15652"/>
                </a:cubicBezTo>
              </a:path>
              <a:path w="6624" h="2606">
                <a:moveTo>
                  <a:pt x="21010" y="14461"/>
                </a:moveTo>
                <a:cubicBezTo>
                  <a:pt x="20802" y="14605"/>
                  <a:pt x="20769" y="14643"/>
                  <a:pt x="20662" y="14858"/>
                </a:cubicBezTo>
                <a:cubicBezTo>
                  <a:pt x="20588" y="15006"/>
                  <a:pt x="20545" y="15169"/>
                  <a:pt x="20464" y="15304"/>
                </a:cubicBezTo>
                <a:cubicBezTo>
                  <a:pt x="20432" y="15358"/>
                  <a:pt x="20426" y="15379"/>
                  <a:pt x="20464" y="15404"/>
                </a:cubicBezTo>
              </a:path>
              <a:path w="6624" h="2606">
                <a:moveTo>
                  <a:pt x="21357" y="14312"/>
                </a:moveTo>
                <a:cubicBezTo>
                  <a:pt x="21365" y="14304"/>
                  <a:pt x="21374" y="14296"/>
                  <a:pt x="21382" y="14288"/>
                </a:cubicBezTo>
              </a:path>
              <a:path w="6624" h="2606">
                <a:moveTo>
                  <a:pt x="21630" y="13643"/>
                </a:moveTo>
                <a:cubicBezTo>
                  <a:pt x="21721" y="13814"/>
                  <a:pt x="21788" y="13930"/>
                  <a:pt x="21903" y="14089"/>
                </a:cubicBezTo>
                <a:cubicBezTo>
                  <a:pt x="21978" y="14192"/>
                  <a:pt x="22046" y="14309"/>
                  <a:pt x="22151" y="14387"/>
                </a:cubicBezTo>
                <a:cubicBezTo>
                  <a:pt x="22167" y="14395"/>
                  <a:pt x="22184" y="14404"/>
                  <a:pt x="22200" y="14412"/>
                </a:cubicBezTo>
              </a:path>
              <a:path w="6624" h="2606">
                <a:moveTo>
                  <a:pt x="21952" y="13667"/>
                </a:moveTo>
                <a:cubicBezTo>
                  <a:pt x="21810" y="13738"/>
                  <a:pt x="21622" y="13824"/>
                  <a:pt x="21506" y="13940"/>
                </a:cubicBezTo>
                <a:cubicBezTo>
                  <a:pt x="21447" y="14029"/>
                  <a:pt x="21418" y="14066"/>
                  <a:pt x="21357" y="14114"/>
                </a:cubicBezTo>
              </a:path>
              <a:path w="6624" h="2606">
                <a:moveTo>
                  <a:pt x="18231" y="13543"/>
                </a:moveTo>
                <a:cubicBezTo>
                  <a:pt x="18248" y="13543"/>
                  <a:pt x="18264" y="13543"/>
                  <a:pt x="18281" y="13543"/>
                </a:cubicBezTo>
              </a:path>
              <a:path w="6624" h="2606">
                <a:moveTo>
                  <a:pt x="18604" y="13469"/>
                </a:moveTo>
                <a:cubicBezTo>
                  <a:pt x="18670" y="13622"/>
                  <a:pt x="18760" y="13793"/>
                  <a:pt x="18876" y="13915"/>
                </a:cubicBezTo>
                <a:cubicBezTo>
                  <a:pt x="18921" y="13962"/>
                  <a:pt x="18994" y="14002"/>
                  <a:pt x="19050" y="14039"/>
                </a:cubicBezTo>
              </a:path>
              <a:path w="6624" h="2606">
                <a:moveTo>
                  <a:pt x="19025" y="13271"/>
                </a:moveTo>
                <a:cubicBezTo>
                  <a:pt x="18925" y="13352"/>
                  <a:pt x="18885" y="13446"/>
                  <a:pt x="18802" y="13543"/>
                </a:cubicBezTo>
                <a:cubicBezTo>
                  <a:pt x="18697" y="13667"/>
                  <a:pt x="18662" y="13743"/>
                  <a:pt x="18604" y="13891"/>
                </a:cubicBezTo>
                <a:cubicBezTo>
                  <a:pt x="18573" y="13970"/>
                  <a:pt x="18561" y="13985"/>
                  <a:pt x="18579" y="14064"/>
                </a:cubicBezTo>
              </a:path>
              <a:path w="6624" h="2606">
                <a:moveTo>
                  <a:pt x="21183" y="14610"/>
                </a:moveTo>
                <a:cubicBezTo>
                  <a:pt x="21050" y="14722"/>
                  <a:pt x="20888" y="14809"/>
                  <a:pt x="20762" y="14932"/>
                </a:cubicBezTo>
                <a:cubicBezTo>
                  <a:pt x="20671" y="15021"/>
                  <a:pt x="20584" y="15122"/>
                  <a:pt x="20489" y="15205"/>
                </a:cubicBezTo>
                <a:cubicBezTo>
                  <a:pt x="20438" y="15249"/>
                  <a:pt x="20388" y="15281"/>
                  <a:pt x="20340" y="15329"/>
                </a:cubicBezTo>
                <a:cubicBezTo>
                  <a:pt x="20302" y="15367"/>
                  <a:pt x="20309" y="15365"/>
                  <a:pt x="20389" y="15304"/>
                </a:cubicBezTo>
              </a:path>
              <a:path w="6624" h="2606">
                <a:moveTo>
                  <a:pt x="22126" y="13444"/>
                </a:moveTo>
                <a:cubicBezTo>
                  <a:pt x="21991" y="13570"/>
                  <a:pt x="21841" y="13673"/>
                  <a:pt x="21704" y="13791"/>
                </a:cubicBezTo>
                <a:cubicBezTo>
                  <a:pt x="21540" y="13932"/>
                  <a:pt x="21419" y="14102"/>
                  <a:pt x="21282" y="14263"/>
                </a:cubicBezTo>
                <a:cubicBezTo>
                  <a:pt x="21154" y="14391"/>
                  <a:pt x="21094" y="14455"/>
                  <a:pt x="21010" y="14560"/>
                </a:cubicBezTo>
              </a:path>
              <a:path w="6624" h="2606">
                <a:moveTo>
                  <a:pt x="15577" y="14238"/>
                </a:moveTo>
                <a:cubicBezTo>
                  <a:pt x="15818" y="14267"/>
                  <a:pt x="16054" y="14263"/>
                  <a:pt x="16297" y="14263"/>
                </a:cubicBezTo>
                <a:cubicBezTo>
                  <a:pt x="16540" y="14263"/>
                  <a:pt x="16776" y="14256"/>
                  <a:pt x="17016" y="14263"/>
                </a:cubicBezTo>
                <a:cubicBezTo>
                  <a:pt x="17602" y="14280"/>
                  <a:pt x="18198" y="14233"/>
                  <a:pt x="18777" y="14288"/>
                </a:cubicBezTo>
                <a:cubicBezTo>
                  <a:pt x="18827" y="14288"/>
                  <a:pt x="18843" y="14288"/>
                  <a:pt x="18876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Ink 10"/>
          <p:cNvSpPr/>
          <p:nvPr/>
        </p:nvSpPr>
        <p:spPr>
          <a:xfrm>
            <a:off x="5938920" y="5249880"/>
            <a:ext cx="2411280" cy="957240"/>
          </a:xfrm>
          <a:custGeom>
            <a:avLst/>
            <a:gdLst/>
            <a:ahLst/>
            <a:rect l="l" t="t" r="r" b="b"/>
            <a:pathLst>
              <a:path w="6698" h="2655">
                <a:moveTo>
                  <a:pt x="16495" y="15032"/>
                </a:moveTo>
                <a:cubicBezTo>
                  <a:pt x="16518" y="15054"/>
                  <a:pt x="16523" y="15062"/>
                  <a:pt x="16545" y="15056"/>
                </a:cubicBezTo>
              </a:path>
              <a:path w="6698" h="2655">
                <a:moveTo>
                  <a:pt x="16942" y="14635"/>
                </a:moveTo>
                <a:cubicBezTo>
                  <a:pt x="17056" y="14620"/>
                  <a:pt x="17131" y="14610"/>
                  <a:pt x="17239" y="14610"/>
                </a:cubicBezTo>
              </a:path>
              <a:path w="6698" h="2655">
                <a:moveTo>
                  <a:pt x="16892" y="14610"/>
                </a:moveTo>
                <a:cubicBezTo>
                  <a:pt x="16902" y="14744"/>
                  <a:pt x="16922" y="14790"/>
                  <a:pt x="17016" y="14883"/>
                </a:cubicBezTo>
                <a:cubicBezTo>
                  <a:pt x="17076" y="14942"/>
                  <a:pt x="17124" y="15021"/>
                  <a:pt x="17140" y="15106"/>
                </a:cubicBezTo>
                <a:cubicBezTo>
                  <a:pt x="17160" y="15211"/>
                  <a:pt x="17102" y="15260"/>
                  <a:pt x="17016" y="15280"/>
                </a:cubicBezTo>
                <a:cubicBezTo>
                  <a:pt x="16981" y="15288"/>
                  <a:pt x="16899" y="15247"/>
                  <a:pt x="16892" y="15205"/>
                </a:cubicBezTo>
                <a:cubicBezTo>
                  <a:pt x="16892" y="15122"/>
                  <a:pt x="16892" y="15106"/>
                  <a:pt x="16892" y="15056"/>
                </a:cubicBezTo>
              </a:path>
              <a:path w="6698" h="2655">
                <a:moveTo>
                  <a:pt x="17388" y="14635"/>
                </a:moveTo>
                <a:cubicBezTo>
                  <a:pt x="17503" y="14635"/>
                  <a:pt x="17613" y="14640"/>
                  <a:pt x="17711" y="14660"/>
                </a:cubicBezTo>
                <a:cubicBezTo>
                  <a:pt x="17764" y="14671"/>
                  <a:pt x="17829" y="14679"/>
                  <a:pt x="17810" y="14759"/>
                </a:cubicBezTo>
                <a:cubicBezTo>
                  <a:pt x="17791" y="14840"/>
                  <a:pt x="17737" y="14954"/>
                  <a:pt x="17711" y="15032"/>
                </a:cubicBezTo>
                <a:cubicBezTo>
                  <a:pt x="17686" y="15108"/>
                  <a:pt x="17686" y="15173"/>
                  <a:pt x="17686" y="15255"/>
                </a:cubicBezTo>
                <a:cubicBezTo>
                  <a:pt x="17686" y="15299"/>
                  <a:pt x="17683" y="15313"/>
                  <a:pt x="17711" y="15329"/>
                </a:cubicBezTo>
              </a:path>
              <a:path w="6698" h="2655">
                <a:moveTo>
                  <a:pt x="17909" y="14635"/>
                </a:moveTo>
                <a:cubicBezTo>
                  <a:pt x="18065" y="14599"/>
                  <a:pt x="18196" y="14557"/>
                  <a:pt x="18306" y="14709"/>
                </a:cubicBezTo>
                <a:cubicBezTo>
                  <a:pt x="18343" y="14760"/>
                  <a:pt x="18342" y="14873"/>
                  <a:pt x="18331" y="14932"/>
                </a:cubicBezTo>
                <a:cubicBezTo>
                  <a:pt x="18316" y="15010"/>
                  <a:pt x="18277" y="15127"/>
                  <a:pt x="18281" y="15205"/>
                </a:cubicBezTo>
                <a:cubicBezTo>
                  <a:pt x="18286" y="15297"/>
                  <a:pt x="18305" y="15340"/>
                  <a:pt x="18355" y="15404"/>
                </a:cubicBezTo>
              </a:path>
              <a:path w="6698" h="2655">
                <a:moveTo>
                  <a:pt x="21431" y="15528"/>
                </a:moveTo>
                <a:cubicBezTo>
                  <a:pt x="21456" y="15553"/>
                  <a:pt x="21464" y="15561"/>
                  <a:pt x="21481" y="15577"/>
                </a:cubicBezTo>
              </a:path>
              <a:path w="6698" h="2655">
                <a:moveTo>
                  <a:pt x="21729" y="15056"/>
                </a:moveTo>
                <a:cubicBezTo>
                  <a:pt x="21827" y="15030"/>
                  <a:pt x="21858" y="15049"/>
                  <a:pt x="21952" y="15056"/>
                </a:cubicBezTo>
                <a:cubicBezTo>
                  <a:pt x="21960" y="15056"/>
                  <a:pt x="21969" y="15056"/>
                  <a:pt x="21977" y="15056"/>
                </a:cubicBezTo>
              </a:path>
              <a:path w="6698" h="2655">
                <a:moveTo>
                  <a:pt x="21754" y="15056"/>
                </a:moveTo>
                <a:cubicBezTo>
                  <a:pt x="21754" y="15217"/>
                  <a:pt x="21728" y="15306"/>
                  <a:pt x="21828" y="15429"/>
                </a:cubicBezTo>
                <a:cubicBezTo>
                  <a:pt x="21864" y="15474"/>
                  <a:pt x="21985" y="15607"/>
                  <a:pt x="21927" y="15677"/>
                </a:cubicBezTo>
                <a:cubicBezTo>
                  <a:pt x="21871" y="15745"/>
                  <a:pt x="21774" y="15696"/>
                  <a:pt x="21729" y="15652"/>
                </a:cubicBezTo>
                <a:cubicBezTo>
                  <a:pt x="21677" y="15600"/>
                  <a:pt x="21715" y="15545"/>
                  <a:pt x="21729" y="15478"/>
                </a:cubicBezTo>
              </a:path>
              <a:path w="6698" h="2655">
                <a:moveTo>
                  <a:pt x="22126" y="15106"/>
                </a:moveTo>
                <a:cubicBezTo>
                  <a:pt x="22224" y="15106"/>
                  <a:pt x="22306" y="15098"/>
                  <a:pt x="22399" y="15131"/>
                </a:cubicBezTo>
                <a:cubicBezTo>
                  <a:pt x="22428" y="15141"/>
                  <a:pt x="22628" y="15201"/>
                  <a:pt x="22647" y="15255"/>
                </a:cubicBezTo>
                <a:cubicBezTo>
                  <a:pt x="22684" y="15357"/>
                  <a:pt x="22571" y="15430"/>
                  <a:pt x="22523" y="15503"/>
                </a:cubicBezTo>
                <a:cubicBezTo>
                  <a:pt x="22499" y="15539"/>
                  <a:pt x="22456" y="15684"/>
                  <a:pt x="22473" y="15726"/>
                </a:cubicBezTo>
                <a:cubicBezTo>
                  <a:pt x="22481" y="15726"/>
                  <a:pt x="22490" y="15726"/>
                  <a:pt x="22498" y="15726"/>
                </a:cubicBezTo>
              </a:path>
              <a:path w="6698" h="2655">
                <a:moveTo>
                  <a:pt x="22746" y="15205"/>
                </a:moveTo>
                <a:cubicBezTo>
                  <a:pt x="22939" y="15205"/>
                  <a:pt x="23068" y="15220"/>
                  <a:pt x="23168" y="15404"/>
                </a:cubicBezTo>
                <a:cubicBezTo>
                  <a:pt x="23228" y="15514"/>
                  <a:pt x="23176" y="15602"/>
                  <a:pt x="23143" y="15701"/>
                </a:cubicBezTo>
                <a:cubicBezTo>
                  <a:pt x="23095" y="15845"/>
                  <a:pt x="23075" y="15960"/>
                  <a:pt x="22969" y="16073"/>
                </a:cubicBezTo>
                <a:cubicBezTo>
                  <a:pt x="22923" y="16120"/>
                  <a:pt x="22909" y="16132"/>
                  <a:pt x="22895" y="16173"/>
                </a:cubicBezTo>
              </a:path>
              <a:path w="6698" h="2655">
                <a:moveTo>
                  <a:pt x="18554" y="15726"/>
                </a:moveTo>
                <a:cubicBezTo>
                  <a:pt x="18706" y="16075"/>
                  <a:pt x="18824" y="16227"/>
                  <a:pt x="19025" y="16520"/>
                </a:cubicBezTo>
                <a:cubicBezTo>
                  <a:pt x="19088" y="16613"/>
                  <a:pt x="19143" y="16687"/>
                  <a:pt x="19224" y="16768"/>
                </a:cubicBezTo>
              </a:path>
              <a:path w="6698" h="2655">
                <a:moveTo>
                  <a:pt x="19075" y="15701"/>
                </a:moveTo>
                <a:cubicBezTo>
                  <a:pt x="18890" y="15874"/>
                  <a:pt x="18780" y="15988"/>
                  <a:pt x="18653" y="16197"/>
                </a:cubicBezTo>
                <a:cubicBezTo>
                  <a:pt x="18599" y="16286"/>
                  <a:pt x="18551" y="16377"/>
                  <a:pt x="18504" y="16470"/>
                </a:cubicBezTo>
              </a:path>
              <a:path w="6698" h="2655">
                <a:moveTo>
                  <a:pt x="19075" y="16024"/>
                </a:moveTo>
                <a:cubicBezTo>
                  <a:pt x="19211" y="16030"/>
                  <a:pt x="19314" y="16046"/>
                  <a:pt x="19447" y="16073"/>
                </a:cubicBezTo>
              </a:path>
              <a:path w="6698" h="2655">
                <a:moveTo>
                  <a:pt x="19174" y="16247"/>
                </a:moveTo>
                <a:cubicBezTo>
                  <a:pt x="19282" y="16287"/>
                  <a:pt x="19355" y="16297"/>
                  <a:pt x="19472" y="16297"/>
                </a:cubicBezTo>
              </a:path>
              <a:path w="6698" h="2655">
                <a:moveTo>
                  <a:pt x="19869" y="15900"/>
                </a:moveTo>
                <a:cubicBezTo>
                  <a:pt x="19841" y="16055"/>
                  <a:pt x="19819" y="16189"/>
                  <a:pt x="19819" y="16346"/>
                </a:cubicBezTo>
                <a:cubicBezTo>
                  <a:pt x="19819" y="16424"/>
                  <a:pt x="19819" y="16671"/>
                  <a:pt x="19819" y="16669"/>
                </a:cubicBezTo>
              </a:path>
              <a:path w="6698" h="2655">
                <a:moveTo>
                  <a:pt x="20191" y="15949"/>
                </a:moveTo>
                <a:cubicBezTo>
                  <a:pt x="20153" y="16064"/>
                  <a:pt x="20075" y="16137"/>
                  <a:pt x="20042" y="16247"/>
                </a:cubicBezTo>
                <a:cubicBezTo>
                  <a:pt x="20003" y="16378"/>
                  <a:pt x="20013" y="16494"/>
                  <a:pt x="20067" y="16619"/>
                </a:cubicBezTo>
                <a:cubicBezTo>
                  <a:pt x="20095" y="16685"/>
                  <a:pt x="20187" y="16892"/>
                  <a:pt x="20265" y="16917"/>
                </a:cubicBezTo>
                <a:cubicBezTo>
                  <a:pt x="20373" y="16952"/>
                  <a:pt x="20440" y="16847"/>
                  <a:pt x="20489" y="16768"/>
                </a:cubicBezTo>
                <a:cubicBezTo>
                  <a:pt x="20567" y="16643"/>
                  <a:pt x="20563" y="16538"/>
                  <a:pt x="20563" y="16396"/>
                </a:cubicBezTo>
                <a:cubicBezTo>
                  <a:pt x="20563" y="16276"/>
                  <a:pt x="20497" y="16117"/>
                  <a:pt x="20414" y="16024"/>
                </a:cubicBezTo>
                <a:cubicBezTo>
                  <a:pt x="20374" y="15979"/>
                  <a:pt x="20294" y="15980"/>
                  <a:pt x="20241" y="15974"/>
                </a:cubicBezTo>
              </a:path>
              <a:path w="6698" h="2655">
                <a:moveTo>
                  <a:pt x="20737" y="16966"/>
                </a:moveTo>
                <a:cubicBezTo>
                  <a:pt x="20723" y="17031"/>
                  <a:pt x="20722" y="17092"/>
                  <a:pt x="20687" y="17115"/>
                </a:cubicBezTo>
              </a:path>
              <a:path w="6698" h="2655">
                <a:moveTo>
                  <a:pt x="21109" y="16148"/>
                </a:moveTo>
                <a:cubicBezTo>
                  <a:pt x="21102" y="16229"/>
                  <a:pt x="21032" y="16319"/>
                  <a:pt x="21034" y="16396"/>
                </a:cubicBezTo>
                <a:cubicBezTo>
                  <a:pt x="21038" y="16537"/>
                  <a:pt x="21103" y="16564"/>
                  <a:pt x="21158" y="16669"/>
                </a:cubicBezTo>
                <a:cubicBezTo>
                  <a:pt x="21211" y="16771"/>
                  <a:pt x="21239" y="16793"/>
                  <a:pt x="21357" y="16743"/>
                </a:cubicBezTo>
                <a:cubicBezTo>
                  <a:pt x="21416" y="16713"/>
                  <a:pt x="21439" y="16695"/>
                  <a:pt x="21456" y="16644"/>
                </a:cubicBezTo>
              </a:path>
              <a:path w="6698" h="2655">
                <a:moveTo>
                  <a:pt x="21406" y="16197"/>
                </a:moveTo>
                <a:cubicBezTo>
                  <a:pt x="21373" y="16465"/>
                  <a:pt x="21357" y="16700"/>
                  <a:pt x="21357" y="16966"/>
                </a:cubicBezTo>
                <a:cubicBezTo>
                  <a:pt x="21357" y="17058"/>
                  <a:pt x="21337" y="17164"/>
                  <a:pt x="21382" y="17239"/>
                </a:cubicBezTo>
              </a:path>
              <a:path w="6698" h="2655">
                <a:moveTo>
                  <a:pt x="21952" y="16098"/>
                </a:moveTo>
                <a:cubicBezTo>
                  <a:pt x="21961" y="16240"/>
                  <a:pt x="21977" y="16375"/>
                  <a:pt x="21977" y="16520"/>
                </a:cubicBezTo>
                <a:cubicBezTo>
                  <a:pt x="21977" y="16561"/>
                  <a:pt x="21977" y="16603"/>
                  <a:pt x="21977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e9ddcd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e9ddcd"/>
                </a:solidFill>
                <a:latin typeface="Arial"/>
              </a:rPr>
              <a:t>Pages 311-312</a:t>
            </a:r>
            <a:br>
              <a:rPr sz="6500"/>
            </a:br>
            <a:r>
              <a:rPr b="0" lang="en-US" sz="6500" spc="-1" strike="noStrike">
                <a:solidFill>
                  <a:srgbClr val="e9ddcd"/>
                </a:solidFill>
                <a:latin typeface="Arial"/>
              </a:rPr>
              <a:t>#47-51, 57-61 &amp; 65</a:t>
            </a:r>
            <a:endParaRPr b="0" lang="en-US" sz="65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33:08Z</dcterms:created>
  <dc:creator>jnewman</dc:creator>
  <dc:description/>
  <dc:language>en-US</dc:language>
  <cp:lastModifiedBy>abeason</cp:lastModifiedBy>
  <dcterms:modified xsi:type="dcterms:W3CDTF">2009-09-28T14:37:33Z</dcterms:modified>
  <cp:revision>12</cp:revision>
  <dc:subject/>
  <dc:title>Lesson 4.3 part three</dc:title>
</cp:coreProperties>
</file>